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5EF-1E0A-4C44-8F8D-1E51EC8C15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190-07B8-4354-87DF-5D5055331B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5C0-95CE-4CFF-BEB4-5BFAA5AB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0C2-80C9-427B-9B33-60BC452B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9DB-F317-4163-83E7-935DC9C3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A09-F6C4-4408-920C-ABFFB0AD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EA2-3E7A-4DB3-99CA-C384CD45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763-49B8-47B9-A22F-D124BDA7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690-2D0C-4400-86C9-37149C37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966-F765-4222-B887-7AA8212B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18B-CC05-48B0-AD0C-7854952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A2D-9EDC-4AE7-8785-9E49F1B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EED-063D-49FA-B1C4-959A7CC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5CE-BDFA-42BB-8D19-169CB9A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9D13-080B-4F24-B1CF-2AFFA7FDAD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7" Type="http://schemas.openxmlformats.org/officeDocument/2006/relationships/image" Target="../media/image6.gif"/><Relationship Id="rId8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12&amp;ext=.gif&amp;picall=37" TargetMode="External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images.asp/?url=http://py.sucaiw.com/&#21160;&#30011;&#31867;/&#19968;&#33324;&#21160;&#30011;/30X30&#23567;&#28857;//&amp;pic=gif&amp;num=030&amp;ext=.gif&amp;picall=37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yurib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147680" y="2641680"/>
            <a:ext cx="705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华文新魏"/>
                <a:ea typeface="华文新魏"/>
              </a:rPr>
              <a:t>送给盲婆婆的蝈蝈</a:t>
            </a:r>
            <a:r>
              <a:rPr b="0" lang="zh-CN" sz="1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810800" y="530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693240" y="380880"/>
            <a:ext cx="3533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婆婆，婆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这是一只会唱歌的蝈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在我上学的时候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就让它替我给您唱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婆婆，婆婆，</a:t>
            </a: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这是一只会唱歌的蝈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您听，它唱的多好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咯咯，咯咯，咯咯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5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00200" y="457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点击放大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3880" y="3809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066680" y="533520"/>
            <a:ext cx="7772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根据课文内容填空。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）、（   ）地提回了一只（   ）的蝈蝈，      （  ）滋滋地送给了（   ）家的（  ）婆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）、歌声会领您走进（   ），（    ）小溪流淌的（   ）。歌声会把您带回（   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想起往日（    ）的（    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）、婆婆，婆婆，这是一只会（   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蝈蝈，在我（    ）的时候，就让它（      ）我给您（    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5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4300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152440" y="533520"/>
            <a:ext cx="459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  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组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你（      ）  邻（      ）</a:t>
            </a:r>
            <a:br>
              <a:rPr sz="4800"/>
            </a:b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您（      ）  领（      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野（      ）  尾（      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里（      ）  居（      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5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22860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808520" y="49680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把词语组成句子写下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296720" y="1600200"/>
            <a:ext cx="73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婆婆  一只  我  绿色  送给  蝈蝈  的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</a:rPr>
              <a:t>                                                             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 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295280" y="3124080"/>
            <a:ext cx="76359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想起  让  欢乐  婆婆   了 歌声 童年  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</a:rPr>
              <a:t>                                                              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Comic Sans MS"/>
              </a:rPr>
              <a:t>  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7" descr="点击放大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47920" y="533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yuri03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yuriln"/>
          <p:cNvPicPr/>
          <p:nvPr/>
        </p:nvPicPr>
        <p:blipFill>
          <a:blip r:embed="rId2"/>
          <a:stretch/>
        </p:blipFill>
        <p:spPr>
          <a:xfrm>
            <a:off x="1066680" y="457200"/>
            <a:ext cx="5486400" cy="1139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yuri03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yuri03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yuri03"/>
          <p:cNvPicPr/>
          <p:nvPr/>
        </p:nvPicPr>
        <p:blipFill>
          <a:blip r:embed="rId5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yuri03"/>
          <p:cNvPicPr/>
          <p:nvPr/>
        </p:nvPicPr>
        <p:blipFill>
          <a:blip r:embed="rId6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447920" y="1600200"/>
            <a:ext cx="70866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盲     呵   滋    淌   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婆  绿  邻  居  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您  领  童  难  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2167200" y="380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还记得我们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4" descr="yuriln"/>
          <p:cNvPicPr/>
          <p:nvPr/>
        </p:nvPicPr>
        <p:blipFill>
          <a:blip r:embed="rId6"/>
          <a:stretch/>
        </p:blipFill>
        <p:spPr>
          <a:xfrm>
            <a:off x="1163520" y="846000"/>
            <a:ext cx="4621320" cy="12924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2715480" y="685800"/>
            <a:ext cx="453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你会读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绿色   唱歌   邻居   田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童年   往日   难忘   欢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-39600" y="5638680"/>
            <a:ext cx="70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Object 13" descr=""/>
          <p:cNvPicPr/>
          <p:nvPr/>
        </p:nvPicPr>
        <p:blipFill>
          <a:blip r:embed="rId6"/>
          <a:stretch/>
        </p:blipFill>
        <p:spPr>
          <a:xfrm>
            <a:off x="1371600" y="1676520"/>
            <a:ext cx="70866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4"/>
          <p:cNvSpPr/>
          <p:nvPr/>
        </p:nvSpPr>
        <p:spPr>
          <a:xfrm>
            <a:off x="2984400" y="609480"/>
            <a:ext cx="5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按笔顺描红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187280" y="692280"/>
            <a:ext cx="7561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婆  婆婆 外婆 老婆   绿 绿色 绿叶 绿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邻 邻里 近邻 邻国    居 居住 邻居 居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替 代替 替代  替换   您  您好 喊您  欢迎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领  领子 衣领  领 军 童  童年 儿童 女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 难事 难忘  难 看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F021-6367-445E-AC71-27674D40EA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23880" y="696960"/>
            <a:ext cx="632484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ɡ  hē  zī  tǎnɡ  ɡ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盲  呵  滋  淌  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lǜ  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   jū   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婆 绿 邻 居 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 lǐnɡ 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ɡ  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您 领 童 难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5" descr="pic699"/>
          <p:cNvPicPr/>
          <p:nvPr/>
        </p:nvPicPr>
        <p:blipFill>
          <a:blip r:embed="rId6"/>
          <a:stretch/>
        </p:blipFill>
        <p:spPr>
          <a:xfrm>
            <a:off x="7543800" y="5715000"/>
            <a:ext cx="12952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yuri03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yuri03"/>
          <p:cNvPicPr/>
          <p:nvPr/>
        </p:nvPicPr>
        <p:blipFill>
          <a:blip r:embed="rId3"/>
          <a:stretch/>
        </p:blipFill>
        <p:spPr>
          <a:xfrm>
            <a:off x="0" y="39625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yuri03"/>
          <p:cNvPicPr/>
          <p:nvPr/>
        </p:nvPicPr>
        <p:blipFill>
          <a:blip r:embed="rId4"/>
          <a:stretch/>
        </p:blipFill>
        <p:spPr>
          <a:xfrm>
            <a:off x="0" y="299736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4000" y="836280"/>
            <a:ext cx="8459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00"/>
                </a:solidFill>
                <a:latin typeface="Times New Roman"/>
              </a:rPr>
              <a:t>绿色  唱歌  邻居   田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00"/>
                </a:solidFill>
                <a:latin typeface="Times New Roman"/>
              </a:rPr>
              <a:t>童年  往日  难忘   欢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yuri03"/>
          <p:cNvPicPr/>
          <p:nvPr/>
        </p:nvPicPr>
        <p:blipFill>
          <a:blip r:embed="rId6"/>
          <a:stretch/>
        </p:blipFill>
        <p:spPr>
          <a:xfrm>
            <a:off x="0" y="4508640"/>
            <a:ext cx="9144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285000" y="1523880"/>
            <a:ext cx="30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乐呵呵地捉回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一只绿色的蝈蝈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喜滋滋地送给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邻居家的盲婆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8"/>
          <p:cNvSpPr/>
          <p:nvPr/>
        </p:nvSpPr>
        <p:spPr>
          <a:xfrm>
            <a:off x="3492360" y="3726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bject 14" descr=""/>
          <p:cNvPicPr/>
          <p:nvPr/>
        </p:nvPicPr>
        <p:blipFill>
          <a:blip r:embed="rId6"/>
          <a:stretch/>
        </p:blipFill>
        <p:spPr>
          <a:xfrm>
            <a:off x="1752480" y="3352680"/>
            <a:ext cx="6324840" cy="3291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3382200" y="228600"/>
            <a:ext cx="274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乐呵呵地提回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一只绿色的蝈蝈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喜滋滋地送给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邻居家的盲婆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401840" y="1600200"/>
            <a:ext cx="736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婆婆，婆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这是一只会唱歌的蝈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在我上学的时候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就让它替我给您唱歌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913120" y="1676520"/>
            <a:ext cx="429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领您走进田野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到小溪流淌的清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把您带回童年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想起往日难忘的欢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94000" y="228600"/>
            <a:ext cx="383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领您走进田野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到小溪流淌的清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歌声会把您带回童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想起往日难忘的欢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6"/>
          <a:stretch/>
        </p:blipFill>
        <p:spPr>
          <a:xfrm>
            <a:off x="1295280" y="3276720"/>
            <a:ext cx="75438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yuri03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yuri03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yuri03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yuri03"/>
          <p:cNvPicPr/>
          <p:nvPr/>
        </p:nvPicPr>
        <p:blipFill>
          <a:blip r:embed="rId4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yuri03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3075120" y="2481120"/>
            <a:ext cx="29937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01520" y="26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67160" y="3011400"/>
            <a:ext cx="4011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-15840" y="314784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415880" y="1523880"/>
            <a:ext cx="772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婆婆，婆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这是一只会唱歌的蝈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您听，它唱的多好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咯咯，咯咯，咯咯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06:07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4:16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