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1D72-ECA9-495D-9E8C-25BA0239BE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F37B-E2B1-4FEC-B424-8FB71AE3BD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466-D506-4B07-9A5E-DFBC0DDC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843-F0F4-4401-8365-29A721AE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78C8-64D0-4248-B7CA-DBA81A98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AC3-2795-41CD-9D8B-5818F307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4DFB-AF56-43FD-8BAC-422BCFCB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5AB6-DDF3-48B7-9894-240F2344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37C7-7F82-44F9-B88E-C86DE128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9AD-3712-4279-8C84-FDF4C108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7F2-A474-4BD9-9075-16AFB4AC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01C-B905-40CB-B2C2-484E59D9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209B-5131-487B-895E-1B11D91A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E894-1C11-405D-871D-5402182B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5634-38C0-451E-8AF9-6E1372232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80880" y="1066680"/>
            <a:ext cx="66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给祖国妈妈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悄悄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94760" y="52578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04920" y="2925720"/>
            <a:ext cx="2438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说给祖国妈妈的悄悄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2590920" y="1143000"/>
            <a:ext cx="304560" cy="4572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567240" y="83808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称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祖国妈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643200" y="315432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年龄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越活越年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583080" y="541008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画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长得像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1447920" y="1676520"/>
            <a:ext cx="4724280" cy="2057400"/>
          </a:xfrm>
          <a:prstGeom prst="wedgeRoundRectCallout">
            <a:avLst>
              <a:gd name="adj1" fmla="val -47143"/>
              <a:gd name="adj2" fmla="val 7662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对于祖国妈妈，你有哪些悄悄话要说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"/>
          <p:cNvSpPr/>
          <p:nvPr/>
        </p:nvSpPr>
        <p:spPr>
          <a:xfrm>
            <a:off x="450720" y="5681520"/>
            <a:ext cx="52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936080" y="17524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亲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326280" y="17305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年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936080" y="25146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遗著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6326280" y="24922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沐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997280" y="32544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身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6326280" y="32544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模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902760" y="41148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德高望重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09680" y="304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6e5895ee42ca300c2cf53463"/>
          <p:cNvPicPr/>
          <p:nvPr/>
        </p:nvPicPr>
        <p:blipFill>
          <a:blip r:embed="rId1"/>
          <a:stretch/>
        </p:blipFill>
        <p:spPr>
          <a:xfrm>
            <a:off x="1219320" y="1295280"/>
            <a:ext cx="2916000" cy="3962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4267080" y="1295280"/>
            <a:ext cx="4191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方志敏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899—1935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中国无产阶级革命家、军事家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924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年加入中国共产党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934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年被捕，在狱中坚贞不屈，次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日在南昌英勇就义。遗著有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可爱的中国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狱中记实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等。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3750120" y="2604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7E02-60D1-4D91-8543-6F0798D6E05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066040" y="637200"/>
            <a:ext cx="3519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称  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天生活在您温暖的怀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真想亲昵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地叫您一声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爸爸也这样称呼您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叫您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母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对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爷爷写的文章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叫您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亲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呀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！我懂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是大人和孩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同的妈妈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哈！我就是您最年幼的儿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份光荣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爷爷、爸爸也羡慕咱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137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识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494000" y="395640"/>
            <a:ext cx="4638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  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历史老师说，您的年龄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lín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最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一位德高望重的老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老师说，您非常年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焕发出火红的青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方志敏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ǐn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伯伯的遗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yí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著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见到您苍老、忧愁的皱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今天的山山水水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却看见了您青春的笑容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！妈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当然和普通人不一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要沐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ù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浴着阳光、雨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会越活越年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881360" y="230760"/>
            <a:ext cx="33811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画  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早就想给您画张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又怕画出来人家笑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您的身躯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qū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面庞到底怎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该找个什么样的模特描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听人说，儿女长得最像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，我想到了好多好多的英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是骨子里最像您的中国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正决定照他们的模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您的形象描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然，又想起了自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长得是不是也像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！我应该先描张自画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天，双手捧到您的面前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！这像您的孩子吗？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6"/>
          <p:cNvSpPr/>
          <p:nvPr/>
        </p:nvSpPr>
        <p:spPr>
          <a:xfrm>
            <a:off x="2438280" y="60958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532520" y="332280"/>
            <a:ext cx="3519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称  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天生活在您温暖的怀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真想亲昵地叫您一声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爸爸也这样称呼您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叫您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母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对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爷爷写的文章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叫您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亲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呀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！我懂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是大人和孩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同的妈妈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哈！我就是您最年幼的儿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份光荣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爷爷、爸爸也羡慕咱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533520" y="5105520"/>
            <a:ext cx="213336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2925720"/>
            <a:ext cx="2438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说给祖国妈妈的悄悄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2575080" y="1143000"/>
            <a:ext cx="304560" cy="4572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567240" y="83808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称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祖国妈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852840" y="367560"/>
            <a:ext cx="432000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  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历史老师说，您的年龄最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一位德高望重的老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老师说，您非常年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焕发出火红的青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方志敏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伯伯的遗著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见到您苍老、忧愁的皱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今天的山山水水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却看见了您青春的笑容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！妈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当然和普通人不一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要沐浴着阳光、雨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会越活越年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1752480" y="2133720"/>
            <a:ext cx="266724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1066680" y="3048120"/>
            <a:ext cx="289584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04920" y="2925720"/>
            <a:ext cx="2438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说给祖国妈妈的悄悄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2590920" y="1143000"/>
            <a:ext cx="304560" cy="4572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567240" y="83808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称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祖国妈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643200" y="315432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年龄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越活越年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525680" y="230760"/>
            <a:ext cx="33811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画  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早就想给您画张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又怕画出来人家笑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您的身躯、面庞到底怎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该找个什么样的模特描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听人说，儿女长得最像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，我想到了好多好多的英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是骨子里最像您的中国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正决定照他们的模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您的形象描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然，又想起了自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长得是不是也像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！我应该先描张自画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天，双手捧到您的面前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！这像您的孩子吗？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5:33:1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9:18Z</dcterms:modified>
  <cp:revision>6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