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18CC-6B50-491E-AC51-D22AAC0FEF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6B3-ADB1-43C7-B1C7-50E1F2A12C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55C4D0-0ECE-486F-8111-0F83E3B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C14566-16F3-4099-9F23-357DA8C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FFD32-4EAA-46E9-AFA5-A848C34F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56F8C-DC46-4A80-BDA2-562BF4B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F6514-31C4-457A-B7F3-3F3EB15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F538FA-E77F-4296-AC44-0704605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1E2F4-730B-4AEB-BF27-F22CFF94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A9B6B-9787-4EC7-B31E-FF25C9CE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516F4-8C07-4A13-8559-D89C6E0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5E6CC-8A66-464D-8EFC-3A315DFC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2CC438-D7E7-422D-8B8A-C445C69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9C352-3518-4504-8052-921569C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856ABC-D990-4E69-ADDE-5293056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73C50-727E-4B21-A38B-DCC1DAC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3F6C6F-91C8-4214-875A-112F06B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234AF-F9D0-45A7-ACE5-94724568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57915-2C37-4A9C-82CB-49AF42A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4D80C-6F43-420D-B535-5F9683A8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BC255-918D-4651-8D4A-FBE6D74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2F201B-29A6-459E-8725-00D345D1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1872B-FE12-4C6C-967C-92B6291E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986884-469C-4B8B-B895-2D360472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CAEBF1-5454-40D9-B407-E2D635FC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0EAA6B-098F-48D7-B72F-AFCD1767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E51966-F4ED-484D-8EC8-9048DDE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88C2BE-C09C-4FD5-A33B-D295EFCC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9C561B-E6A4-4287-B3ED-91BD611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6FD35A-2B00-4CC2-B524-4A0AE20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5FFFE9-7046-4C1C-A3A0-79BE6C3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1FD30-57F2-43F7-B1B7-754675B9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FE1CE-5025-434B-9A60-E551C051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A1338D-3230-4712-976C-7CC5D9FE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0EF4C0-4571-41F0-A2BF-92379BCF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35E98C-D825-4DBF-8564-6CBABD40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036A5-5717-4052-A313-96E3ADA0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03DC76-F943-4558-930B-3FA64EAE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42D12C-DD5B-4764-BCD3-B500BFC9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B4C20-8F46-48C5-961B-5C8A2ED2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4109DD-7EE0-4446-9D50-9586EC9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5B2D5E-CFA8-4887-B242-C6F9F69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BA4F72-90A9-427E-AEF3-BFFCB55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15CAF-C150-4CEA-8D9C-F7E2B31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6A4F51-3BF5-4551-927F-5477030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AC0651-B963-405B-8236-926AB92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9C53D3-102D-490D-AD21-33F6F0D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066FB-AEB6-42CD-9B04-147E3EC8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C74690-9E1F-450B-9637-CC186FA5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1FCDB-64A7-48FE-BBDC-CD65BD9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15F68-2CB5-4735-B1CA-274F3F5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18748-CFC9-4364-87D0-73C1F21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ABE53-1FF7-48F9-A1A8-570A159D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9FF41-7E63-464A-8721-C2E2F8C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86677-D3C9-448A-BD45-7B6D038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14D5-20E7-4772-869D-E48D4940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B2BD-2258-40B3-8E04-C51DC75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0D2B3-ABF1-42A5-85D5-308E6C8A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106C5-F42B-4783-9C0C-BCFF1B83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89504-6D3F-4450-8144-7BDF3AE7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75EB2-5F18-472F-B566-0780608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06F37-84A6-49B7-8CAE-5C00307B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5F3E1-EE59-4106-A0D5-EE97C62B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D4474-17FF-4E6E-AC17-B1DF7496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F81EA-94FB-4DF0-A871-A19419B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DBD51-86E5-4E11-9251-3B61114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3E8EC-B6F9-4BAF-914B-F41B156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5131F-6256-4231-AD5C-7E3EBE2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0D493-FED1-4884-9E42-012D931A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F64E9-DEE9-4FB2-8EDC-E6010C1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CDFC0-9F8F-4509-91EF-0CDE6A66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F032B-7229-4C9F-9DD5-F21AAA7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A8A89-4A7F-4029-93DE-27E2B5B8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70C41-C0F9-4D2E-A3B0-CEE083C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B0705-6D2F-4A7B-A4FF-33C44286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CB7F6-42ED-46BC-9B2E-F971ED17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CF5D93-70A4-448E-BD03-D77AACC7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C5CAF-B291-4624-B511-B4DEF2B0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660CE-F799-41BE-8D35-EBFA000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55A15-8906-4A3B-8829-A980300A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4891B-F3EF-4B4B-A71A-76CF52D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E9A3F-338D-45D8-9B70-D8F5FDFC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1061D-E94D-4FB6-BB89-B56CB985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A70AA-7C41-4B85-BF40-2B823D00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54714-5C2B-44AC-A252-FAA1CA7A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9BAD2-9967-498A-BA8A-B3F99871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D50D5-0E54-4F16-A82B-65789D9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80FD4-447E-4B76-93D8-3D506744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B9EDF-C302-4D23-A7E3-5271B2F2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75FFC-8A13-4D1C-9C62-C9FC4F7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00AB3-A943-47B9-9AB0-BCC35A9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DF337-07DF-4285-992C-A37C0A5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E3243-B2AD-48D5-8F00-8392149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45045-CBC6-4F50-870A-CD7649F6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502A0-0295-4EA5-B96F-2FB7ED2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3EE8C-2346-4EE6-97BA-9B517EBA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F9D4F-D851-4CD0-B9B0-5D07B4D4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A90BD-C550-40E6-B4DC-FCE1D58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B2692-EF1D-470A-8F37-4796118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A2D70-BA3F-493F-99D0-4F6EE9E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5782D-A50C-49B1-83FE-0006557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BC6DA-A975-4183-824B-DD4714B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A4107-8B5D-4D7A-9F2C-E9260FA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88950-C536-4679-B8E9-611EF2F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7BA61-204F-432B-9A2F-ACE7214E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0E0EA-BA44-43C8-AC76-FA2244A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DB739-491C-423F-8B48-522E617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70F6E-74EC-4FE3-9999-62DCF3DF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E6026-D8F2-4890-8035-FC87551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920FF-1D8D-4D92-BEDE-21F49A57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9CBC8-AE5D-4F77-884D-A29C20AA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A3B85-8D1D-4C15-A5CA-F183CCA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3221E-B7CC-4A8F-A9B3-F058749B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32F3A-C6E5-4892-A0A8-74F3B77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8D58A-3E04-44F8-928C-30C5816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B8F42-448C-4459-A497-2952869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5B194-6E9D-434B-8371-59B290D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16075-6552-45F8-A383-E13E9C2A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163EE-9CF7-42FE-82A9-C8BC792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E43CA-83D2-4C3B-BB51-BB67426F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2B89C-15D1-4E21-83AC-AFDCBEB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9967A-1197-4994-9BE0-D438CF08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F1863-4EC3-4EF8-83D0-EF5D3391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4F75C-6949-4485-A9B6-238A2E83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364ED9-CE3B-4712-977C-7413402E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EDFBF-332D-4C52-A2B7-AC73ACE5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3440E-C26C-4EDF-A9EC-ECDB229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56D24-0859-4A05-83B0-2803AF6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2D568-B48D-4B52-8EA6-EC56F3E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37B5A2-C50A-49DA-8EE5-E4E7F7C2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1981E3-D038-4AA3-92FD-54C373C3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BAE10-6026-491C-81D0-F32BD7A9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7475B-D83D-4F27-A717-8612974C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F65B1-9D9D-4961-AF76-13879F43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376-86FA-4596-9BD3-F46EF954F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5A13-B26C-435D-870F-9B6B6C2A3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0B0C-63A8-470B-BD16-DCF15AF76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147-DD35-4971-82C8-1C8085BF7C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D27F-20B0-4F5C-A2CD-96DB7DCA2B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589-570B-487D-94F4-771F83BB1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1EC-A277-423D-83AA-E8C13F4906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E25-B151-459F-A608-F9706800B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988-FD8D-4501-8C3E-0846EA5B0A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6BF-6189-4604-B412-6168ECA76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6477120" y="6172200"/>
            <a:ext cx="266688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7D3-43FF-4558-9B35-A9C5BC8F8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61976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8c0039"/>
                </a:solidFill>
                <a:latin typeface="Arial"/>
                <a:ea typeface="隶书"/>
              </a:rPr>
              <a:t>赏花</a:t>
            </a:r>
            <a:endParaRPr b="0" lang="en-US" sz="1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511" name="矩形 4" descr=""/>
          <p:cNvPicPr/>
          <p:nvPr/>
        </p:nvPicPr>
        <p:blipFill>
          <a:blip r:embed="rId2"/>
          <a:stretch/>
        </p:blipFill>
        <p:spPr>
          <a:xfrm>
            <a:off x="2057400" y="5410080"/>
            <a:ext cx="549900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3499920" y="335160"/>
            <a:ext cx="44859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读课文，把下面的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（  ）蹒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（  ）名状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光（  ）（  ）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旷（  ）怡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高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喜气（  ）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2028960" y="59868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读下面的句子，并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涂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词语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怎样才能打破这种沉闷的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气氛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气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淡淡的花香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弥漫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了整个车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弥漫：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4005c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4D3-CF87-495A-9192-EAB6712A8D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梅花"/>
          <p:cNvPicPr/>
          <p:nvPr/>
        </p:nvPicPr>
        <p:blipFill>
          <a:blip r:embed="rId1"/>
          <a:stretch/>
        </p:blipFill>
        <p:spPr>
          <a:xfrm>
            <a:off x="2286000" y="933480"/>
            <a:ext cx="6858000" cy="51451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5"/>
          <p:cNvSpPr/>
          <p:nvPr/>
        </p:nvSpPr>
        <p:spPr>
          <a:xfrm>
            <a:off x="6400800" y="304920"/>
            <a:ext cx="20574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58b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梅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油菜花"/>
          <p:cNvPicPr/>
          <p:nvPr/>
        </p:nvPicPr>
        <p:blipFill>
          <a:blip r:embed="rId1"/>
          <a:stretch/>
        </p:blipFill>
        <p:spPr>
          <a:xfrm>
            <a:off x="2286000" y="6858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5"/>
          <p:cNvSpPr/>
          <p:nvPr/>
        </p:nvSpPr>
        <p:spPr>
          <a:xfrm>
            <a:off x="5638680" y="304920"/>
            <a:ext cx="243864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58b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油菜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"/>
          <p:cNvSpPr/>
          <p:nvPr/>
        </p:nvSpPr>
        <p:spPr>
          <a:xfrm>
            <a:off x="2438280" y="6095880"/>
            <a:ext cx="60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8"/>
          <p:cNvSpPr/>
          <p:nvPr/>
        </p:nvSpPr>
        <p:spPr>
          <a:xfrm>
            <a:off x="4114800" y="32209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紫罗兰"/>
          <p:cNvPicPr/>
          <p:nvPr/>
        </p:nvPicPr>
        <p:blipFill>
          <a:blip r:embed="rId1"/>
          <a:stretch/>
        </p:blipFill>
        <p:spPr>
          <a:xfrm>
            <a:off x="2184480" y="838080"/>
            <a:ext cx="6883200" cy="524844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5"/>
          <p:cNvSpPr/>
          <p:nvPr/>
        </p:nvSpPr>
        <p:spPr>
          <a:xfrm>
            <a:off x="5943600" y="380880"/>
            <a:ext cx="243828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58bf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紫罗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c0039"/>
                </a:solidFill>
                <a:latin typeface="Arial"/>
                <a:ea typeface="隶书"/>
              </a:rPr>
              <a:t>读读下列生字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步履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蹒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跚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车厢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掸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心旷神怡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弥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中宋"/>
              </a:rPr>
              <a:t>思考！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438280" y="1600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秀子发现了什么？她为什么吃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5027400" y="3397320"/>
            <a:ext cx="8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17d2"/>
                </a:solidFill>
                <a:latin typeface="Arial"/>
                <a:ea typeface="宋体"/>
              </a:rPr>
              <a:t>客车中清一色的全是盲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乘客们都坐好了，气氛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17d2"/>
                </a:solidFill>
                <a:latin typeface="Arial"/>
              </a:rPr>
              <a:t>充满了一种难以名状的沉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2514600" y="16765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秀子是怎样打破这种沉闷的气氛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17d2"/>
                </a:solidFill>
                <a:latin typeface="Arial"/>
              </a:rPr>
              <a:t>他决定为盲人们当一回特别向导，路过的地方都生动的给做介绍</a:t>
            </a:r>
            <a:r>
              <a:rPr b="0" lang="zh-CN" sz="3600" spc="-1" strike="noStrike">
                <a:solidFill>
                  <a:srgbClr val="1217d2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14600" y="914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  <a:ea typeface="幼圆"/>
              </a:rPr>
              <a:t>      </a:t>
            </a:r>
            <a:r>
              <a:rPr b="0" lang="zh-CN" sz="3600" spc="-1" strike="noStrike">
                <a:solidFill>
                  <a:srgbClr val="9966ff"/>
                </a:solidFill>
                <a:latin typeface="Arial"/>
                <a:ea typeface="幼圆"/>
              </a:rPr>
              <a:t>学习了这篇课文你有什么感受？我们应该怎么做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362320" y="26668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32952"/>
                </a:solidFill>
                <a:latin typeface="Arial"/>
                <a:ea typeface="华文新魏"/>
              </a:rPr>
              <a:t>我们要正确地看待残疾人，他们由于身体上的不健全，已经给他们带来了很多的不方便，我们不应该看不起残疾人，而是应该伸出我们的援助之手，让他们感觉到我们的世界是温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59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0:55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