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FD05-A0E0-4ABD-BBE5-108CA7515C7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C419-BCF0-4A19-AB91-1882A3E038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D313-F893-43EC-A6BE-8D3F849F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604-2230-4274-ACD3-19EE2D62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E47-0884-4485-9BCB-EA2352BB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2015-D003-4BCE-922B-CC6364F4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8EF-8F73-4500-8694-17D5B617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824-2457-4B95-92D0-E6DB88F3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81D-9FC3-401B-87A5-DADE1612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C08-39EE-4C66-992B-72A158FD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EE59-A653-47BA-B00F-FA847E50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B9F-3FE7-45C9-AA9D-3BC0E3C1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ECA-1FAE-4C93-80EB-4CEE0A4B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3FDD-5992-43DD-9589-88FF26C4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1B19-31F1-4145-803E-25081FE921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3_1272557487CTu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150920" y="836640"/>
            <a:ext cx="68421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隶书"/>
              </a:rPr>
              <a:t>世界上最响的声音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447920" y="595008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009219018424297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395280" y="189000"/>
            <a:ext cx="8424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将命令全国的鼓手在那天用最大的力气敲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敲一整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95280" y="1773360"/>
            <a:ext cx="842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叫小孩子们在家里使劲关门，不停地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68360" y="3429000"/>
            <a:ext cx="669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是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全城的人在同一时刻发出同样的叫喊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一定是世界上最响的声音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af30d1ca9f48fcfe1fe0b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916360" y="1419840"/>
            <a:ext cx="46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样的礼物，他得到了吗？为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faf30d1ca9f48fcfe1fe0b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556000" y="1762560"/>
            <a:ext cx="5688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果，这位王子得到的是什么礼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3059280" y="4005360"/>
            <a:ext cx="496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得到了“安静”的礼物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200912502115862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539640" y="333360"/>
            <a:ext cx="8209080" cy="352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女人问她的邻居：“我也想听听世界上最响的声音，要是我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叫得那么响，怎么听得见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邻居替她想出了办法：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你张大嘴，装出叫喊的样子，别发出声音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可以好好听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200912502115862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84360" y="260280"/>
            <a:ext cx="792000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子生日那天，成千上万的人聚集到王宫前面的广场。在高高的阳台上，王子和大家一起焦急地等待着。只剩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秒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秒，所有的人都竖起了他们的耳朵。时间到！可是，什么声音也没有，砰砰城发生了从来没有过的事情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整个城市一片寂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居民们涨红了脸，他们都想听别人的声音，就都没有发出自己的声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af30d1ca9f48fcfe1fe0b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050920" y="34156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课文中是怎样描写“安静”的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3564000" y="1125360"/>
            <a:ext cx="424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自读第十段：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2009280229102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826920" y="620640"/>
            <a:ext cx="7561440" cy="80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小鸟在林间歌唱，春风在田野吹拂，小溪在河谷奔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332000" y="5229360"/>
            <a:ext cx="6553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个什么句？模仿句式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20094210851608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250920" y="896400"/>
            <a:ext cx="849780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傍晚，我漫步在小溪边。听到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听到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听到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清晨，我走在田野里，听到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听到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听到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清晨，我来到校园里，听到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听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听到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200932302513816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611280" y="549360"/>
            <a:ext cx="7489800" cy="22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此，砰砰城不再吵闹了，居民说起话来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轻声细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他们以拥有全世界最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安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鸭子、哨子吹得最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温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警察而自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68360" y="5221080"/>
            <a:ext cx="69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静”多好啊！它使得这个噼里啪啦城变成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使得这个城里的居民也变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0" y="1219320"/>
            <a:ext cx="876312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安安静静的生活是最美好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19320" y="1143000"/>
            <a:ext cx="716256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认一认，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j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ǐ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ng   chá   shào  xuān  jì    q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警      察       哨     喧    寄    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quē  shèng  sōu  qi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ā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o  liū   yuá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缺      剩       搜     悄   溜     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e06adaf82be9d5b9b801a0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2588400" y="86616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说“安静”是礼物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41240" y="220464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这篇课文的学习，你学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124000" y="3213000"/>
            <a:ext cx="587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这个童话故事告诉人们，噪声掩盖了最美的声音，是为类对和谐自然环境的破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2523960" y="5159520"/>
            <a:ext cx="50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3111f05f12dc74d7aec2c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539640" y="2750400"/>
            <a:ext cx="8136000" cy="22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我们在上课的时候，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，我们在做作业的时候，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大人们说话的时候，我们也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795960"/>
            <a:ext cx="828036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砰砰城里的响声就是生活中的噪音，减少生活中的噪音是文明行为，没有了噪音，我们的生活就会变得更加美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课时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多音字组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ǔ          xīng           l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数           兴            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ù          xìng           yu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修改病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所有的人都没有发出声音，广场上非常文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昨天清早下了一天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王子第一次看到了小鸟的歌唱，非常高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仿写句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王子第一次听到了小鸟的歌唱，听到了微风在树叶间的低语，听到了小溪潺潺的流水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听到了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听到了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听到了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9473-6A2F-4F2D-A620-DB899F2135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219320" y="1143000"/>
            <a:ext cx="716256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警 察       观察        口哨       喧 传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警卫       考察         哨兵       喧 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寄信       其实        缺点        剩 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邮寄       其余        缺少        剩 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悄悄          溜冰       搜寻       公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静悄悄      溜走       搜查       花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008102214495232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2515680" y="483480"/>
            <a:ext cx="35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轻声自由朗读课文，要求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914480" y="3141720"/>
            <a:ext cx="40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想这篇童话故事讲什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212360" y="1844280"/>
            <a:ext cx="8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准字音，不懂的地方做个标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7"/>
          <p:cNvSpPr/>
          <p:nvPr/>
        </p:nvSpPr>
        <p:spPr>
          <a:xfrm>
            <a:off x="2771640" y="21621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339d727de5e0f3f4d088d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900000" y="1197000"/>
            <a:ext cx="7129440" cy="22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这篇课文讲述砰砰城王子想在生日那天听到世界上最响的声音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却在从来没有过的安静中听到了大自然的声音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032920" y="5148360"/>
            <a:ext cx="34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从这个故事中读懂了什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c83743412c5e1b7a71e12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3"/>
          <p:cNvSpPr txBox="1"/>
          <p:nvPr/>
        </p:nvSpPr>
        <p:spPr>
          <a:xfrm>
            <a:off x="611280" y="1197000"/>
            <a:ext cx="2016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嗓音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381680" y="5392800"/>
            <a:ext cx="27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个”嗓”字有什么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547960" y="907200"/>
            <a:ext cx="1229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多张嘴巴说话，就是“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843160" y="2026440"/>
            <a:ext cx="37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音量过大的声音就是噪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5742000" y="3140640"/>
            <a:ext cx="669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受欢迎、让人烦躁的声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ddc64a3e526b7d6d04358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3"/>
          <p:cNvSpPr txBox="1"/>
          <p:nvPr/>
        </p:nvSpPr>
        <p:spPr>
          <a:xfrm>
            <a:off x="2195640" y="476280"/>
            <a:ext cx="4967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默读课文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1-2</a:t>
            </a:r>
            <a:r>
              <a:rPr b="1" lang="zh-CN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段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,</a:t>
            </a:r>
            <a:r>
              <a:rPr b="1" lang="zh-CN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想一想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: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84360" y="2047680"/>
            <a:ext cx="75610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前，有一个叫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砰砰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国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这样叫？谁能在课文中找出最能说明这个问题语句来读一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9c05c47c7f3fbb8b3b7dc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395280" y="404640"/>
            <a:ext cx="8496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前，有一个叫砰砰城的国家，那里是世界上最吵闹的地方。所有的居民总在大叫大嚷，警察吹着异常刺耳的哨子，连城里的鸭子也有全世界最大的嗓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215000" y="1519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大叫大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348880" y="148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异常刺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903280" y="20480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最大的嗓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24000" y="2781360"/>
            <a:ext cx="8353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砰砰城里最吵闹的是喧闹王子，他还不满八岁，可是制造噪声的本领全国第一。他经常玩的游戏是爬上梯子，把许多铁皮桶堆得很高很高，然后猛地把它们推倒，发出震天的响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996720" y="4987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震天的响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2978640" y="9558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最吵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6084720" y="155736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539640" y="2133720"/>
            <a:ext cx="813600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539640" y="2637000"/>
            <a:ext cx="756144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1582560" y="4508640"/>
            <a:ext cx="666144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4"/>
          <p:cNvSpPr/>
          <p:nvPr/>
        </p:nvSpPr>
        <p:spPr>
          <a:xfrm>
            <a:off x="468360" y="5084640"/>
            <a:ext cx="78487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395280" y="5661000"/>
            <a:ext cx="666108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5524920" y="2746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喧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faf30d1ca9f48fcfe1fe0b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2556000" y="2268000"/>
            <a:ext cx="53118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可是，在这座城里，就有一位王子特别想在他生日那天得到像这样的礼物，你猜猜是什么礼物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327840" y="4723560"/>
            <a:ext cx="366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想听到世界上最响的声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3:24:2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3:42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