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F0E92-F625-4D61-A107-9C1FBA07EA7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6355D-4F6C-45DF-B8C2-F0474DF4973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633F-0EFF-4F81-B30F-F5ABD9CA8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5EC3-1584-4A7D-A413-4F2B9ED43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9A74-9A3E-4C96-A487-57FF84883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ECC1-0B4F-4CF5-8809-4DD024A93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6238-AF56-44AE-9667-B4FD52553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5471-A638-4532-98F1-F9B7A730B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397A-B21D-48F0-B3A8-911F7C7CF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E0D4-A0B4-47EA-B949-DAD93B2EC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4EA3-EA8F-451C-850E-DD6E5B4BB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2B8C-CF5F-4837-8D83-2DB229720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C5D6-7CEF-46E2-9C7C-518093F4D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F49E-C0B2-4E05-8774-D9C3BC198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D5248-28A2-44C7-9815-89F2F939F32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3_1272557487CTu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3"/>
          <p:cNvSpPr txBox="1"/>
          <p:nvPr/>
        </p:nvSpPr>
        <p:spPr>
          <a:xfrm>
            <a:off x="1150920" y="836640"/>
            <a:ext cx="684216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隶书"/>
              </a:rPr>
              <a:t>世界上最响的声音</a:t>
            </a:r>
            <a:endParaRPr b="1" lang="en-US" sz="44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latin typeface="隶书"/>
              <a:ea typeface="隶书"/>
            </a:endParaRPr>
          </a:p>
        </p:txBody>
      </p:sp>
      <p:sp>
        <p:nvSpPr>
          <p:cNvPr id="50" name="矩形 6"/>
          <p:cNvSpPr/>
          <p:nvPr/>
        </p:nvSpPr>
        <p:spPr>
          <a:xfrm>
            <a:off x="1447920" y="5950080"/>
            <a:ext cx="62481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2009219018424297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3"/>
          <p:cNvSpPr/>
          <p:nvPr/>
        </p:nvSpPr>
        <p:spPr>
          <a:xfrm>
            <a:off x="395280" y="189000"/>
            <a:ext cx="84247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★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将命令全国的鼓手在那天用最大的力气敲鼓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敲一整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395280" y="1773360"/>
            <a:ext cx="8424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★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叫小孩子们在家里使劲关门，不停地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468360" y="3429000"/>
            <a:ext cx="6696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★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要是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全城的人在同一时刻发出同样的叫喊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那一定是世界上最响的声音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faf30d1ca9f48fcfe1fe0b5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3"/>
          <p:cNvSpPr/>
          <p:nvPr/>
        </p:nvSpPr>
        <p:spPr>
          <a:xfrm>
            <a:off x="2916360" y="1419840"/>
            <a:ext cx="468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样的礼物，他得到了吗？为什么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faf30d1ca9f48fcfe1fe0b5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3"/>
          <p:cNvSpPr/>
          <p:nvPr/>
        </p:nvSpPr>
        <p:spPr>
          <a:xfrm>
            <a:off x="2556000" y="1762560"/>
            <a:ext cx="5688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结果，这位王子得到的是什么礼物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WordArt 4"/>
          <p:cNvSpPr txBox="1"/>
          <p:nvPr/>
        </p:nvSpPr>
        <p:spPr>
          <a:xfrm>
            <a:off x="3059280" y="4005360"/>
            <a:ext cx="496872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得到了“安静”的礼物</a:t>
            </a:r>
            <a:endParaRPr b="1" lang="en-US" sz="1800" spc="1" strike="noStrike">
              <a:ln w="19080">
                <a:solidFill>
                  <a:srgbClr val="000000"/>
                </a:solidFill>
                <a:round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200912502115862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3"/>
          <p:cNvSpPr/>
          <p:nvPr/>
        </p:nvSpPr>
        <p:spPr>
          <a:xfrm>
            <a:off x="539640" y="333360"/>
            <a:ext cx="8209080" cy="352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个女人问她的邻居：“我也想听听世界上最响的声音，要是我自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叫得那么响，怎么听得见呢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邻居替她想出了办法：“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你张大嘴，装出叫喊的样子，别发出声音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就可以好好听了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200912502115862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3"/>
          <p:cNvSpPr/>
          <p:nvPr/>
        </p:nvSpPr>
        <p:spPr>
          <a:xfrm>
            <a:off x="684360" y="260280"/>
            <a:ext cx="7920000" cy="77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王子生日那天，成千上万的人聚集到王宫前面的广场。在高高的阳台上，王子和大家一起焦急地等待着。只剩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秒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秒，所有的人都竖起了他们的耳朵。时间到！可是，什么声音也没有，砰砰城发生了从来没有过的事情，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整个城市一片寂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居民们涨红了脸，他们都想听别人的声音，就都没有发出自己的声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faf30d1ca9f48fcfe1fe0b5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3"/>
          <p:cNvSpPr/>
          <p:nvPr/>
        </p:nvSpPr>
        <p:spPr>
          <a:xfrm>
            <a:off x="2050920" y="341568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课文中是怎样描写“安静”的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WordArt 4"/>
          <p:cNvSpPr txBox="1"/>
          <p:nvPr/>
        </p:nvSpPr>
        <p:spPr>
          <a:xfrm>
            <a:off x="3564000" y="1125360"/>
            <a:ext cx="4248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自读第十段：</a:t>
            </a:r>
            <a:endParaRPr b="1" lang="en-US" sz="1800" spc="1" strike="noStrike">
              <a:ln w="19080">
                <a:solidFill>
                  <a:srgbClr val="000000"/>
                </a:solidFill>
                <a:round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20092802291027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826920" y="620640"/>
            <a:ext cx="7561440" cy="80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小鸟在林间歌唱，春风在田野吹拂，小溪在河谷奔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1332000" y="5229360"/>
            <a:ext cx="65530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是个什么句？模仿句式说一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200942108516086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3"/>
          <p:cNvSpPr/>
          <p:nvPr/>
        </p:nvSpPr>
        <p:spPr>
          <a:xfrm>
            <a:off x="250920" y="896400"/>
            <a:ext cx="8497800" cy="393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傍晚，我漫步在小溪边。听到了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听到了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听到了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清晨，我走在田野里，听到了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听到了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听到了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清晨，我来到校园里，听到了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听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听到了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----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2009323025138166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3"/>
          <p:cNvSpPr/>
          <p:nvPr/>
        </p:nvSpPr>
        <p:spPr>
          <a:xfrm>
            <a:off x="611280" y="549360"/>
            <a:ext cx="7489800" cy="223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从此，砰砰城不再吵闹了，居民说起话来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轻声细语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他们以拥有全世界最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安静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鸭子、哨子吹得最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温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警察而自豪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468360" y="5221080"/>
            <a:ext cx="698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安静”多好啊！它使得这个噼里啪啦城变成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？使得这个城里的居民也变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鸟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5"/>
          <p:cNvSpPr/>
          <p:nvPr/>
        </p:nvSpPr>
        <p:spPr>
          <a:xfrm>
            <a:off x="0" y="1219320"/>
            <a:ext cx="8763120" cy="761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  </a:t>
            </a: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安安静静的生活是最美好的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219320" y="1143000"/>
            <a:ext cx="716256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认一认，读一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j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ǐ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ng   chá   shào  xuān  jì    q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警      察       哨     喧    寄    其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quē  shèng  sōu  qi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ā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o  liū   yuá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缺      剩       搜     悄   溜     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e06adaf82be9d5b9b801a0e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3"/>
          <p:cNvSpPr/>
          <p:nvPr/>
        </p:nvSpPr>
        <p:spPr>
          <a:xfrm>
            <a:off x="2588400" y="866160"/>
            <a:ext cx="360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什么说“安静”是礼物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2541240" y="2204640"/>
            <a:ext cx="484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通过这篇课文的学习，你学到了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2124000" y="3213000"/>
            <a:ext cx="587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这个童话故事告诉人们，噪声掩盖了最美的声音，是为类对和谐自然环境的破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13111f05f12dc74d7aec2c3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3"/>
          <p:cNvSpPr/>
          <p:nvPr/>
        </p:nvSpPr>
        <p:spPr>
          <a:xfrm>
            <a:off x="539640" y="2750400"/>
            <a:ext cx="8136000" cy="223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所以我们在上课的时候，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？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所以，我们在做作业的时候，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？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大人们说话的时候，我们也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539640" y="795960"/>
            <a:ext cx="8280360" cy="63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砰砰城里的响声就是生活中的噪音，减少生活中的噪音是文明行为，没有了噪音，我们的生活就会变得更加美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1"/>
          <p:cNvSpPr/>
          <p:nvPr/>
        </p:nvSpPr>
        <p:spPr>
          <a:xfrm>
            <a:off x="1370160" y="5432400"/>
            <a:ext cx="64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课时作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多音字组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ǔ          xīng           l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数           兴            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ù          xìng           yu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修改病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所有的人都没有发出声音，广场上非常文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昨天清早下了一天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王子第一次看到了小鸟的歌唱，非常高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仿写句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王子第一次听到了小鸟的歌唱，听到了微风在树叶间的低语，听到了小溪潺潺的流水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听到了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听到了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听到了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349F7-70D0-4572-B9BF-27E7DC2780B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219320" y="1143000"/>
            <a:ext cx="716256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警 察       观察        口哨       喧 传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警卫       考察         哨兵       喧 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寄信       其实        缺点        剩 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邮寄       其余        缺少        剩 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悄悄          溜冰       搜寻       公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静悄悄      溜走       搜查       花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20081022144952320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3"/>
          <p:cNvSpPr/>
          <p:nvPr/>
        </p:nvSpPr>
        <p:spPr>
          <a:xfrm>
            <a:off x="2515680" y="483480"/>
            <a:ext cx="359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轻声自由朗读课文，要求：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1914480" y="3141720"/>
            <a:ext cx="408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想想这篇童话故事讲什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4212360" y="1844280"/>
            <a:ext cx="89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读准字音，不懂的地方做个标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7"/>
          <p:cNvSpPr/>
          <p:nvPr/>
        </p:nvSpPr>
        <p:spPr>
          <a:xfrm>
            <a:off x="2771640" y="216216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c339d727de5e0f3f4d088d7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/>
          <p:cNvSpPr/>
          <p:nvPr/>
        </p:nvSpPr>
        <p:spPr>
          <a:xfrm>
            <a:off x="900000" y="1197000"/>
            <a:ext cx="7129440" cy="223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这篇课文讲述砰砰城王子想在生日那天听到世界上最响的声音</a:t>
            </a: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却在从来没有过的安静中听到了大自然的声音</a:t>
            </a: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2032920" y="5148360"/>
            <a:ext cx="345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从这个故事中读懂了什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c83743412c5e1b7a71e125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WordArt 3"/>
          <p:cNvSpPr txBox="1"/>
          <p:nvPr/>
        </p:nvSpPr>
        <p:spPr>
          <a:xfrm>
            <a:off x="611280" y="1197000"/>
            <a:ext cx="2016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嗓音</a:t>
            </a:r>
            <a:endParaRPr b="1" lang="en-US" sz="1800" spc="1" strike="noStrike">
              <a:ln w="19080">
                <a:solidFill>
                  <a:srgbClr val="000000"/>
                </a:solidFill>
                <a:round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1381680" y="5392800"/>
            <a:ext cx="271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个”嗓”字有什么特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5547960" y="907200"/>
            <a:ext cx="12294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很多张嘴巴说话，就是“噪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5843160" y="2026440"/>
            <a:ext cx="378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音量过大的声音就是噪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5742000" y="3140640"/>
            <a:ext cx="6699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受欢迎、让人烦躁的声音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1ddc64a3e526b7d6d043583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WordArt 3"/>
          <p:cNvSpPr txBox="1"/>
          <p:nvPr/>
        </p:nvSpPr>
        <p:spPr>
          <a:xfrm>
            <a:off x="2195640" y="476280"/>
            <a:ext cx="49672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默读课文</a:t>
            </a:r>
            <a:r>
              <a:rPr b="1" lang="en-US" sz="1800" spc="1" strike="noStrike">
                <a:ln w="1908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1-2</a:t>
            </a:r>
            <a:r>
              <a:rPr b="1" lang="zh-CN" sz="1800" spc="1" strike="noStrike">
                <a:ln w="1908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段</a:t>
            </a:r>
            <a:r>
              <a:rPr b="1" lang="en-US" sz="1800" spc="1" strike="noStrike">
                <a:ln w="1908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,</a:t>
            </a:r>
            <a:r>
              <a:rPr b="1" lang="zh-CN" sz="1800" spc="1" strike="noStrike">
                <a:ln w="1908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想一想</a:t>
            </a:r>
            <a:r>
              <a:rPr b="1" lang="en-US" sz="1800" spc="1" strike="noStrike">
                <a:ln w="1908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:</a:t>
            </a:r>
            <a:endParaRPr b="1" lang="en-US" sz="1800" spc="1" strike="noStrike">
              <a:ln w="19080">
                <a:solidFill>
                  <a:srgbClr val="000000"/>
                </a:solidFill>
                <a:round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684360" y="2047680"/>
            <a:ext cx="75610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从前，有一个叫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砰砰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国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什么这样叫？谁能在课文中找出最能说明这个问题语句来读一读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f9c05c47c7f3fbb8b3b7dc4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3"/>
          <p:cNvSpPr/>
          <p:nvPr/>
        </p:nvSpPr>
        <p:spPr>
          <a:xfrm>
            <a:off x="395280" y="404640"/>
            <a:ext cx="8496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从前，有一个叫砰砰城的国家，那里是世界上最吵闹的地方。所有的居民总在大叫大嚷，警察吹着异常刺耳的哨子，连城里的鸭子也有全世界最大的嗓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1215000" y="1519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大叫大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5348880" y="1484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异常刺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5903280" y="204804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最大的嗓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324000" y="2781360"/>
            <a:ext cx="83534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砰砰城里最吵闹的是喧闹王子，他还不满八岁，可是制造噪声的本领全国第一。他经常玩的游戏是爬上梯子，把许多铁皮桶堆得很高很高，然后猛地把它们推倒，发出震天的响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3996720" y="49878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震天的响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2978640" y="9558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最吵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0"/>
          <p:cNvSpPr/>
          <p:nvPr/>
        </p:nvSpPr>
        <p:spPr>
          <a:xfrm>
            <a:off x="6084720" y="1557360"/>
            <a:ext cx="2590920" cy="0"/>
          </a:xfrm>
          <a:prstGeom prst="line">
            <a:avLst/>
          </a:prstGeom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1"/>
          <p:cNvSpPr/>
          <p:nvPr/>
        </p:nvSpPr>
        <p:spPr>
          <a:xfrm>
            <a:off x="539640" y="2133720"/>
            <a:ext cx="8136000" cy="0"/>
          </a:xfrm>
          <a:prstGeom prst="line">
            <a:avLst/>
          </a:prstGeom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2"/>
          <p:cNvSpPr/>
          <p:nvPr/>
        </p:nvSpPr>
        <p:spPr>
          <a:xfrm>
            <a:off x="539640" y="2637000"/>
            <a:ext cx="7561440" cy="0"/>
          </a:xfrm>
          <a:prstGeom prst="line">
            <a:avLst/>
          </a:prstGeom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3"/>
          <p:cNvSpPr/>
          <p:nvPr/>
        </p:nvSpPr>
        <p:spPr>
          <a:xfrm>
            <a:off x="1582560" y="4508640"/>
            <a:ext cx="6661440" cy="0"/>
          </a:xfrm>
          <a:prstGeom prst="line">
            <a:avLst/>
          </a:prstGeom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4"/>
          <p:cNvSpPr/>
          <p:nvPr/>
        </p:nvSpPr>
        <p:spPr>
          <a:xfrm>
            <a:off x="468360" y="5084640"/>
            <a:ext cx="7848720" cy="0"/>
          </a:xfrm>
          <a:prstGeom prst="line">
            <a:avLst/>
          </a:prstGeom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5"/>
          <p:cNvSpPr/>
          <p:nvPr/>
        </p:nvSpPr>
        <p:spPr>
          <a:xfrm>
            <a:off x="395280" y="5661000"/>
            <a:ext cx="6661080" cy="0"/>
          </a:xfrm>
          <a:prstGeom prst="line">
            <a:avLst/>
          </a:prstGeom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6"/>
          <p:cNvSpPr/>
          <p:nvPr/>
        </p:nvSpPr>
        <p:spPr>
          <a:xfrm>
            <a:off x="5524920" y="27464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喧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faf30d1ca9f48fcfe1fe0b5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3"/>
          <p:cNvSpPr/>
          <p:nvPr/>
        </p:nvSpPr>
        <p:spPr>
          <a:xfrm>
            <a:off x="2556000" y="2268000"/>
            <a:ext cx="531180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可是，在这座城里，就有一位王子特别想在他生日那天得到像这样的礼物，你猜猜是什么礼物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3327840" y="4723560"/>
            <a:ext cx="366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想听到世界上最响的声音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0T13:24:21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23:47Z</dcterms:modified>
  <cp:revision>1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