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33.jpeg" ContentType="image/jpeg"/>
  <Override PartName="/ppt/media/image34.gif" ContentType="image/gif"/>
  <Override PartName="/ppt/media/image23.png" ContentType="image/png"/>
  <Override PartName="/ppt/media/image22.png" ContentType="image/pn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8.png" ContentType="image/png"/>
  <Override PartName="/ppt/media/image10.jpeg" ContentType="image/jpeg"/>
  <Override PartName="/ppt/media/image30.png" ContentType="image/png"/>
  <Override PartName="/ppt/media/image25.gif" ContentType="image/gif"/>
  <Override PartName="/ppt/media/image8.jpeg" ContentType="image/jpeg"/>
  <Override PartName="/ppt/media/image38.png" ContentType="image/png"/>
  <Override PartName="/ppt/media/image39.jpeg" ContentType="image/jpeg"/>
  <Override PartName="/ppt/media/image9.png" ContentType="image/png"/>
  <Override PartName="/ppt/media/image40.jpeg" ContentType="image/jpeg"/>
  <Override PartName="/ppt/media/image6.png" ContentType="image/png"/>
  <Override PartName="/ppt/media/image26.png" ContentType="image/png"/>
  <Override PartName="/ppt/media/image3.gif" ContentType="image/gif"/>
  <Override PartName="/ppt/media/image11.png" ContentType="image/png"/>
  <Override PartName="/ppt/media/image35.png" ContentType="image/png"/>
  <Override PartName="/ppt/media/image5.jpeg" ContentType="image/jpeg"/>
  <Override PartName="/ppt/media/image37.gif" ContentType="image/gif"/>
  <Override PartName="/ppt/media/image29.png" ContentType="image/png"/>
  <Override PartName="/ppt/media/chimes.wav" ContentType="audio/x-wav"/>
  <Override PartName="/ppt/media/image16.jpeg" ContentType="image/jpeg"/>
  <Override PartName="/ppt/media/image7.png" ContentType="image/png"/>
  <Override PartName="/ppt/media/image12.png" ContentType="image/png"/>
  <Override PartName="/ppt/media/image32.png" ContentType="image/png"/>
  <Override PartName="/ppt/media/image2.png" ContentType="image/png"/>
  <Override PartName="/ppt/media/image1.png" ContentType="image/png"/>
  <Override PartName="/ppt/media/image31.gif" ContentType="image/gif"/>
  <Override PartName="/ppt/media/image24.png" ContentType="image/png"/>
  <Override PartName="/ppt/media/image13.png" ContentType="image/pn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76FA-DD6C-464A-BE24-462F6501265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C53B-EE2E-4D16-B723-666A1DD4943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BEC-7F2E-4B01-B6B0-8ECA391A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BB0-1D9E-478E-AD4B-DADA5CF2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4E31-8A7B-4017-B214-574F406C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2B4-590D-4B35-B2FE-56251F23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2C6-E68F-4A25-9DE8-ACB3A6DF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48C9-5CAA-4E8F-A79E-D90273C8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2FA-C7FB-4D7C-9B96-C24F7923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27C-CA67-460B-99DB-ED8DFCB9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007-A257-4074-8F88-F7A06792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4240-E714-4246-A3A8-6273BC17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1B1-045A-489F-B81C-BC7385C2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417-CB90-460F-A861-45243B5C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5002-1F7B-448A-9547-D2224E7072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" Target="slide1.xml"/><Relationship Id="rId4" Type="http://schemas.openxmlformats.org/officeDocument/2006/relationships/image" Target="../media/image29.png"/><Relationship Id="rId5" Type="http://schemas.openxmlformats.org/officeDocument/2006/relationships/slide" Target="slide8.xml"/><Relationship Id="rId6" Type="http://schemas.openxmlformats.org/officeDocument/2006/relationships/image" Target="../media/image30.png"/><Relationship Id="rId7" Type="http://schemas.openxmlformats.org/officeDocument/2006/relationships/image" Target="../media/image31.gif"/><Relationship Id="rId8" Type="http://schemas.openxmlformats.org/officeDocument/2006/relationships/image" Target="../media/image24.png"/><Relationship Id="rId9" Type="http://schemas.openxmlformats.org/officeDocument/2006/relationships/image" Target="../media/image26.png"/><Relationship Id="rId10" Type="http://schemas.openxmlformats.org/officeDocument/2006/relationships/slide" Target="slide1.xml"/><Relationship Id="rId11" Type="http://schemas.openxmlformats.org/officeDocument/2006/relationships/image" Target="../media/image32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3.jpeg"/><Relationship Id="rId3" Type="http://schemas.openxmlformats.org/officeDocument/2006/relationships/image" Target="../media/image34.gif"/><Relationship Id="rId4" Type="http://schemas.openxmlformats.org/officeDocument/2006/relationships/image" Target="../media/image24.png"/><Relationship Id="rId5" Type="http://schemas.openxmlformats.org/officeDocument/2006/relationships/slide" Target="slide8.xml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6.jpeg"/><Relationship Id="rId3" Type="http://schemas.openxmlformats.org/officeDocument/2006/relationships/image" Target="../media/image37.gif"/><Relationship Id="rId4" Type="http://schemas.openxmlformats.org/officeDocument/2006/relationships/image" Target="../media/image24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9.xml"/><Relationship Id="rId3" Type="http://schemas.openxmlformats.org/officeDocument/2006/relationships/image" Target="../media/image19.png"/><Relationship Id="rId4" Type="http://schemas.openxmlformats.org/officeDocument/2006/relationships/slide" Target="slide10.xml"/><Relationship Id="rId5" Type="http://schemas.openxmlformats.org/officeDocument/2006/relationships/image" Target="../media/image20.png"/><Relationship Id="rId6" Type="http://schemas.openxmlformats.org/officeDocument/2006/relationships/slide" Target="slide11.xml"/><Relationship Id="rId7" Type="http://schemas.openxmlformats.org/officeDocument/2006/relationships/image" Target="../media/image21.png"/><Relationship Id="rId8" Type="http://schemas.openxmlformats.org/officeDocument/2006/relationships/slide" Target="slide12.xml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6.png"/><Relationship Id="rId5" Type="http://schemas.openxmlformats.org/officeDocument/2006/relationships/slide" Target="slide8.xml"/><Relationship Id="rId6" Type="http://schemas.openxmlformats.org/officeDocument/2006/relationships/image" Target="../media/image27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图片3副本1"/>
          <p:cNvPicPr/>
          <p:nvPr/>
        </p:nvPicPr>
        <p:blipFill>
          <a:blip r:embed="rId2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gif003"/>
          <p:cNvPicPr/>
          <p:nvPr/>
        </p:nvPicPr>
        <p:blipFill>
          <a:blip r:embed="rId3"/>
          <a:stretch/>
        </p:blipFill>
        <p:spPr>
          <a:xfrm>
            <a:off x="1322280" y="6021360"/>
            <a:ext cx="657360" cy="5904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127400" y="2100240"/>
            <a:ext cx="48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隶书"/>
                <a:ea typeface="隶书"/>
              </a:rPr>
              <a:t>森林旅店</a:t>
            </a:r>
            <a:r>
              <a:rPr b="0" lang="zh-CN" sz="4000" spc="-1" strike="noStrike">
                <a:solidFill>
                  <a:srgbClr val="ff0000"/>
                </a:solidFill>
                <a:latin typeface="方正卡通简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方正卡通简体"/>
              </a:rPr>
              <a:t> </a:t>
            </a:r>
            <a:endParaRPr b="1" lang="en-US" sz="4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51" name="Picture 6" descr="2116430"/>
          <p:cNvPicPr/>
          <p:nvPr/>
        </p:nvPicPr>
        <p:blipFill>
          <a:blip r:embed="rId4"/>
          <a:stretch/>
        </p:blipFill>
        <p:spPr>
          <a:xfrm>
            <a:off x="6732720" y="105876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8775000" y="640548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1750680" y="610092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18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3"/>
          <p:cNvGrpSpPr/>
          <p:nvPr/>
        </p:nvGrpSpPr>
        <p:grpSpPr>
          <a:xfrm>
            <a:off x="0" y="-23760"/>
            <a:ext cx="9144000" cy="2187000"/>
            <a:chOff x="0" y="-23760"/>
            <a:chExt cx="9144000" cy="2187000"/>
          </a:xfrm>
        </p:grpSpPr>
        <p:pic>
          <p:nvPicPr>
            <p:cNvPr id="132" name="Picture 4" descr="7"/>
            <p:cNvPicPr/>
            <p:nvPr/>
          </p:nvPicPr>
          <p:blipFill>
            <a:blip r:embed="rId2"/>
            <a:stretch/>
          </p:blipFill>
          <p:spPr>
            <a:xfrm>
              <a:off x="324000" y="-23760"/>
              <a:ext cx="8820000" cy="9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5" descr="8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0" y="667440"/>
              <a:ext cx="9144000" cy="149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Picture 6" descr="树上的狒狒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356000" y="2205000"/>
            <a:ext cx="4788000" cy="4653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未命名-1"/>
          <p:cNvPicPr/>
          <p:nvPr/>
        </p:nvPicPr>
        <p:blipFill>
          <a:blip r:embed="rId7"/>
          <a:stretch/>
        </p:blipFill>
        <p:spPr>
          <a:xfrm>
            <a:off x="0" y="2205000"/>
            <a:ext cx="4425840" cy="4653000"/>
          </a:xfrm>
          <a:prstGeom prst="rect">
            <a:avLst/>
          </a:prstGeom>
          <a:ln w="0">
            <a:noFill/>
          </a:ln>
        </p:spPr>
      </p:pic>
      <p:pic>
        <p:nvPicPr>
          <p:cNvPr id="136" name="7.wav" descr=""/>
          <p:cNvPicPr/>
          <p:nvPr/>
        </p:nvPicPr>
        <p:blipFill>
          <a:blip r:embed="rId8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图片1"/>
          <p:cNvPicPr/>
          <p:nvPr/>
        </p:nvPicPr>
        <p:blipFill>
          <a:blip r:embed="rId9">
            <a:lum bright="12000"/>
          </a:blip>
          <a:stretch/>
        </p:blipFill>
        <p:spPr>
          <a:xfrm>
            <a:off x="2340000" y="2421000"/>
            <a:ext cx="647640" cy="439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138" name="Group 10"/>
          <p:cNvGrpSpPr/>
          <p:nvPr/>
        </p:nvGrpSpPr>
        <p:grpSpPr>
          <a:xfrm>
            <a:off x="34920" y="2133720"/>
            <a:ext cx="4431960" cy="4662360"/>
            <a:chOff x="34920" y="2133720"/>
            <a:chExt cx="4431960" cy="4662360"/>
          </a:xfrm>
        </p:grpSpPr>
        <p:pic>
          <p:nvPicPr>
            <p:cNvPr id="139" name="Picture 11" descr="复件 图片5副本副本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34920" y="2133720"/>
              <a:ext cx="4431960" cy="46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2" descr="图片1"/>
            <p:cNvPicPr/>
            <p:nvPr/>
          </p:nvPicPr>
          <p:blipFill>
            <a:blip r:embed="rId12">
              <a:lum bright="12000"/>
            </a:blip>
            <a:stretch/>
          </p:blipFill>
          <p:spPr>
            <a:xfrm>
              <a:off x="2375640" y="2359080"/>
              <a:ext cx="647640" cy="433440"/>
            </a:xfrm>
            <a:prstGeom prst="rect">
              <a:avLst/>
            </a:prstGeom>
            <a:ln w="57240">
              <a:solidFill>
                <a:srgbClr val="000000"/>
              </a:solidFill>
              <a:miter/>
            </a:ln>
          </p:spPr>
        </p:pic>
      </p:grpSp>
      <p:sp>
        <p:nvSpPr>
          <p:cNvPr id="141" name="Rectangle 13"/>
          <p:cNvSpPr/>
          <p:nvPr/>
        </p:nvSpPr>
        <p:spPr>
          <a:xfrm>
            <a:off x="4356000" y="1125360"/>
            <a:ext cx="576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356000" y="10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7740720" y="1125360"/>
            <a:ext cx="576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740720" y="1027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170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2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1703"/>
                            </p:stCondLst>
                            <p:childTnLst>
                              <p:par>
                                <p:cTn id="1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2089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未命名-52"/>
          <p:cNvPicPr/>
          <p:nvPr/>
        </p:nvPicPr>
        <p:blipFill>
          <a:blip r:embed="rId3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pic>
        <p:nvPicPr>
          <p:cNvPr id="147" name="9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图片6副本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5651640" y="14616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227640" y="14616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5076720" y="14616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500720" y="11592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4427640" y="333360"/>
            <a:ext cx="2303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3995640" y="260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  向  倒  挂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4716360" y="1557360"/>
            <a:ext cx="1008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4643280" y="1484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 法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9509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9509"/>
                            </p:stCondLst>
                            <p:childTnLst>
                              <p:par>
                                <p:cTn id="206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509"/>
                            </p:stCondLst>
                            <p:childTnLst>
                              <p:par>
                                <p:cTn id="20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19080"/>
            <a:ext cx="9144000" cy="2008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未命名-2"/>
          <p:cNvPicPr/>
          <p:nvPr/>
        </p:nvPicPr>
        <p:blipFill>
          <a:blip r:embed="rId3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pic>
        <p:nvPicPr>
          <p:cNvPr id="160" name="11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图片67"/>
          <p:cNvPicPr/>
          <p:nvPr/>
        </p:nvPicPr>
        <p:blipFill>
          <a:blip r:embed="rId5"/>
          <a:srcRect l="0" t="0" r="-16" b="0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7"/>
          <p:cNvSpPr/>
          <p:nvPr/>
        </p:nvSpPr>
        <p:spPr>
          <a:xfrm>
            <a:off x="2987640" y="260280"/>
            <a:ext cx="432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916360" y="189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太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4500720" y="260280"/>
            <a:ext cx="576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4643280" y="264960"/>
            <a:ext cx="576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2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324000" y="981000"/>
            <a:ext cx="576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466560" y="907920"/>
            <a:ext cx="505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都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2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11494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226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mph" presetID="3" presetSubtype="2">
                                  <p:stCondLst>
                                    <p:cond delay="450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230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1494"/>
                            </p:stCondLst>
                            <p:childTnLst>
                              <p:par>
                                <p:cTn id="2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398040" y="1432080"/>
            <a:ext cx="2347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拖鞋太小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连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我的一个脚趾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都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放不进去。</a:t>
            </a:r>
            <a:endParaRPr b="1" lang="en-US" sz="3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473480" y="2879640"/>
            <a:ext cx="639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天气太热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都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3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120320" y="4267080"/>
            <a:ext cx="726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都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3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590400" y="2117880"/>
            <a:ext cx="796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兔摇摇头，自言自语地说：“我好心为大家服务，没想到朋友们还有这么多不满意的地方呢！”</a:t>
            </a:r>
            <a:endParaRPr b="1" lang="en-US" sz="3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3733920" y="4648320"/>
            <a:ext cx="3809880" cy="1828800"/>
          </a:xfrm>
          <a:prstGeom prst="cloudCallout">
            <a:avLst>
              <a:gd name="adj1" fmla="val -89958"/>
              <a:gd name="adj2" fmla="val 256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小白兔现在还不明白错在哪里？你能告诉它吗？ </a:t>
            </a:r>
            <a:endParaRPr b="1" lang="en-US" sz="25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119320" y="10098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长颈鹿</a:t>
            </a:r>
            <a:endParaRPr b="1" lang="en-US" sz="3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716800" y="10098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个子高</a:t>
            </a:r>
            <a:endParaRPr b="1" lang="en-US" sz="3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2043360" y="21337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狒狒</a:t>
            </a:r>
            <a:endParaRPr b="1" lang="en-US" sz="3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021360" y="213372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背靠树坐着睡觉</a:t>
            </a:r>
            <a:endParaRPr b="1" lang="en-US" sz="3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043360" y="36576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蝙蝠</a:t>
            </a:r>
            <a:endParaRPr b="1" lang="en-US" sz="3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869080" y="36576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倒挂着睡觉</a:t>
            </a:r>
            <a:endParaRPr b="1" lang="en-US" sz="3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043360" y="50292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大象</a:t>
            </a:r>
            <a:endParaRPr b="1" lang="en-US" sz="3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5792760" y="5029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身材粗壮</a:t>
            </a:r>
            <a:endParaRPr b="1" lang="en-US" sz="3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1" name="文本框 1"/>
          <p:cNvSpPr/>
          <p:nvPr/>
        </p:nvSpPr>
        <p:spPr>
          <a:xfrm>
            <a:off x="71280" y="6031080"/>
            <a:ext cx="73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66"/>
                </a:solidFill>
                <a:uFillTx/>
                <a:latin typeface="Arial"/>
              </a:rPr>
              <a:t>更多免费</a:t>
            </a:r>
            <a:r>
              <a:rPr b="1" lang="zh-CN" sz="2400" spc="-1" strike="noStrike" u="sng">
                <a:solidFill>
                  <a:srgbClr val="000066"/>
                </a:solidFill>
                <a:uFillTx/>
                <a:latin typeface="Arial"/>
              </a:rPr>
              <a:t>PPT</a:t>
            </a:r>
            <a:r>
              <a:rPr b="1" lang="zh-CN" sz="2400" spc="-1" strike="noStrike" u="sng">
                <a:solidFill>
                  <a:srgbClr val="000066"/>
                </a:solidFill>
                <a:uFillTx/>
                <a:latin typeface="Arial"/>
              </a:rPr>
              <a:t>模板下载：</a:t>
            </a:r>
            <a:r>
              <a:rPr b="1" lang="zh-CN" sz="2400" spc="-1" strike="noStrike" u="sng">
                <a:solidFill>
                  <a:srgbClr val="000066"/>
                </a:solidFill>
                <a:uFillTx/>
                <a:latin typeface="Arial"/>
              </a:rPr>
              <a:t>http://www.eeppt.com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590400" y="2117880"/>
            <a:ext cx="796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兔摇摇头，自言自语地说：“我好心为大家服务，没想到朋友们还有这么多不满意的地方呢！”</a:t>
            </a:r>
            <a:endParaRPr b="1" lang="en-US" sz="3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2340000" y="4076640"/>
            <a:ext cx="3241800" cy="1297080"/>
          </a:xfrm>
          <a:prstGeom prst="cloudCallout">
            <a:avLst>
              <a:gd name="adj1" fmla="val -58541"/>
              <a:gd name="adj2" fmla="val 106944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兔怎样做才能让朋友满意呢？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图片1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250920" y="1052640"/>
            <a:ext cx="576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小小设计师</a:t>
            </a:r>
            <a:endParaRPr b="1" lang="en-US" sz="6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971640" y="2421000"/>
            <a:ext cx="691344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99"/>
                </a:solidFill>
                <a:latin typeface="Arial"/>
              </a:rPr>
              <a:t>      </a:t>
            </a:r>
            <a:r>
              <a:rPr b="1" lang="zh-CN" sz="3000" spc="-1" strike="noStrike">
                <a:solidFill>
                  <a:srgbClr val="990099"/>
                </a:solidFill>
                <a:latin typeface="Arial"/>
              </a:rPr>
              <a:t>小组间相互讨论，帮小兔子设计房间，并画下来。 </a:t>
            </a:r>
            <a:endParaRPr b="1" lang="en-US" sz="3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29A1-FB5C-41F0-A94C-D1CB834731D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010P000010V26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95280" y="141300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214920" y="-400320"/>
            <a:ext cx="3084840" cy="2949840"/>
            <a:chOff x="214920" y="-400320"/>
            <a:chExt cx="3084840" cy="2949840"/>
          </a:xfrm>
        </p:grpSpPr>
        <p:pic>
          <p:nvPicPr>
            <p:cNvPr id="57" name="Picture 5" descr="057"/>
            <p:cNvPicPr/>
            <p:nvPr/>
          </p:nvPicPr>
          <p:blipFill>
            <a:blip r:embed="rId2"/>
            <a:stretch/>
          </p:blipFill>
          <p:spPr>
            <a:xfrm rot="1342200">
              <a:off x="539640" y="-19080"/>
              <a:ext cx="243540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6"/>
            <p:cNvSpPr/>
            <p:nvPr/>
          </p:nvSpPr>
          <p:spPr>
            <a:xfrm>
              <a:off x="749520" y="834120"/>
              <a:ext cx="2019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服</a:t>
              </a:r>
              <a:r>
                <a:rPr b="1" lang="zh-CN" sz="4400" spc="-1" strike="noStrike" u="sng">
                  <a:solidFill>
                    <a:srgbClr val="0000ff"/>
                  </a:solidFill>
                  <a:uFillTx/>
                  <a:latin typeface="Arial"/>
                </a:rPr>
                <a:t>务</a:t>
              </a:r>
              <a:endParaRPr b="1" lang="en-US" sz="44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2827440" y="-488520"/>
            <a:ext cx="3212640" cy="3126600"/>
            <a:chOff x="2827440" y="-488520"/>
            <a:chExt cx="3212640" cy="3126600"/>
          </a:xfrm>
        </p:grpSpPr>
        <p:pic>
          <p:nvPicPr>
            <p:cNvPr id="60" name="Picture 8" descr="057"/>
            <p:cNvPicPr/>
            <p:nvPr/>
          </p:nvPicPr>
          <p:blipFill>
            <a:blip r:embed="rId3"/>
            <a:stretch/>
          </p:blipFill>
          <p:spPr>
            <a:xfrm rot="1849200">
              <a:off x="3215880" y="-19080"/>
              <a:ext cx="243540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9"/>
            <p:cNvSpPr/>
            <p:nvPr/>
          </p:nvSpPr>
          <p:spPr>
            <a:xfrm>
              <a:off x="3495600" y="767880"/>
              <a:ext cx="2019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66"/>
                  </a:solidFill>
                  <a:latin typeface="Arial"/>
                </a:rPr>
                <a:t>人</a:t>
              </a:r>
              <a:r>
                <a:rPr b="1" lang="zh-CN" sz="4400" spc="-1" strike="noStrike">
                  <a:solidFill>
                    <a:srgbClr val="0000ff"/>
                  </a:solidFill>
                  <a:latin typeface="Arial"/>
                </a:rPr>
                <a:t>类</a:t>
              </a:r>
              <a:endParaRPr b="1" lang="en-US" sz="44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5869080" y="-463320"/>
            <a:ext cx="3177720" cy="3075840"/>
            <a:chOff x="5869080" y="-463320"/>
            <a:chExt cx="3177720" cy="3075840"/>
          </a:xfrm>
        </p:grpSpPr>
        <p:pic>
          <p:nvPicPr>
            <p:cNvPr id="63" name="Picture 11" descr="057"/>
            <p:cNvPicPr/>
            <p:nvPr/>
          </p:nvPicPr>
          <p:blipFill>
            <a:blip r:embed="rId4"/>
            <a:stretch/>
          </p:blipFill>
          <p:spPr>
            <a:xfrm rot="1683000">
              <a:off x="6240240" y="-19080"/>
              <a:ext cx="243504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2"/>
            <p:cNvSpPr/>
            <p:nvPr/>
          </p:nvSpPr>
          <p:spPr>
            <a:xfrm>
              <a:off x="6518160" y="767880"/>
              <a:ext cx="2018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Arial"/>
                </a:rPr>
                <a:t>宾</a:t>
              </a:r>
              <a:r>
                <a:rPr b="1" lang="zh-CN" sz="4400" spc="-1" strike="noStrike">
                  <a:solidFill>
                    <a:srgbClr val="000066"/>
                  </a:solidFill>
                  <a:latin typeface="Arial"/>
                </a:rPr>
                <a:t>馆</a:t>
              </a:r>
              <a:endParaRPr b="1" lang="en-US" sz="44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5974200" y="960480"/>
            <a:ext cx="3088440" cy="2958480"/>
            <a:chOff x="5974200" y="960480"/>
            <a:chExt cx="3088440" cy="2958480"/>
          </a:xfrm>
        </p:grpSpPr>
        <p:pic>
          <p:nvPicPr>
            <p:cNvPr id="66" name="Picture 14" descr="057"/>
            <p:cNvPicPr/>
            <p:nvPr/>
          </p:nvPicPr>
          <p:blipFill>
            <a:blip r:embed="rId5"/>
            <a:stretch/>
          </p:blipFill>
          <p:spPr>
            <a:xfrm rot="1342200">
              <a:off x="6300720" y="1341000"/>
              <a:ext cx="2435400" cy="21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5"/>
            <p:cNvSpPr/>
            <p:nvPr/>
          </p:nvSpPr>
          <p:spPr>
            <a:xfrm>
              <a:off x="6371280" y="2285280"/>
              <a:ext cx="2019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zh-CN" sz="4400" spc="-1" strike="noStrike">
                  <a:solidFill>
                    <a:srgbClr val="0000ff"/>
                  </a:solidFill>
                  <a:latin typeface="Arial"/>
                </a:rPr>
                <a:t>喜欢</a:t>
              </a:r>
              <a:endParaRPr b="1" lang="en-US" sz="44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grpSp>
        <p:nvGrpSpPr>
          <p:cNvPr id="68" name="Group 16"/>
          <p:cNvGrpSpPr/>
          <p:nvPr/>
        </p:nvGrpSpPr>
        <p:grpSpPr>
          <a:xfrm>
            <a:off x="-2160" y="1176480"/>
            <a:ext cx="3087360" cy="2957040"/>
            <a:chOff x="-2160" y="1176480"/>
            <a:chExt cx="3087360" cy="2957040"/>
          </a:xfrm>
        </p:grpSpPr>
        <p:pic>
          <p:nvPicPr>
            <p:cNvPr id="69" name="Picture 17" descr="057"/>
            <p:cNvPicPr/>
            <p:nvPr/>
          </p:nvPicPr>
          <p:blipFill>
            <a:blip r:embed="rId6"/>
            <a:stretch/>
          </p:blipFill>
          <p:spPr>
            <a:xfrm rot="1342200">
              <a:off x="323640" y="1557000"/>
              <a:ext cx="2435040" cy="21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8"/>
            <p:cNvSpPr/>
            <p:nvPr/>
          </p:nvSpPr>
          <p:spPr>
            <a:xfrm>
              <a:off x="533880" y="2373480"/>
              <a:ext cx="2020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Arial"/>
                </a:rPr>
                <a:t>表</a:t>
              </a:r>
              <a:r>
                <a:rPr b="1" lang="zh-CN" sz="4400" spc="-1" strike="noStrike">
                  <a:solidFill>
                    <a:srgbClr val="000066"/>
                  </a:solidFill>
                  <a:latin typeface="Arial"/>
                </a:rPr>
                <a:t>扬</a:t>
              </a:r>
              <a:endParaRPr b="1" lang="en-US" sz="44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3021840" y="1032120"/>
            <a:ext cx="3087720" cy="2957040"/>
            <a:chOff x="3021840" y="1032120"/>
            <a:chExt cx="3087720" cy="2957040"/>
          </a:xfrm>
        </p:grpSpPr>
        <p:pic>
          <p:nvPicPr>
            <p:cNvPr id="72" name="Picture 20" descr="057"/>
            <p:cNvPicPr/>
            <p:nvPr/>
          </p:nvPicPr>
          <p:blipFill>
            <a:blip r:embed="rId7"/>
            <a:stretch/>
          </p:blipFill>
          <p:spPr>
            <a:xfrm rot="1342200">
              <a:off x="3348000" y="1412640"/>
              <a:ext cx="243540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21"/>
            <p:cNvSpPr/>
            <p:nvPr/>
          </p:nvSpPr>
          <p:spPr>
            <a:xfrm>
              <a:off x="3487320" y="2291040"/>
              <a:ext cx="2021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zh-CN" sz="4400" spc="-1" strike="noStrike">
                  <a:solidFill>
                    <a:srgbClr val="0000ff"/>
                  </a:solidFill>
                  <a:latin typeface="Arial"/>
                </a:rPr>
                <a:t>倒挂</a:t>
              </a:r>
              <a:endParaRPr b="1" lang="en-US" sz="44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grpSp>
        <p:nvGrpSpPr>
          <p:cNvPr id="74" name="Group 22"/>
          <p:cNvGrpSpPr/>
          <p:nvPr/>
        </p:nvGrpSpPr>
        <p:grpSpPr>
          <a:xfrm>
            <a:off x="5877360" y="2413440"/>
            <a:ext cx="3445200" cy="3230280"/>
            <a:chOff x="5877360" y="2413440"/>
            <a:chExt cx="3445200" cy="3230280"/>
          </a:xfrm>
        </p:grpSpPr>
        <p:pic>
          <p:nvPicPr>
            <p:cNvPr id="75" name="Picture 23" descr="057"/>
            <p:cNvPicPr/>
            <p:nvPr/>
          </p:nvPicPr>
          <p:blipFill>
            <a:blip r:embed="rId8"/>
            <a:stretch/>
          </p:blipFill>
          <p:spPr>
            <a:xfrm rot="1680000">
              <a:off x="6235920" y="2924280"/>
              <a:ext cx="272772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24"/>
            <p:cNvSpPr/>
            <p:nvPr/>
          </p:nvSpPr>
          <p:spPr>
            <a:xfrm>
              <a:off x="6084720" y="3865680"/>
              <a:ext cx="231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自言自语</a:t>
              </a:r>
              <a:endParaRPr b="1" lang="en-US" sz="36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grpSp>
        <p:nvGrpSpPr>
          <p:cNvPr id="77" name="Group 25"/>
          <p:cNvGrpSpPr/>
          <p:nvPr/>
        </p:nvGrpSpPr>
        <p:grpSpPr>
          <a:xfrm>
            <a:off x="2905200" y="2609640"/>
            <a:ext cx="3247920" cy="3124440"/>
            <a:chOff x="2905200" y="2609640"/>
            <a:chExt cx="3247920" cy="3124440"/>
          </a:xfrm>
        </p:grpSpPr>
        <p:pic>
          <p:nvPicPr>
            <p:cNvPr id="78" name="Picture 26" descr="057"/>
            <p:cNvPicPr/>
            <p:nvPr/>
          </p:nvPicPr>
          <p:blipFill>
            <a:blip r:embed="rId9"/>
            <a:stretch/>
          </p:blipFill>
          <p:spPr>
            <a:xfrm rot="1680000">
              <a:off x="3276360" y="3068280"/>
              <a:ext cx="2504880" cy="22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27"/>
            <p:cNvSpPr/>
            <p:nvPr/>
          </p:nvSpPr>
          <p:spPr>
            <a:xfrm>
              <a:off x="3276720" y="3947040"/>
              <a:ext cx="2121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66"/>
                  </a:solidFill>
                  <a:latin typeface="Arial"/>
                </a:rPr>
                <a:t>出乎意料</a:t>
              </a:r>
              <a:endParaRPr b="1" lang="en-US" sz="38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grpSp>
        <p:nvGrpSpPr>
          <p:cNvPr id="80" name="Group 28"/>
          <p:cNvGrpSpPr/>
          <p:nvPr/>
        </p:nvGrpSpPr>
        <p:grpSpPr>
          <a:xfrm>
            <a:off x="108000" y="2428560"/>
            <a:ext cx="3385800" cy="3197520"/>
            <a:chOff x="108000" y="2428560"/>
            <a:chExt cx="3385800" cy="3197520"/>
          </a:xfrm>
        </p:grpSpPr>
        <p:pic>
          <p:nvPicPr>
            <p:cNvPr id="81" name="Picture 29" descr="057"/>
            <p:cNvPicPr/>
            <p:nvPr/>
          </p:nvPicPr>
          <p:blipFill>
            <a:blip r:embed="rId10"/>
            <a:stretch/>
          </p:blipFill>
          <p:spPr>
            <a:xfrm rot="1680000">
              <a:off x="469800" y="2923920"/>
              <a:ext cx="2661480" cy="22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30"/>
            <p:cNvSpPr/>
            <p:nvPr/>
          </p:nvSpPr>
          <p:spPr>
            <a:xfrm>
              <a:off x="395280" y="3864960"/>
              <a:ext cx="225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Arial"/>
                </a:rPr>
                <a:t>忙得团团转</a:t>
              </a:r>
              <a:endParaRPr b="1" lang="en-US" sz="3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pic>
        <p:nvPicPr>
          <p:cNvPr id="83" name="Picture 31" descr="1兔子"/>
          <p:cNvPicPr/>
          <p:nvPr/>
        </p:nvPicPr>
        <p:blipFill>
          <a:blip r:embed="rId11"/>
          <a:stretch/>
        </p:blipFill>
        <p:spPr>
          <a:xfrm>
            <a:off x="250920" y="4581360"/>
            <a:ext cx="1519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464840" y="1933920"/>
            <a:ext cx="36982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1 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小兔为什么要开办森林旅店？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3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464840" y="2451600"/>
            <a:ext cx="36982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 action="ppaction://hlinksldjump"/>
              </a:rPr>
              <a:t>2 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5" action="ppaction://hlinksldjump"/>
              </a:rPr>
              <a:t>森林旅店里面是什么样子的？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3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236240" y="3016800"/>
            <a:ext cx="30124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6" action="ppaction://hlinksldjump"/>
              </a:rPr>
              <a:t>3 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7" action="ppaction://hlinksldjump"/>
              </a:rPr>
              <a:t>有哪些动物来住店呢？ </a:t>
            </a:r>
            <a:endParaRPr b="1" lang="en-US" sz="3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074320" y="3534120"/>
            <a:ext cx="5527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8" action="ppaction://hlinksldjump"/>
              </a:rPr>
              <a:t>4 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9" action="ppaction://hlinksldjump"/>
              </a:rPr>
              <a:t>森林旅店那么漂亮，是不是旅客们都很满意呢？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3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762120" y="685800"/>
            <a:ext cx="3124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uFillTx/>
                <a:latin typeface="宋体"/>
              </a:rPr>
              <a:t>自学提示</a:t>
            </a:r>
            <a:endParaRPr b="1" lang="en-US" sz="4400" spc="-1" strike="noStrike" u="sng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11280" y="1484280"/>
            <a:ext cx="7962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森林里来来往往的旅客很多，可是没有一家旅店。大家都觉得很不方便。</a:t>
            </a:r>
            <a:endParaRPr b="1" lang="en-US" sz="3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兔想为大家服务，就仿照人类的宾馆，办起了森林旅店。每个房间里放着床，摆着白被子、花枕头，漂亮极了。</a:t>
            </a:r>
            <a:endParaRPr b="1" lang="en-US" sz="3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1" lang="en-US" sz="3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002840" y="496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森林旅店</a:t>
            </a:r>
            <a:endParaRPr b="1" lang="en-US" sz="3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p:transition>
    <p:cover dir="r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2"/>
          <p:cNvSpPr/>
          <p:nvPr/>
        </p:nvSpPr>
        <p:spPr>
          <a:xfrm>
            <a:off x="1846440" y="33084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92" name="Picture 2" descr="图片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0" y="5637240"/>
            <a:ext cx="9396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每个房间里放着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摆着     被子、   枕头，漂亮     了！</a:t>
            </a:r>
            <a:endParaRPr b="1" lang="en-US" sz="3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380360" y="5661000"/>
            <a:ext cx="23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95" name="Picture 5" descr="图片1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508720" y="549360"/>
            <a:ext cx="1482480" cy="100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6" name="Text Box 6"/>
          <p:cNvSpPr/>
          <p:nvPr/>
        </p:nvSpPr>
        <p:spPr>
          <a:xfrm>
            <a:off x="3780000" y="5584680"/>
            <a:ext cx="720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床</a:t>
            </a:r>
            <a:endParaRPr b="1" lang="en-US" sz="3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7308720" y="5589720"/>
            <a:ext cx="6480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花</a:t>
            </a:r>
            <a:endParaRPr b="1" lang="en-US" sz="3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114560" y="6170760"/>
            <a:ext cx="7207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极</a:t>
            </a:r>
            <a:endParaRPr b="1" lang="en-US" sz="3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5580000" y="5589720"/>
            <a:ext cx="7207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</a:t>
            </a:r>
            <a:endParaRPr b="1" lang="en-US" sz="3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1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1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1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010P000010V26-1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547640" y="2060640"/>
            <a:ext cx="6324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森林旅店开业那天，许多旅客来住宿，把小兔忙得团团转。</a:t>
            </a:r>
            <a:endParaRPr b="1" lang="en-US" sz="3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长颈鹿1"/>
          <p:cNvPicPr/>
          <p:nvPr/>
        </p:nvPicPr>
        <p:blipFill>
          <a:blip r:embed="rId1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狒狒1 该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12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蝙蝠2"/>
          <p:cNvPicPr/>
          <p:nvPr/>
        </p:nvPicPr>
        <p:blipFill>
          <a:blip r:embed="rId3"/>
          <a:stretch/>
        </p:blipFill>
        <p:spPr>
          <a:xfrm>
            <a:off x="0" y="3124080"/>
            <a:ext cx="4267080" cy="3733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大象1"/>
          <p:cNvPicPr/>
          <p:nvPr/>
        </p:nvPicPr>
        <p:blipFill>
          <a:blip r:embed="rId4"/>
          <a:stretch/>
        </p:blipFill>
        <p:spPr>
          <a:xfrm>
            <a:off x="4267080" y="3124080"/>
            <a:ext cx="4876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20088513292533048"/>
          <p:cNvPicPr/>
          <p:nvPr/>
        </p:nvPicPr>
        <p:blipFill>
          <a:blip r:embed="rId1"/>
          <a:stretch/>
        </p:blipFill>
        <p:spPr>
          <a:xfrm rot="20814600">
            <a:off x="684360" y="0"/>
            <a:ext cx="5803920" cy="58039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3"/>
          <p:cNvSpPr txBox="1"/>
          <p:nvPr/>
        </p:nvSpPr>
        <p:spPr>
          <a:xfrm rot="20785200">
            <a:off x="1949040" y="1788840"/>
            <a:ext cx="31971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 u="sng">
                <a:ln w="25560">
                  <a:solidFill>
                    <a:srgbClr val="00ffff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uFillTx/>
                <a:latin typeface="宋体"/>
              </a:rPr>
              <a:t>旅客意见簿</a:t>
            </a:r>
            <a:endParaRPr b="1" lang="en-US" sz="4400" spc="1" strike="noStrike" u="sng">
              <a:ln w="25560">
                <a:solidFill>
                  <a:srgbClr val="00ffff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08" name="Picture 4" descr="旅店里的长颈鹿修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372360" y="476280"/>
            <a:ext cx="1584360" cy="1403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狒狒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443640" y="2349360"/>
            <a:ext cx="1150920" cy="938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蝙蝠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443640" y="3573360"/>
            <a:ext cx="1655640" cy="878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大象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659640" y="4971960"/>
            <a:ext cx="136836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6"/>
          <p:cNvPicPr/>
          <p:nvPr/>
        </p:nvPicPr>
        <p:blipFill>
          <a:blip r:embed="rId1"/>
          <a:stretch/>
        </p:blipFill>
        <p:spPr>
          <a:xfrm>
            <a:off x="-33480" y="-23760"/>
            <a:ext cx="9141120" cy="1596960"/>
          </a:xfrm>
          <a:prstGeom prst="rect">
            <a:avLst/>
          </a:prstGeom>
          <a:ln w="0">
            <a:noFill/>
          </a:ln>
        </p:spPr>
      </p:pic>
      <p:pic>
        <p:nvPicPr>
          <p:cNvPr id="113" name="6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未命名-12"/>
          <p:cNvPicPr/>
          <p:nvPr/>
        </p:nvPicPr>
        <p:blipFill>
          <a:blip r:embed="rId3"/>
          <a:stretch/>
        </p:blipFill>
        <p:spPr>
          <a:xfrm>
            <a:off x="0" y="1655640"/>
            <a:ext cx="9144000" cy="522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图片1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924360" y="3357720"/>
            <a:ext cx="647640" cy="439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6" name="Picture 6" descr="图片2副本副本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图片1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3922560" y="3419640"/>
            <a:ext cx="649440" cy="43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8" name="Text Box 8"/>
          <p:cNvSpPr/>
          <p:nvPr/>
        </p:nvSpPr>
        <p:spPr>
          <a:xfrm>
            <a:off x="108000" y="1125360"/>
            <a:ext cx="57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203640" y="1125360"/>
            <a:ext cx="1152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   法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8317080" y="189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79280" y="101124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3851280" y="101124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348000" y="101124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8244000" y="333360"/>
            <a:ext cx="576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8244000" y="260280"/>
            <a:ext cx="576000" cy="459720"/>
          </a:xfrm>
          <a:prstGeom prst="rect">
            <a:avLst/>
          </a:prstGeom>
          <a:solidFill>
            <a:srgbClr val="ffffff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太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1042920" y="1125360"/>
            <a:ext cx="576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2700360" y="1125360"/>
            <a:ext cx="576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1116000" y="1125360"/>
            <a:ext cx="503280" cy="45972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2771640" y="112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都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.0)">
                                      <p:cBhvr>
                                        <p:cTn id="146" dur="8265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mph" presetID="3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mph" presetID="3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mph" presetID="3" presetSubtype="2">
                                  <p:stCondLst>
                                    <p:cond delay="450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265"/>
                            </p:stCondLst>
                            <p:childTnLst>
                              <p:par>
                                <p:cTn id="1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3:53:1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1:28Z</dcterms:modified>
  <cp:revision>2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