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1BD-4B8D-4BDD-A11D-1012F47E8B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CA76-0779-45F5-AAF1-54AE5DB31E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17E-5154-4115-A343-A6A1E41B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535-A717-4E88-9F6D-E4F9AA26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178-A2E1-4C78-B23A-8360B2EB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AA3-9BD2-4BB6-9186-20B278F7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459-4D1C-46ED-8522-75D84C1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F34-663B-4B11-BE75-3BEA9CA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0B4-06FE-4213-8031-F648A8C1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3AB-7A03-4724-B42A-C43BB46E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D4D-71FE-4834-A380-E1573A9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6E5-80A4-4CBA-87E9-7B0FDED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C78-8F9C-47A7-ABD7-09324EC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E7C-024F-4D02-9A38-AC75CC5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D793-6A09-44F8-BC85-9D5211859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命的感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004480" y="4572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180040" y="152280"/>
            <a:ext cx="458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 flipV="1" rot="10774200">
            <a:off x="2804400" y="2345400"/>
            <a:ext cx="48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望着面前孩童时用过的物品，我的眼睛有些湿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 flipV="1" rot="10858800">
            <a:off x="2592720" y="381564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什么让“我的眼睛有些湿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父母的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相册"/>
          <p:cNvPicPr/>
          <p:nvPr/>
        </p:nvPicPr>
        <p:blipFill>
          <a:blip r:embed="rId1"/>
          <a:stretch/>
        </p:blipFill>
        <p:spPr>
          <a:xfrm>
            <a:off x="4343400" y="3886200"/>
            <a:ext cx="480060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鞋子"/>
          <p:cNvPicPr/>
          <p:nvPr/>
        </p:nvPicPr>
        <p:blipFill>
          <a:blip r:embed="rId2"/>
          <a:stretch/>
        </p:blipFill>
        <p:spPr>
          <a:xfrm>
            <a:off x="0" y="1371600"/>
            <a:ext cx="434340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娃娃"/>
          <p:cNvPicPr/>
          <p:nvPr/>
        </p:nvPicPr>
        <p:blipFill>
          <a:blip r:embed="rId3"/>
          <a:stretch/>
        </p:blipFill>
        <p:spPr>
          <a:xfrm>
            <a:off x="0" y="380988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围兜"/>
          <p:cNvPicPr/>
          <p:nvPr/>
        </p:nvPicPr>
        <p:blipFill>
          <a:blip r:embed="rId4"/>
          <a:stretch/>
        </p:blipFill>
        <p:spPr>
          <a:xfrm>
            <a:off x="4343400" y="1371600"/>
            <a:ext cx="480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十多年生命的每一个日子，我始终被爱包围着，无论我用什么形式来回报我的爸爸妈妈，也只不过是滴水之于长河，那份感动将会伴随我的一生．我将尊重因爱而孕育的所有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生命因（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）而感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819520" y="29718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爱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9" name="班得瑞1.mp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11280" y="3716280"/>
            <a:ext cx="79214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说说你对“我将尊重因爱而孕育的所有生命！” 这句话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763640" y="263700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7255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09480"/>
            <a:ext cx="693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理解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人对自己的爱是无私的，是不需要任何回报的。所以，因爱养育的所有生命，都是值得人尊重的。在爱的氛围中长大的孩子，不但要学会如何接   受爱，更要学会如何施爱于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62120" y="2666880"/>
            <a:ext cx="73911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分享幸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谈谈自己的父母让自己感动的事，让大家分享自己的幸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295280" y="2286000"/>
            <a:ext cx="60962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大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时此刻，你想对父母说些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1187280" y="5683320"/>
            <a:ext cx="59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828800" y="3276720"/>
            <a:ext cx="3652920" cy="22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819-B31C-432D-9F8A-36BA7CD47A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523880" y="1014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复习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4360" y="23493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钩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浸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姆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痕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疗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619280" y="1052640"/>
            <a:ext cx="67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ōu          jìn        méi         g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258920" y="3141720"/>
            <a:ext cx="70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ǔ       bā                 liáo    y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4"/>
          <p:cNvSpPr/>
          <p:nvPr/>
        </p:nvSpPr>
        <p:spPr>
          <a:xfrm>
            <a:off x="1143000" y="3581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1071120879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590920" y="129528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请同学们以小组为单位进行交流，要求：  </a:t>
            </a: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1</a:t>
            </a: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、采取你喜欢的方式去读你感动的句子或段落；                        </a:t>
            </a: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2</a:t>
            </a:r>
            <a:r>
              <a:rPr b="1" i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、说说你感动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rId2" action="ppaction://hlinksldjump"/>
          </p:cNvPr>
          <p:cNvSpPr/>
          <p:nvPr/>
        </p:nvSpPr>
        <p:spPr>
          <a:xfrm>
            <a:off x="2438280" y="57150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3" action="ppaction://hlinksldjump"/>
          </p:cNvPr>
          <p:cNvSpPr/>
          <p:nvPr/>
        </p:nvSpPr>
        <p:spPr>
          <a:xfrm>
            <a:off x="3733920" y="5715000"/>
            <a:ext cx="53316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>
            <a:hlinkClick r:id="rId4" action="ppaction://hlinksldjump"/>
          </p:cNvPr>
          <p:cNvSpPr/>
          <p:nvPr/>
        </p:nvSpPr>
        <p:spPr>
          <a:xfrm>
            <a:off x="5029200" y="59436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5" action="ppaction://hlinksldjump"/>
          </p:cNvPr>
          <p:cNvSpPr/>
          <p:nvPr/>
        </p:nvSpPr>
        <p:spPr>
          <a:xfrm>
            <a:off x="6400800" y="6172200"/>
            <a:ext cx="533520" cy="457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6" action="ppaction://hlinksldjump"/>
          </p:cNvPr>
          <p:cNvSpPr/>
          <p:nvPr/>
        </p:nvSpPr>
        <p:spPr>
          <a:xfrm>
            <a:off x="7848720" y="6172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7" action="ppaction://hlinksldjump"/>
          </p:cNvPr>
          <p:cNvSpPr/>
          <p:nvPr/>
        </p:nvSpPr>
        <p:spPr>
          <a:xfrm>
            <a:off x="8686800" y="6172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95280" y="380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天，我把你妈妈送进产房，就在外面焦急地等待。第一眼见到你，我那个开心啊，没法说。你静静地躺在小床上，像草叶上的露珠一样轻柔，小脸红扑扑的，像玫瑰花瓣一样美丽。你是爱与美的珍品，让我们无比欣喜，有女儿真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6724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314440" y="22096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开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086600" y="31240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343400" y="5257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无比欣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295280" y="221940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静静地躺在小床上，像草叶上的露珠一样轻柔，小脸红扑扑的，像玫瑰花瓣一样美丽。你是爱与美的珍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2"/>
          <p:cNvSpPr/>
          <p:nvPr/>
        </p:nvSpPr>
        <p:spPr>
          <a:xfrm>
            <a:off x="7848720" y="6019920"/>
            <a:ext cx="914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1600200" y="9907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家想想看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9480" y="25909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句话中运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样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句子更加生动，表达更加形象。连用两个比喻句来表达自己的欣喜，不禁发出由衷的赞叹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4845028774120671690"/>
          <p:cNvPicPr/>
          <p:nvPr/>
        </p:nvPicPr>
        <p:blipFill>
          <a:blip r:embed="rId3"/>
          <a:stretch/>
        </p:blipFill>
        <p:spPr>
          <a:xfrm>
            <a:off x="5029200" y="609480"/>
            <a:ext cx="2781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04920" y="304920"/>
            <a:ext cx="6095880" cy="6095880"/>
          </a:xfrm>
          <a:prstGeom prst="wedgeEllipseCallout">
            <a:avLst>
              <a:gd name="adj1" fmla="val 24347"/>
              <a:gd name="adj2" fmla="val 24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寒冬腊月，你用的尿布都是先放在我怀里暖热了才给你用的。”爸爸又说。我听了心里也暖暖的，爸爸的爱更让我怦然心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9907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b2ecb2"/>
                </a:solidFill>
                <a:latin typeface="Arial"/>
              </a:rPr>
              <a:t>浓浓的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>
            <a:hlinkClick r:id="rId2" action="ppaction://hlinksldjump"/>
          </p:cNvPr>
          <p:cNvSpPr/>
          <p:nvPr/>
        </p:nvSpPr>
        <p:spPr>
          <a:xfrm>
            <a:off x="8229600" y="6324480"/>
            <a:ext cx="914400" cy="3812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 rot="460800">
            <a:off x="3902400" y="2444040"/>
            <a:ext cx="4114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当女儿听到爸爸这样说时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她的心里会怎么想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4845028774120671690"/>
          <p:cNvPicPr/>
          <p:nvPr/>
        </p:nvPicPr>
        <p:blipFill>
          <a:blip r:embed="rId3"/>
          <a:stretch/>
        </p:blipFill>
        <p:spPr>
          <a:xfrm>
            <a:off x="6629400" y="160020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905120" y="685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次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保姆不慎将热水瓶放在我玩耍的一张小桌旁，被我碰翻，滚烫的开水把我的双脚烫得像两只红萝卜。幸亏妈妈及时赶到把我送进医院，要不我早成了残疾人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……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143000" y="3962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有一次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，我从木马上摔下来造成脑震荡，妈妈每天以泪洗面，在医院陪伴我度过漫长的治疗时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752480" y="2362320"/>
            <a:ext cx="5791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摔伤了，为什么没有描写我因伤而痛苦的场面，而是写妈妈</a:t>
            </a:r>
            <a:r>
              <a:rPr b="0" lang="zh-CN" sz="4000" spc="-1" strike="noStrike">
                <a:solidFill>
                  <a:srgbClr val="ff3399"/>
                </a:solidFill>
                <a:latin typeface="Arial"/>
              </a:rPr>
              <a:t>以泪洗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7238880" y="60199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b2ce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2" action="ppaction://hlinksldjump"/>
          </p:cNvPr>
          <p:cNvSpPr/>
          <p:nvPr/>
        </p:nvSpPr>
        <p:spPr>
          <a:xfrm>
            <a:off x="7451640" y="5965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057400" y="9907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3:09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04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