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0815-6C81-44D0-B836-374CFD7705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385E-3E65-4EE0-8608-A5CA8E779B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B36-CF22-448B-B791-3E5DA65F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8D0-C7C8-4FD5-A5E4-807C13BF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2D6-D04D-4CA8-BCF1-8C935737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5ED-9047-42C8-B5B0-0BEEC2C9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7AC-DF8C-43D5-B510-9922A0E9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206-FB3D-442E-934A-B69EE2A7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ED5-72DC-4EAE-B2BC-ABC58E76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ECD-1241-4C96-80F7-F12FCCA3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58C-822D-492E-ADFD-BAA59C96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F39-D00E-40EC-A1AC-910B15BA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036-C1CE-4366-AD3C-F0D99CB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8A1-8523-4412-8F31-4EB30166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522E-07B7-47BD-9648-5E32220434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52760" y="1905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命的感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61280" y="6012000"/>
            <a:ext cx="50990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007121212025426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4724280" y="3657600"/>
            <a:ext cx="3886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受关爱</a:t>
            </a:r>
            <a:endParaRPr b="1" lang="en-US" sz="5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01071120879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916360" y="1295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请同学们以小组为单位进行交流，说说：文中哪些地方令你感动？为什么？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>
            <a:hlinkClick r:id="rId2" action="ppaction://hlinksldjump"/>
          </p:cNvPr>
          <p:cNvSpPr/>
          <p:nvPr/>
        </p:nvSpPr>
        <p:spPr>
          <a:xfrm>
            <a:off x="2438280" y="5715000"/>
            <a:ext cx="53352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>
            <a:hlinkClick r:id="rId3" action="ppaction://hlinksldjump"/>
          </p:cNvPr>
          <p:cNvSpPr/>
          <p:nvPr/>
        </p:nvSpPr>
        <p:spPr>
          <a:xfrm>
            <a:off x="3733920" y="5715000"/>
            <a:ext cx="53316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>
            <a:hlinkClick r:id="rId4" action="ppaction://hlinksldjump"/>
          </p:cNvPr>
          <p:cNvSpPr/>
          <p:nvPr/>
        </p:nvSpPr>
        <p:spPr>
          <a:xfrm>
            <a:off x="5029200" y="5943600"/>
            <a:ext cx="53352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>
            <a:hlinkClick r:id="rId5" action="ppaction://hlinksldjump"/>
          </p:cNvPr>
          <p:cNvSpPr/>
          <p:nvPr/>
        </p:nvSpPr>
        <p:spPr>
          <a:xfrm>
            <a:off x="6400800" y="6172200"/>
            <a:ext cx="53352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>
            <a:hlinkClick r:id="rId6" action="ppaction://hlinksldjump"/>
          </p:cNvPr>
          <p:cNvSpPr/>
          <p:nvPr/>
        </p:nvSpPr>
        <p:spPr>
          <a:xfrm>
            <a:off x="7391520" y="57913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>
            <a:hlinkClick r:id="rId7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prstGeom prst="rightArrow">
            <a:avLst>
              <a:gd name="adj1" fmla="val 50000"/>
              <a:gd name="adj2" fmla="val 321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66ccff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说说生活中让你感动的例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763560" y="990720"/>
            <a:ext cx="510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谈谈感动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尊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因爱而孕育的所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生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007121212025426_2[1]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4724280" y="2666880"/>
            <a:ext cx="3886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报关爱</a:t>
            </a:r>
            <a:endParaRPr b="1" lang="en-US" sz="5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2120" y="2666880"/>
            <a:ext cx="73911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分享回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谈谈你将如何回报父母呢？与大家分享一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853920" y="5780160"/>
            <a:ext cx="63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E659-FF03-4DB9-A611-6C132DCBDF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3:09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54Z</dcterms:modified>
  <cp:revision>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