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43C2-3421-4940-8CF9-CA90D7BBCC47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B678-7562-4600-BA42-E88F78E9089E}" type="slidenum">
              <a:rPr b="1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1CC-11B0-4099-8174-4646EFE5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3D7D-61E1-4D9F-B5F5-F91DC29A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CDC-3241-45B9-A8E4-C1D9452D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6C3B-D4B7-4AAC-B1BB-C8C53B36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9F8A-1B70-4D15-B3F6-D7C935E1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827C-8F87-4FE6-99FB-D08E709D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B92B-DFB7-4511-B1EF-8A2F1082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13E1-4E4F-4422-B1B8-11BA2B0B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B00D-E151-46CE-B9D9-ED0F3F87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A59D-61DB-4CF7-896D-F597BC0F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F45B-F25F-43C1-B026-4DC59393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A709-D990-43F5-8F69-0B386E55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C5F5-0624-4ADD-8C16-4F0B0BAD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9EA9-76F4-4305-88E8-ECA3BA1E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309C-1E0E-4462-BCF4-E2A65DA5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F691-33FD-404C-8D5D-70F56903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A178-FF81-46D1-97CC-1CDC4B71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DB7-0AE9-4DC3-B83D-89DFC129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74B-C230-4CCE-8265-DD0EA7A7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835C-67E0-436E-8343-342A1215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E722-F37D-477F-A73B-4982F259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DC2D-56B6-48B2-9AFE-2612EE81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2BD-16BC-41EC-915C-FC4B8B0F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91AC-24EB-47A9-BE33-7F0D707B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3399-142E-4DCE-8066-036AC520E9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F58E-0409-40A6-9884-467654F8AEA2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"/>
          <p:cNvSpPr/>
          <p:nvPr/>
        </p:nvSpPr>
        <p:spPr>
          <a:xfrm>
            <a:off x="2715480" y="2133720"/>
            <a:ext cx="353340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华文隶书"/>
                <a:ea typeface="华文隶书"/>
              </a:rPr>
              <a:t>生命的药方</a:t>
            </a:r>
            <a:endParaRPr b="1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189684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1A29-FB57-47BE-9509-F1FE91370C2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900000" y="1268280"/>
            <a:ext cx="7344000" cy="4248360"/>
          </a:xfrm>
          <a:prstGeom prst="rect">
            <a:avLst/>
          </a:prstGeom>
          <a:solidFill>
            <a:srgbClr val="99ccff">
              <a:alpha val="2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044720" y="2276640"/>
            <a:ext cx="8135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宋体"/>
                <a:ea typeface="宋体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  <a:ea typeface="宋体"/>
              </a:rPr>
              <a:t>德诺十岁那年因为输血不幸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宋体"/>
                <a:ea typeface="宋体"/>
              </a:rPr>
              <a:t>染上了艾滋病，伙伴们     躲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宋体"/>
                <a:ea typeface="宋体"/>
              </a:rPr>
              <a:t>着他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3" name="组合 10"/>
          <p:cNvGrpSpPr/>
          <p:nvPr/>
        </p:nvGrpSpPr>
        <p:grpSpPr>
          <a:xfrm>
            <a:off x="-2928960" y="4106520"/>
            <a:ext cx="7394400" cy="4448520"/>
            <a:chOff x="-2928960" y="4106520"/>
            <a:chExt cx="7394400" cy="4448520"/>
          </a:xfrm>
        </p:grpSpPr>
        <p:sp>
          <p:nvSpPr>
            <p:cNvPr id="94" name="弧形 11"/>
            <p:cNvSpPr/>
            <p:nvPr/>
          </p:nvSpPr>
          <p:spPr>
            <a:xfrm>
              <a:off x="-2928960" y="5126040"/>
              <a:ext cx="3429000" cy="3429000"/>
            </a:xfrm>
            <a:custGeom>
              <a:avLst/>
              <a:gdLst/>
              <a:ahLst/>
              <a:rect l="l" t="t" r="r" b="b"/>
              <a:pathLst>
                <a:path stroke="0" w="3429078" h="3429417">
                  <a:moveTo>
                    <a:pt x="3225572" y="904430"/>
                  </a:moveTo>
                  <a:cubicBezTo>
                    <a:pt x="3355505" y="1145531"/>
                    <a:pt x="3429077" y="1421527"/>
                    <a:pt x="3429077" y="1714708"/>
                  </a:cubicBezTo>
                  <a:lnTo>
                    <a:pt x="1714539" y="1714708"/>
                  </a:lnTo>
                  <a:close/>
                </a:path>
                <a:path fill="none" w="3429078" h="3429417">
                  <a:moveTo>
                    <a:pt x="3225572" y="904430"/>
                  </a:moveTo>
                  <a:cubicBezTo>
                    <a:pt x="3355505" y="1145531"/>
                    <a:pt x="3429077" y="1421527"/>
                    <a:pt x="3429077" y="1714708"/>
                  </a:cubicBezTo>
                </a:path>
              </a:pathLst>
            </a:cu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" name="弧形 12"/>
            <p:cNvSpPr/>
            <p:nvPr/>
          </p:nvSpPr>
          <p:spPr>
            <a:xfrm flipH="1" rot="20400000">
              <a:off x="552960" y="4589280"/>
              <a:ext cx="3429000" cy="3429000"/>
            </a:xfrm>
            <a:custGeom>
              <a:avLst/>
              <a:gdLst/>
              <a:ahLst/>
              <a:rect l="l" t="t" r="r" b="b"/>
              <a:pathLst>
                <a:path stroke="0" w="3429077" h="3429417">
                  <a:moveTo>
                    <a:pt x="3115448" y="726130"/>
                  </a:moveTo>
                  <a:cubicBezTo>
                    <a:pt x="3313043" y="1005436"/>
                    <a:pt x="3429076" y="1346520"/>
                    <a:pt x="3429076" y="1714708"/>
                  </a:cubicBezTo>
                  <a:lnTo>
                    <a:pt x="1714538" y="1714708"/>
                  </a:lnTo>
                  <a:close/>
                </a:path>
                <a:path fill="none" w="3429077" h="3429417">
                  <a:moveTo>
                    <a:pt x="3115448" y="726130"/>
                  </a:moveTo>
                  <a:cubicBezTo>
                    <a:pt x="3313043" y="1005436"/>
                    <a:pt x="3429076" y="1346520"/>
                    <a:pt x="3429076" y="1714708"/>
                  </a:cubicBezTo>
                </a:path>
              </a:pathLst>
            </a:cu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" name="心形 13"/>
            <p:cNvSpPr/>
            <p:nvPr/>
          </p:nvSpPr>
          <p:spPr>
            <a:xfrm rot="780000">
              <a:off x="461520" y="5462640"/>
              <a:ext cx="423720" cy="423720"/>
            </a:xfrm>
            <a:custGeom>
              <a:avLst/>
              <a:gdLst/>
              <a:ahLst/>
              <a:rect l="l" t="t" r="r" b="b"/>
              <a:pathLst>
                <a:path w="423872" h="423914">
                  <a:moveTo>
                    <a:pt x="211936" y="105978"/>
                  </a:moveTo>
                  <a:cubicBezTo>
                    <a:pt x="300242" y="-141304"/>
                    <a:pt x="644638" y="105978"/>
                    <a:pt x="211936" y="423914"/>
                  </a:cubicBezTo>
                  <a:cubicBezTo>
                    <a:pt x="-220766" y="105978"/>
                    <a:pt x="123629" y="-141304"/>
                    <a:pt x="211936" y="105978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c000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" name="心形 14"/>
            <p:cNvSpPr/>
            <p:nvPr/>
          </p:nvSpPr>
          <p:spPr>
            <a:xfrm rot="20580000">
              <a:off x="44280" y="5742000"/>
              <a:ext cx="357120" cy="357120"/>
            </a:xfrm>
            <a:custGeom>
              <a:avLst/>
              <a:gdLst/>
              <a:ahLst/>
              <a:rect l="l" t="t" r="r" b="b"/>
              <a:pathLst>
                <a:path w="357196" h="357230">
                  <a:moveTo>
                    <a:pt x="178598" y="89307"/>
                  </a:moveTo>
                  <a:cubicBezTo>
                    <a:pt x="253013" y="-119076"/>
                    <a:pt x="543235" y="89307"/>
                    <a:pt x="178598" y="357230"/>
                  </a:cubicBezTo>
                  <a:cubicBezTo>
                    <a:pt x="-186039" y="89307"/>
                    <a:pt x="104182" y="-119076"/>
                    <a:pt x="178598" y="89307"/>
                  </a:cubicBezTo>
                  <a:close/>
                </a:path>
              </a:pathLst>
            </a:custGeom>
            <a:solidFill>
              <a:srgbClr val="ffc000"/>
            </a:solidFill>
            <a:ln w="38160">
              <a:solidFill>
                <a:srgbClr val="ffc000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98" name="Text Box 10"/>
          <p:cNvSpPr/>
          <p:nvPr/>
        </p:nvSpPr>
        <p:spPr>
          <a:xfrm>
            <a:off x="6299280" y="321300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宋体"/>
              </a:rPr>
              <a:t>全都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4"/>
          <p:cNvSpPr/>
          <p:nvPr/>
        </p:nvSpPr>
        <p:spPr>
          <a:xfrm>
            <a:off x="4259160" y="5675400"/>
            <a:ext cx="735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矩形 15"/>
          <p:cNvSpPr/>
          <p:nvPr/>
        </p:nvSpPr>
        <p:spPr>
          <a:xfrm>
            <a:off x="1763640" y="2205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1" name="Picture 10" descr="http://bbs.wxfdcw.com/UploadFile/2010-5/20105211254635980.jpg"/>
          <p:cNvPicPr/>
          <p:nvPr/>
        </p:nvPicPr>
        <p:blipFill>
          <a:blip r:embed="rId1"/>
          <a:stretch/>
        </p:blipFill>
        <p:spPr>
          <a:xfrm rot="21446400">
            <a:off x="324000" y="1267920"/>
            <a:ext cx="7759440" cy="512460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102" name="Picture 20" descr="http://www.cpanet.cn/cms/upimg/userup/1010/23203S3a32.jpg"/>
          <p:cNvPicPr/>
          <p:nvPr/>
        </p:nvPicPr>
        <p:blipFill>
          <a:blip r:embed="rId2"/>
          <a:stretch/>
        </p:blipFill>
        <p:spPr>
          <a:xfrm>
            <a:off x="868320" y="928800"/>
            <a:ext cx="7761240" cy="512424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103" name="Picture 12" descr="http://www.shulife.com/uploads/20110901ls/2011090116394022671.jpg"/>
          <p:cNvPicPr/>
          <p:nvPr/>
        </p:nvPicPr>
        <p:blipFill>
          <a:blip r:embed="rId3"/>
          <a:stretch/>
        </p:blipFill>
        <p:spPr>
          <a:xfrm rot="163200">
            <a:off x="853920" y="911160"/>
            <a:ext cx="7759800" cy="512460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104" name="Picture 18" descr="http://a2.att.hudong.com/08/03/01300001005810130243031199037.jpg"/>
          <p:cNvPicPr/>
          <p:nvPr/>
        </p:nvPicPr>
        <p:blipFill>
          <a:blip r:embed="rId4"/>
          <a:stretch/>
        </p:blipFill>
        <p:spPr>
          <a:xfrm rot="321600">
            <a:off x="840960" y="893520"/>
            <a:ext cx="7759800" cy="512604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105" name="Picture 9" descr="1"/>
          <p:cNvPicPr/>
          <p:nvPr/>
        </p:nvPicPr>
        <p:blipFill>
          <a:blip r:embed="rId5"/>
          <a:stretch/>
        </p:blipFill>
        <p:spPr>
          <a:xfrm rot="611400">
            <a:off x="817200" y="861480"/>
            <a:ext cx="7761240" cy="512460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106" name="Picture 14" descr="dcb349186d03036039c726d6cd4a0af4"/>
          <p:cNvPicPr/>
          <p:nvPr/>
        </p:nvPicPr>
        <p:blipFill>
          <a:blip r:embed="rId6"/>
          <a:stretch/>
        </p:blipFill>
        <p:spPr>
          <a:xfrm rot="20891400">
            <a:off x="941400" y="993240"/>
            <a:ext cx="7759800" cy="512460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107" name="Picture 15" descr="eb7b76819f7e030f73eab354dbd46409"/>
          <p:cNvPicPr/>
          <p:nvPr/>
        </p:nvPicPr>
        <p:blipFill>
          <a:blip r:embed="rId7"/>
          <a:stretch/>
        </p:blipFill>
        <p:spPr>
          <a:xfrm rot="21312000">
            <a:off x="896400" y="957240"/>
            <a:ext cx="7759800" cy="512460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</p:pic>
      <p:grpSp>
        <p:nvGrpSpPr>
          <p:cNvPr id="108" name="组合 10"/>
          <p:cNvGrpSpPr/>
          <p:nvPr/>
        </p:nvGrpSpPr>
        <p:grpSpPr>
          <a:xfrm>
            <a:off x="-2928960" y="4106520"/>
            <a:ext cx="7394400" cy="4448520"/>
            <a:chOff x="-2928960" y="4106520"/>
            <a:chExt cx="7394400" cy="4448520"/>
          </a:xfrm>
        </p:grpSpPr>
        <p:sp>
          <p:nvSpPr>
            <p:cNvPr id="109" name="弧形 10"/>
            <p:cNvSpPr/>
            <p:nvPr/>
          </p:nvSpPr>
          <p:spPr>
            <a:xfrm>
              <a:off x="-2928960" y="5126040"/>
              <a:ext cx="3429000" cy="3429000"/>
            </a:xfrm>
            <a:custGeom>
              <a:avLst/>
              <a:gdLst/>
              <a:ahLst/>
              <a:rect l="l" t="t" r="r" b="b"/>
              <a:pathLst>
                <a:path stroke="0" w="3429078" h="3429417">
                  <a:moveTo>
                    <a:pt x="3225572" y="904430"/>
                  </a:moveTo>
                  <a:cubicBezTo>
                    <a:pt x="3355505" y="1145531"/>
                    <a:pt x="3429077" y="1421527"/>
                    <a:pt x="3429077" y="1714708"/>
                  </a:cubicBezTo>
                  <a:lnTo>
                    <a:pt x="1714539" y="1714708"/>
                  </a:lnTo>
                  <a:close/>
                </a:path>
                <a:path fill="none" w="3429078" h="3429417">
                  <a:moveTo>
                    <a:pt x="3225572" y="904430"/>
                  </a:moveTo>
                  <a:cubicBezTo>
                    <a:pt x="3355505" y="1145531"/>
                    <a:pt x="3429077" y="1421527"/>
                    <a:pt x="3429077" y="1714708"/>
                  </a:cubicBezTo>
                </a:path>
              </a:pathLst>
            </a:cu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" name="弧形 11"/>
            <p:cNvSpPr/>
            <p:nvPr/>
          </p:nvSpPr>
          <p:spPr>
            <a:xfrm flipH="1" rot="20400000">
              <a:off x="552960" y="4589280"/>
              <a:ext cx="3429000" cy="3429000"/>
            </a:xfrm>
            <a:custGeom>
              <a:avLst/>
              <a:gdLst/>
              <a:ahLst/>
              <a:rect l="l" t="t" r="r" b="b"/>
              <a:pathLst>
                <a:path stroke="0" w="3429077" h="3429417">
                  <a:moveTo>
                    <a:pt x="3115448" y="726130"/>
                  </a:moveTo>
                  <a:cubicBezTo>
                    <a:pt x="3313043" y="1005436"/>
                    <a:pt x="3429076" y="1346520"/>
                    <a:pt x="3429076" y="1714708"/>
                  </a:cubicBezTo>
                  <a:lnTo>
                    <a:pt x="1714538" y="1714708"/>
                  </a:lnTo>
                  <a:close/>
                </a:path>
                <a:path fill="none" w="3429077" h="3429417">
                  <a:moveTo>
                    <a:pt x="3115448" y="726130"/>
                  </a:moveTo>
                  <a:cubicBezTo>
                    <a:pt x="3313043" y="1005436"/>
                    <a:pt x="3429076" y="1346520"/>
                    <a:pt x="3429076" y="1714708"/>
                  </a:cubicBezTo>
                </a:path>
              </a:pathLst>
            </a:cu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" name="心形 12"/>
            <p:cNvSpPr/>
            <p:nvPr/>
          </p:nvSpPr>
          <p:spPr>
            <a:xfrm rot="780000">
              <a:off x="461520" y="5462640"/>
              <a:ext cx="423720" cy="423720"/>
            </a:xfrm>
            <a:custGeom>
              <a:avLst/>
              <a:gdLst/>
              <a:ahLst/>
              <a:rect l="l" t="t" r="r" b="b"/>
              <a:pathLst>
                <a:path w="423872" h="423914">
                  <a:moveTo>
                    <a:pt x="211936" y="105978"/>
                  </a:moveTo>
                  <a:cubicBezTo>
                    <a:pt x="300242" y="-141304"/>
                    <a:pt x="644638" y="105978"/>
                    <a:pt x="211936" y="423914"/>
                  </a:cubicBezTo>
                  <a:cubicBezTo>
                    <a:pt x="-220766" y="105978"/>
                    <a:pt x="123629" y="-141304"/>
                    <a:pt x="211936" y="105978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c000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" name="心形 13"/>
            <p:cNvSpPr/>
            <p:nvPr/>
          </p:nvSpPr>
          <p:spPr>
            <a:xfrm rot="20580000">
              <a:off x="44280" y="5742000"/>
              <a:ext cx="357120" cy="357120"/>
            </a:xfrm>
            <a:custGeom>
              <a:avLst/>
              <a:gdLst/>
              <a:ahLst/>
              <a:rect l="l" t="t" r="r" b="b"/>
              <a:pathLst>
                <a:path w="357196" h="357230">
                  <a:moveTo>
                    <a:pt x="178598" y="89307"/>
                  </a:moveTo>
                  <a:cubicBezTo>
                    <a:pt x="253013" y="-119076"/>
                    <a:pt x="543235" y="89307"/>
                    <a:pt x="178598" y="357230"/>
                  </a:cubicBezTo>
                  <a:cubicBezTo>
                    <a:pt x="-186039" y="89307"/>
                    <a:pt x="104182" y="-119076"/>
                    <a:pt x="178598" y="89307"/>
                  </a:cubicBezTo>
                  <a:close/>
                </a:path>
              </a:pathLst>
            </a:custGeom>
            <a:solidFill>
              <a:srgbClr val="ffc000"/>
            </a:solidFill>
            <a:ln w="38160">
              <a:solidFill>
                <a:srgbClr val="ffc000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113" name="正式旁白（增量）.mp3" descr=""/>
          <p:cNvPicPr/>
          <p:nvPr/>
        </p:nvPicPr>
        <p:blipFill>
          <a:blip r:embed="rId8"/>
          <a:stretch/>
        </p:blipFill>
        <p:spPr>
          <a:xfrm>
            <a:off x="8675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804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xit" presetID="31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31">
                                  <p:stCondLst>
                                    <p:cond delay="5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xit" presetID="31">
                                  <p:stCondLst>
                                    <p:cond delay="1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31">
                                  <p:stCondLst>
                                    <p:cond delay="11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31">
                                  <p:stCondLst>
                                    <p:cond delay="16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31">
                                  <p:stCondLst>
                                    <p:cond delay="16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31">
                                  <p:stCondLst>
                                    <p:cond delay="2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31">
                                  <p:stCondLst>
                                    <p:cond delay="22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xit" presetID="31">
                                  <p:stCondLst>
                                    <p:cond delay="28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31">
                                  <p:stCondLst>
                                    <p:cond delay="28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31">
                                  <p:stCondLst>
                                    <p:cond delay="3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31">
                                  <p:stCondLst>
                                    <p:cond delay="34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2"/>
          <p:cNvSpPr/>
          <p:nvPr/>
        </p:nvSpPr>
        <p:spPr>
          <a:xfrm>
            <a:off x="900000" y="1268280"/>
            <a:ext cx="7344000" cy="4248360"/>
          </a:xfrm>
          <a:prstGeom prst="rect">
            <a:avLst/>
          </a:prstGeom>
          <a:solidFill>
            <a:srgbClr val="99ccff">
              <a:alpha val="2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00000" y="2060640"/>
            <a:ext cx="8280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宋体"/>
                <a:ea typeface="宋体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  <a:ea typeface="宋体"/>
              </a:rPr>
              <a:t>、妈妈     不让艾迪去找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宋体"/>
                <a:ea typeface="宋体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  <a:ea typeface="宋体"/>
              </a:rPr>
              <a:t>德诺了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468360" y="3645000"/>
            <a:ext cx="71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843280" y="2133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宋体"/>
                <a:ea typeface="宋体"/>
              </a:rPr>
              <a:t>再也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8" name="Group 15"/>
          <p:cNvGrpSpPr/>
          <p:nvPr/>
        </p:nvGrpSpPr>
        <p:grpSpPr>
          <a:xfrm>
            <a:off x="924840" y="476280"/>
            <a:ext cx="4376160" cy="4348440"/>
            <a:chOff x="924840" y="476280"/>
            <a:chExt cx="4376160" cy="4348440"/>
          </a:xfrm>
        </p:grpSpPr>
        <p:sp>
          <p:nvSpPr>
            <p:cNvPr id="119" name="Text Box 13"/>
            <p:cNvSpPr/>
            <p:nvPr/>
          </p:nvSpPr>
          <p:spPr>
            <a:xfrm>
              <a:off x="924840" y="476280"/>
              <a:ext cx="13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Arial"/>
                  <a:ea typeface="黑体"/>
                </a:rPr>
                <a:t>比一比</a:t>
              </a:r>
              <a:endParaRPr b="1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" name="Text Box 14"/>
            <p:cNvSpPr/>
            <p:nvPr/>
          </p:nvSpPr>
          <p:spPr>
            <a:xfrm>
              <a:off x="3541320" y="4243320"/>
              <a:ext cx="175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宋体"/>
                  <a:ea typeface="宋体"/>
                </a:rPr>
                <a:t>2</a:t>
              </a:r>
              <a:r>
                <a:rPr b="1" lang="zh-CN" sz="4000" spc="-1" strike="noStrike">
                  <a:solidFill>
                    <a:srgbClr val="0033cc"/>
                  </a:solidFill>
                  <a:latin typeface="宋体"/>
                  <a:ea typeface="宋体"/>
                </a:rPr>
                <a:t>、妈妈不让艾迪去找德诺了。</a:t>
              </a:r>
              <a:endParaRPr b="1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21" name="组合 10"/>
          <p:cNvGrpSpPr/>
          <p:nvPr/>
        </p:nvGrpSpPr>
        <p:grpSpPr>
          <a:xfrm>
            <a:off x="-2928960" y="4106520"/>
            <a:ext cx="7394400" cy="4448520"/>
            <a:chOff x="-2928960" y="4106520"/>
            <a:chExt cx="7394400" cy="4448520"/>
          </a:xfrm>
        </p:grpSpPr>
        <p:sp>
          <p:nvSpPr>
            <p:cNvPr id="122" name="弧形 10"/>
            <p:cNvSpPr/>
            <p:nvPr/>
          </p:nvSpPr>
          <p:spPr>
            <a:xfrm>
              <a:off x="-2928960" y="5126040"/>
              <a:ext cx="3429000" cy="3429000"/>
            </a:xfrm>
            <a:custGeom>
              <a:avLst/>
              <a:gdLst/>
              <a:ahLst/>
              <a:rect l="l" t="t" r="r" b="b"/>
              <a:pathLst>
                <a:path stroke="0" w="3429078" h="3429417">
                  <a:moveTo>
                    <a:pt x="3225572" y="904430"/>
                  </a:moveTo>
                  <a:cubicBezTo>
                    <a:pt x="3355505" y="1145531"/>
                    <a:pt x="3429077" y="1421527"/>
                    <a:pt x="3429077" y="1714708"/>
                  </a:cubicBezTo>
                  <a:lnTo>
                    <a:pt x="1714539" y="1714708"/>
                  </a:lnTo>
                  <a:close/>
                </a:path>
                <a:path fill="none" w="3429078" h="3429417">
                  <a:moveTo>
                    <a:pt x="3225572" y="904430"/>
                  </a:moveTo>
                  <a:cubicBezTo>
                    <a:pt x="3355505" y="1145531"/>
                    <a:pt x="3429077" y="1421527"/>
                    <a:pt x="3429077" y="1714708"/>
                  </a:cubicBezTo>
                </a:path>
              </a:pathLst>
            </a:cu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" name="弧形 11"/>
            <p:cNvSpPr/>
            <p:nvPr/>
          </p:nvSpPr>
          <p:spPr>
            <a:xfrm flipH="1" rot="20400000">
              <a:off x="552960" y="4589280"/>
              <a:ext cx="3429000" cy="3429000"/>
            </a:xfrm>
            <a:custGeom>
              <a:avLst/>
              <a:gdLst/>
              <a:ahLst/>
              <a:rect l="l" t="t" r="r" b="b"/>
              <a:pathLst>
                <a:path stroke="0" w="3429077" h="3429417">
                  <a:moveTo>
                    <a:pt x="3115448" y="726130"/>
                  </a:moveTo>
                  <a:cubicBezTo>
                    <a:pt x="3313043" y="1005436"/>
                    <a:pt x="3429076" y="1346520"/>
                    <a:pt x="3429076" y="1714708"/>
                  </a:cubicBezTo>
                  <a:lnTo>
                    <a:pt x="1714538" y="1714708"/>
                  </a:lnTo>
                  <a:close/>
                </a:path>
                <a:path fill="none" w="3429077" h="3429417">
                  <a:moveTo>
                    <a:pt x="3115448" y="726130"/>
                  </a:moveTo>
                  <a:cubicBezTo>
                    <a:pt x="3313043" y="1005436"/>
                    <a:pt x="3429076" y="1346520"/>
                    <a:pt x="3429076" y="1714708"/>
                  </a:cubicBezTo>
                </a:path>
              </a:pathLst>
            </a:cu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" name="心形 12"/>
            <p:cNvSpPr/>
            <p:nvPr/>
          </p:nvSpPr>
          <p:spPr>
            <a:xfrm rot="780000">
              <a:off x="461520" y="5462640"/>
              <a:ext cx="423720" cy="423720"/>
            </a:xfrm>
            <a:custGeom>
              <a:avLst/>
              <a:gdLst/>
              <a:ahLst/>
              <a:rect l="l" t="t" r="r" b="b"/>
              <a:pathLst>
                <a:path w="423872" h="423914">
                  <a:moveTo>
                    <a:pt x="211936" y="105978"/>
                  </a:moveTo>
                  <a:cubicBezTo>
                    <a:pt x="300242" y="-141304"/>
                    <a:pt x="644638" y="105978"/>
                    <a:pt x="211936" y="423914"/>
                  </a:cubicBezTo>
                  <a:cubicBezTo>
                    <a:pt x="-220766" y="105978"/>
                    <a:pt x="123629" y="-141304"/>
                    <a:pt x="211936" y="105978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c000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" name="心形 13"/>
            <p:cNvSpPr/>
            <p:nvPr/>
          </p:nvSpPr>
          <p:spPr>
            <a:xfrm rot="20580000">
              <a:off x="44280" y="5742000"/>
              <a:ext cx="357120" cy="357120"/>
            </a:xfrm>
            <a:custGeom>
              <a:avLst/>
              <a:gdLst/>
              <a:ahLst/>
              <a:rect l="l" t="t" r="r" b="b"/>
              <a:pathLst>
                <a:path w="357196" h="357230">
                  <a:moveTo>
                    <a:pt x="178598" y="89307"/>
                  </a:moveTo>
                  <a:cubicBezTo>
                    <a:pt x="253013" y="-119076"/>
                    <a:pt x="543235" y="89307"/>
                    <a:pt x="178598" y="357230"/>
                  </a:cubicBezTo>
                  <a:cubicBezTo>
                    <a:pt x="-186039" y="89307"/>
                    <a:pt x="104182" y="-119076"/>
                    <a:pt x="178598" y="89307"/>
                  </a:cubicBezTo>
                  <a:close/>
                </a:path>
              </a:pathLst>
            </a:custGeom>
            <a:solidFill>
              <a:srgbClr val="ffc000"/>
            </a:solidFill>
            <a:ln w="38160">
              <a:solidFill>
                <a:srgbClr val="ffc000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5"/>
          <p:cNvSpPr/>
          <p:nvPr/>
        </p:nvSpPr>
        <p:spPr>
          <a:xfrm>
            <a:off x="900000" y="1268280"/>
            <a:ext cx="7344000" cy="4248360"/>
          </a:xfrm>
          <a:prstGeom prst="rect">
            <a:avLst/>
          </a:prstGeom>
          <a:solidFill>
            <a:srgbClr val="99ccff">
              <a:alpha val="2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3080" y="982440"/>
            <a:ext cx="9576000" cy="43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他用     的声音告诉艾迪，</a:t>
            </a:r>
            <a:br>
              <a:rPr sz="4000"/>
            </a:b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他梦见自己到了茫茫的宇宙，</a:t>
            </a:r>
            <a:br>
              <a:rPr sz="4000"/>
            </a:b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星星的光是那么的   ，那么的</a:t>
            </a:r>
            <a:br>
              <a:rPr sz="4000"/>
            </a:b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  ，他       呆在那里，找不到</a:t>
            </a:r>
            <a:r>
              <a:rPr b="1" lang="en-US" sz="4000" spc="-1" strike="noStrike">
                <a:solidFill>
                  <a:srgbClr val="0033cc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。”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205080" y="141300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宋体"/>
              </a:rPr>
              <a:t>微弱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277600" y="2871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宋体"/>
              </a:rPr>
              <a:t>暗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1029600" y="364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宋体"/>
              </a:rPr>
              <a:t>黑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3227040" y="35910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宋体"/>
              </a:rPr>
              <a:t>一个人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1547640" y="42926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宋体"/>
              </a:rPr>
              <a:t>回家的路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3" name="组合 7"/>
          <p:cNvGrpSpPr/>
          <p:nvPr/>
        </p:nvGrpSpPr>
        <p:grpSpPr>
          <a:xfrm>
            <a:off x="-2916360" y="4169880"/>
            <a:ext cx="7394400" cy="4448520"/>
            <a:chOff x="-2916360" y="4169880"/>
            <a:chExt cx="7394400" cy="4448520"/>
          </a:xfrm>
        </p:grpSpPr>
        <p:sp>
          <p:nvSpPr>
            <p:cNvPr id="134" name="弧形 5"/>
            <p:cNvSpPr/>
            <p:nvPr/>
          </p:nvSpPr>
          <p:spPr>
            <a:xfrm>
              <a:off x="-2916360" y="5189400"/>
              <a:ext cx="3429000" cy="3429000"/>
            </a:xfrm>
            <a:custGeom>
              <a:avLst/>
              <a:gdLst/>
              <a:ahLst/>
              <a:rect l="l" t="t" r="r" b="b"/>
              <a:pathLst>
                <a:path stroke="0" w="3429078" h="3429417">
                  <a:moveTo>
                    <a:pt x="3225572" y="904430"/>
                  </a:moveTo>
                  <a:cubicBezTo>
                    <a:pt x="3355505" y="1145531"/>
                    <a:pt x="3429077" y="1421527"/>
                    <a:pt x="3429077" y="1714708"/>
                  </a:cubicBezTo>
                  <a:lnTo>
                    <a:pt x="1714539" y="1714708"/>
                  </a:lnTo>
                  <a:close/>
                </a:path>
                <a:path fill="none" w="3429078" h="3429417">
                  <a:moveTo>
                    <a:pt x="3225572" y="904430"/>
                  </a:moveTo>
                  <a:cubicBezTo>
                    <a:pt x="3355505" y="1145531"/>
                    <a:pt x="3429077" y="1421527"/>
                    <a:pt x="3429077" y="1714708"/>
                  </a:cubicBezTo>
                </a:path>
              </a:pathLst>
            </a:cu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" name="弧形 6"/>
            <p:cNvSpPr/>
            <p:nvPr/>
          </p:nvSpPr>
          <p:spPr>
            <a:xfrm flipH="1" rot="20400000">
              <a:off x="565560" y="4652640"/>
              <a:ext cx="3429000" cy="3429000"/>
            </a:xfrm>
            <a:custGeom>
              <a:avLst/>
              <a:gdLst/>
              <a:ahLst/>
              <a:rect l="l" t="t" r="r" b="b"/>
              <a:pathLst>
                <a:path stroke="0" w="3429077" h="3429417">
                  <a:moveTo>
                    <a:pt x="3115448" y="726130"/>
                  </a:moveTo>
                  <a:cubicBezTo>
                    <a:pt x="3313043" y="1005436"/>
                    <a:pt x="3429076" y="1346520"/>
                    <a:pt x="3429076" y="1714708"/>
                  </a:cubicBezTo>
                  <a:lnTo>
                    <a:pt x="1714538" y="1714708"/>
                  </a:lnTo>
                  <a:close/>
                </a:path>
                <a:path fill="none" w="3429077" h="3429417">
                  <a:moveTo>
                    <a:pt x="3115448" y="726130"/>
                  </a:moveTo>
                  <a:cubicBezTo>
                    <a:pt x="3313043" y="1005436"/>
                    <a:pt x="3429076" y="1346520"/>
                    <a:pt x="3429076" y="1714708"/>
                  </a:cubicBezTo>
                </a:path>
              </a:pathLst>
            </a:cu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" name="心形 7"/>
            <p:cNvSpPr/>
            <p:nvPr/>
          </p:nvSpPr>
          <p:spPr>
            <a:xfrm rot="780000">
              <a:off x="474120" y="5526000"/>
              <a:ext cx="423720" cy="423720"/>
            </a:xfrm>
            <a:custGeom>
              <a:avLst/>
              <a:gdLst/>
              <a:ahLst/>
              <a:rect l="l" t="t" r="r" b="b"/>
              <a:pathLst>
                <a:path w="423872" h="423914">
                  <a:moveTo>
                    <a:pt x="211936" y="105978"/>
                  </a:moveTo>
                  <a:cubicBezTo>
                    <a:pt x="300242" y="-141304"/>
                    <a:pt x="644638" y="105978"/>
                    <a:pt x="211936" y="423914"/>
                  </a:cubicBezTo>
                  <a:cubicBezTo>
                    <a:pt x="-220766" y="105978"/>
                    <a:pt x="123629" y="-141304"/>
                    <a:pt x="211936" y="105978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08eaa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" name="心形 8"/>
            <p:cNvSpPr/>
            <p:nvPr/>
          </p:nvSpPr>
          <p:spPr>
            <a:xfrm rot="20580000">
              <a:off x="56880" y="5805360"/>
              <a:ext cx="357120" cy="357120"/>
            </a:xfrm>
            <a:custGeom>
              <a:avLst/>
              <a:gdLst/>
              <a:ahLst/>
              <a:rect l="l" t="t" r="r" b="b"/>
              <a:pathLst>
                <a:path w="357196" h="357230">
                  <a:moveTo>
                    <a:pt x="178598" y="89307"/>
                  </a:moveTo>
                  <a:cubicBezTo>
                    <a:pt x="253013" y="-119076"/>
                    <a:pt x="543235" y="89307"/>
                    <a:pt x="178598" y="357230"/>
                  </a:cubicBezTo>
                  <a:cubicBezTo>
                    <a:pt x="-186039" y="89307"/>
                    <a:pt x="104182" y="-119076"/>
                    <a:pt x="178598" y="89307"/>
                  </a:cubicBezTo>
                  <a:close/>
                </a:path>
              </a:pathLst>
            </a:custGeom>
            <a:solidFill>
              <a:srgbClr val="f08eaa"/>
            </a:solidFill>
            <a:ln w="38160">
              <a:solidFill>
                <a:srgbClr val="f08eaa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3"/>
          <p:cNvSpPr/>
          <p:nvPr/>
        </p:nvSpPr>
        <p:spPr>
          <a:xfrm>
            <a:off x="1042920" y="1773360"/>
            <a:ext cx="8497800" cy="36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宋体"/>
              </a:rPr>
              <a:t>、艾迪是怎样帮助德诺的？哪些事令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宋体"/>
              </a:rPr>
              <a:t>你最感动？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宋体"/>
              </a:rPr>
              <a:t>、 请同学们认真默读课文，把你最受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宋体"/>
              </a:rPr>
              <a:t>感动的语句用波浪线画出，多读几遍，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宋体"/>
              </a:rPr>
              <a:t>并在旁边写上自己的感受。 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900000" y="1268280"/>
            <a:ext cx="7344000" cy="4248360"/>
          </a:xfrm>
          <a:prstGeom prst="rect">
            <a:avLst/>
          </a:prstGeom>
          <a:solidFill>
            <a:srgbClr val="99ccff">
              <a:alpha val="2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116000" y="907920"/>
            <a:ext cx="766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755640" y="40464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品读感悟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476360" y="2421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3" name="组合 7"/>
          <p:cNvGrpSpPr/>
          <p:nvPr/>
        </p:nvGrpSpPr>
        <p:grpSpPr>
          <a:xfrm>
            <a:off x="-2916360" y="4169880"/>
            <a:ext cx="7394400" cy="4448520"/>
            <a:chOff x="-2916360" y="4169880"/>
            <a:chExt cx="7394400" cy="4448520"/>
          </a:xfrm>
        </p:grpSpPr>
        <p:sp>
          <p:nvSpPr>
            <p:cNvPr id="144" name="弧形 5"/>
            <p:cNvSpPr/>
            <p:nvPr/>
          </p:nvSpPr>
          <p:spPr>
            <a:xfrm>
              <a:off x="-2916360" y="5189400"/>
              <a:ext cx="3429000" cy="3429000"/>
            </a:xfrm>
            <a:custGeom>
              <a:avLst/>
              <a:gdLst/>
              <a:ahLst/>
              <a:rect l="l" t="t" r="r" b="b"/>
              <a:pathLst>
                <a:path stroke="0" w="3429078" h="3429417">
                  <a:moveTo>
                    <a:pt x="3225572" y="904430"/>
                  </a:moveTo>
                  <a:cubicBezTo>
                    <a:pt x="3355505" y="1145531"/>
                    <a:pt x="3429077" y="1421527"/>
                    <a:pt x="3429077" y="1714708"/>
                  </a:cubicBezTo>
                  <a:lnTo>
                    <a:pt x="1714539" y="1714708"/>
                  </a:lnTo>
                  <a:close/>
                </a:path>
                <a:path fill="none" w="3429078" h="3429417">
                  <a:moveTo>
                    <a:pt x="3225572" y="904430"/>
                  </a:moveTo>
                  <a:cubicBezTo>
                    <a:pt x="3355505" y="1145531"/>
                    <a:pt x="3429077" y="1421527"/>
                    <a:pt x="3429077" y="1714708"/>
                  </a:cubicBezTo>
                </a:path>
              </a:pathLst>
            </a:cu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" name="弧形 6"/>
            <p:cNvSpPr/>
            <p:nvPr/>
          </p:nvSpPr>
          <p:spPr>
            <a:xfrm flipH="1" rot="20400000">
              <a:off x="565560" y="4652640"/>
              <a:ext cx="3429000" cy="3429000"/>
            </a:xfrm>
            <a:custGeom>
              <a:avLst/>
              <a:gdLst/>
              <a:ahLst/>
              <a:rect l="l" t="t" r="r" b="b"/>
              <a:pathLst>
                <a:path stroke="0" w="3429077" h="3429417">
                  <a:moveTo>
                    <a:pt x="3115448" y="726130"/>
                  </a:moveTo>
                  <a:cubicBezTo>
                    <a:pt x="3313043" y="1005436"/>
                    <a:pt x="3429076" y="1346520"/>
                    <a:pt x="3429076" y="1714708"/>
                  </a:cubicBezTo>
                  <a:lnTo>
                    <a:pt x="1714538" y="1714708"/>
                  </a:lnTo>
                  <a:close/>
                </a:path>
                <a:path fill="none" w="3429077" h="3429417">
                  <a:moveTo>
                    <a:pt x="3115448" y="726130"/>
                  </a:moveTo>
                  <a:cubicBezTo>
                    <a:pt x="3313043" y="1005436"/>
                    <a:pt x="3429076" y="1346520"/>
                    <a:pt x="3429076" y="1714708"/>
                  </a:cubicBezTo>
                </a:path>
              </a:pathLst>
            </a:cu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" name="心形 7"/>
            <p:cNvSpPr/>
            <p:nvPr/>
          </p:nvSpPr>
          <p:spPr>
            <a:xfrm rot="780000">
              <a:off x="474120" y="5526000"/>
              <a:ext cx="423720" cy="423720"/>
            </a:xfrm>
            <a:custGeom>
              <a:avLst/>
              <a:gdLst/>
              <a:ahLst/>
              <a:rect l="l" t="t" r="r" b="b"/>
              <a:pathLst>
                <a:path w="423872" h="423914">
                  <a:moveTo>
                    <a:pt x="211936" y="105978"/>
                  </a:moveTo>
                  <a:cubicBezTo>
                    <a:pt x="300242" y="-141304"/>
                    <a:pt x="644638" y="105978"/>
                    <a:pt x="211936" y="423914"/>
                  </a:cubicBezTo>
                  <a:cubicBezTo>
                    <a:pt x="-220766" y="105978"/>
                    <a:pt x="123629" y="-141304"/>
                    <a:pt x="211936" y="105978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08eaa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" name="心形 8"/>
            <p:cNvSpPr/>
            <p:nvPr/>
          </p:nvSpPr>
          <p:spPr>
            <a:xfrm rot="20580000">
              <a:off x="56880" y="5805360"/>
              <a:ext cx="357120" cy="357120"/>
            </a:xfrm>
            <a:custGeom>
              <a:avLst/>
              <a:gdLst/>
              <a:ahLst/>
              <a:rect l="l" t="t" r="r" b="b"/>
              <a:pathLst>
                <a:path w="357196" h="357230">
                  <a:moveTo>
                    <a:pt x="178598" y="89307"/>
                  </a:moveTo>
                  <a:cubicBezTo>
                    <a:pt x="253013" y="-119076"/>
                    <a:pt x="543235" y="89307"/>
                    <a:pt x="178598" y="357230"/>
                  </a:cubicBezTo>
                  <a:cubicBezTo>
                    <a:pt x="-186039" y="89307"/>
                    <a:pt x="104182" y="-119076"/>
                    <a:pt x="178598" y="89307"/>
                  </a:cubicBezTo>
                  <a:close/>
                </a:path>
              </a:pathLst>
            </a:custGeom>
            <a:solidFill>
              <a:srgbClr val="f08eaa"/>
            </a:solidFill>
            <a:ln w="38160">
              <a:solidFill>
                <a:srgbClr val="f08eaa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900000" y="1268280"/>
            <a:ext cx="7344000" cy="4248360"/>
          </a:xfrm>
          <a:prstGeom prst="rect">
            <a:avLst/>
          </a:prstGeom>
          <a:solidFill>
            <a:srgbClr val="99ccff">
              <a:alpha val="2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26640" y="220464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德诺最大的病其实是孤独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而你给了他快乐，给了他友情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他一直为有你这个朋友而满足。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0" name="组合 7"/>
          <p:cNvGrpSpPr/>
          <p:nvPr/>
        </p:nvGrpSpPr>
        <p:grpSpPr>
          <a:xfrm>
            <a:off x="-2916360" y="4169880"/>
            <a:ext cx="7394400" cy="4448520"/>
            <a:chOff x="-2916360" y="4169880"/>
            <a:chExt cx="7394400" cy="4448520"/>
          </a:xfrm>
        </p:grpSpPr>
        <p:sp>
          <p:nvSpPr>
            <p:cNvPr id="151" name="弧形 5"/>
            <p:cNvSpPr/>
            <p:nvPr/>
          </p:nvSpPr>
          <p:spPr>
            <a:xfrm>
              <a:off x="-2916360" y="5189400"/>
              <a:ext cx="3429000" cy="3429000"/>
            </a:xfrm>
            <a:custGeom>
              <a:avLst/>
              <a:gdLst/>
              <a:ahLst/>
              <a:rect l="l" t="t" r="r" b="b"/>
              <a:pathLst>
                <a:path stroke="0" w="3429078" h="3429417">
                  <a:moveTo>
                    <a:pt x="3225572" y="904430"/>
                  </a:moveTo>
                  <a:cubicBezTo>
                    <a:pt x="3355505" y="1145531"/>
                    <a:pt x="3429077" y="1421527"/>
                    <a:pt x="3429077" y="1714708"/>
                  </a:cubicBezTo>
                  <a:lnTo>
                    <a:pt x="1714539" y="1714708"/>
                  </a:lnTo>
                  <a:close/>
                </a:path>
                <a:path fill="none" w="3429078" h="3429417">
                  <a:moveTo>
                    <a:pt x="3225572" y="904430"/>
                  </a:moveTo>
                  <a:cubicBezTo>
                    <a:pt x="3355505" y="1145531"/>
                    <a:pt x="3429077" y="1421527"/>
                    <a:pt x="3429077" y="1714708"/>
                  </a:cubicBezTo>
                </a:path>
              </a:pathLst>
            </a:cu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" name="弧形 6"/>
            <p:cNvSpPr/>
            <p:nvPr/>
          </p:nvSpPr>
          <p:spPr>
            <a:xfrm flipH="1" rot="20400000">
              <a:off x="565560" y="4652640"/>
              <a:ext cx="3429000" cy="3429000"/>
            </a:xfrm>
            <a:custGeom>
              <a:avLst/>
              <a:gdLst/>
              <a:ahLst/>
              <a:rect l="l" t="t" r="r" b="b"/>
              <a:pathLst>
                <a:path stroke="0" w="3429077" h="3429417">
                  <a:moveTo>
                    <a:pt x="3115448" y="726130"/>
                  </a:moveTo>
                  <a:cubicBezTo>
                    <a:pt x="3313043" y="1005436"/>
                    <a:pt x="3429076" y="1346520"/>
                    <a:pt x="3429076" y="1714708"/>
                  </a:cubicBezTo>
                  <a:lnTo>
                    <a:pt x="1714538" y="1714708"/>
                  </a:lnTo>
                  <a:close/>
                </a:path>
                <a:path fill="none" w="3429077" h="3429417">
                  <a:moveTo>
                    <a:pt x="3115448" y="726130"/>
                  </a:moveTo>
                  <a:cubicBezTo>
                    <a:pt x="3313043" y="1005436"/>
                    <a:pt x="3429076" y="1346520"/>
                    <a:pt x="3429076" y="1714708"/>
                  </a:cubicBezTo>
                </a:path>
              </a:pathLst>
            </a:cu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" name="心形 7"/>
            <p:cNvSpPr/>
            <p:nvPr/>
          </p:nvSpPr>
          <p:spPr>
            <a:xfrm rot="780000">
              <a:off x="474120" y="5526000"/>
              <a:ext cx="423720" cy="423720"/>
            </a:xfrm>
            <a:custGeom>
              <a:avLst/>
              <a:gdLst/>
              <a:ahLst/>
              <a:rect l="l" t="t" r="r" b="b"/>
              <a:pathLst>
                <a:path w="423872" h="423914">
                  <a:moveTo>
                    <a:pt x="211936" y="105978"/>
                  </a:moveTo>
                  <a:cubicBezTo>
                    <a:pt x="300242" y="-141304"/>
                    <a:pt x="644638" y="105978"/>
                    <a:pt x="211936" y="423914"/>
                  </a:cubicBezTo>
                  <a:cubicBezTo>
                    <a:pt x="-220766" y="105978"/>
                    <a:pt x="123629" y="-141304"/>
                    <a:pt x="211936" y="105978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08eaa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" name="心形 8"/>
            <p:cNvSpPr/>
            <p:nvPr/>
          </p:nvSpPr>
          <p:spPr>
            <a:xfrm rot="20580000">
              <a:off x="56880" y="5805360"/>
              <a:ext cx="357120" cy="357120"/>
            </a:xfrm>
            <a:custGeom>
              <a:avLst/>
              <a:gdLst/>
              <a:ahLst/>
              <a:rect l="l" t="t" r="r" b="b"/>
              <a:pathLst>
                <a:path w="357196" h="357230">
                  <a:moveTo>
                    <a:pt x="178598" y="89307"/>
                  </a:moveTo>
                  <a:cubicBezTo>
                    <a:pt x="253013" y="-119076"/>
                    <a:pt x="543235" y="89307"/>
                    <a:pt x="178598" y="357230"/>
                  </a:cubicBezTo>
                  <a:cubicBezTo>
                    <a:pt x="-186039" y="89307"/>
                    <a:pt x="104182" y="-119076"/>
                    <a:pt x="178598" y="89307"/>
                  </a:cubicBezTo>
                  <a:close/>
                </a:path>
              </a:pathLst>
            </a:custGeom>
            <a:solidFill>
              <a:srgbClr val="f08eaa"/>
            </a:solidFill>
            <a:ln w="38160">
              <a:solidFill>
                <a:srgbClr val="f08eaa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1"/>
          <p:cNvSpPr/>
          <p:nvPr/>
        </p:nvSpPr>
        <p:spPr>
          <a:xfrm>
            <a:off x="900000" y="1268280"/>
            <a:ext cx="7344000" cy="4248360"/>
          </a:xfrm>
          <a:prstGeom prst="rect">
            <a:avLst/>
          </a:prstGeom>
          <a:solidFill>
            <a:srgbClr val="99ccff">
              <a:alpha val="2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0080" y="1341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你知道“生命的药方”是什么吗？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258920" y="1988640"/>
            <a:ext cx="68421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生命的药方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”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就是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带给朋友快乐的友情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.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8" name="组合 6"/>
          <p:cNvGrpSpPr/>
          <p:nvPr/>
        </p:nvGrpSpPr>
        <p:grpSpPr>
          <a:xfrm>
            <a:off x="-2928960" y="4106520"/>
            <a:ext cx="7394400" cy="4448520"/>
            <a:chOff x="-2928960" y="4106520"/>
            <a:chExt cx="7394400" cy="4448520"/>
          </a:xfrm>
        </p:grpSpPr>
        <p:sp>
          <p:nvSpPr>
            <p:cNvPr id="159" name="弧形 8"/>
            <p:cNvSpPr/>
            <p:nvPr/>
          </p:nvSpPr>
          <p:spPr>
            <a:xfrm>
              <a:off x="-2928960" y="5126040"/>
              <a:ext cx="3429000" cy="3429000"/>
            </a:xfrm>
            <a:custGeom>
              <a:avLst/>
              <a:gdLst/>
              <a:ahLst/>
              <a:rect l="l" t="t" r="r" b="b"/>
              <a:pathLst>
                <a:path stroke="0" w="3429078" h="3429417">
                  <a:moveTo>
                    <a:pt x="3225572" y="904430"/>
                  </a:moveTo>
                  <a:cubicBezTo>
                    <a:pt x="3355505" y="1145531"/>
                    <a:pt x="3429077" y="1421527"/>
                    <a:pt x="3429077" y="1714708"/>
                  </a:cubicBezTo>
                  <a:lnTo>
                    <a:pt x="1714539" y="1714708"/>
                  </a:lnTo>
                  <a:close/>
                </a:path>
                <a:path fill="none" w="3429078" h="3429417">
                  <a:moveTo>
                    <a:pt x="3225572" y="904430"/>
                  </a:moveTo>
                  <a:cubicBezTo>
                    <a:pt x="3355505" y="1145531"/>
                    <a:pt x="3429077" y="1421527"/>
                    <a:pt x="3429077" y="1714708"/>
                  </a:cubicBezTo>
                </a:path>
              </a:pathLst>
            </a:cu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" name="弧形 9"/>
            <p:cNvSpPr/>
            <p:nvPr/>
          </p:nvSpPr>
          <p:spPr>
            <a:xfrm flipH="1" rot="20400000">
              <a:off x="552960" y="4589280"/>
              <a:ext cx="3429000" cy="3429000"/>
            </a:xfrm>
            <a:custGeom>
              <a:avLst/>
              <a:gdLst/>
              <a:ahLst/>
              <a:rect l="l" t="t" r="r" b="b"/>
              <a:pathLst>
                <a:path stroke="0" w="3429077" h="3429417">
                  <a:moveTo>
                    <a:pt x="3115448" y="726130"/>
                  </a:moveTo>
                  <a:cubicBezTo>
                    <a:pt x="3313043" y="1005436"/>
                    <a:pt x="3429076" y="1346520"/>
                    <a:pt x="3429076" y="1714708"/>
                  </a:cubicBezTo>
                  <a:lnTo>
                    <a:pt x="1714538" y="1714708"/>
                  </a:lnTo>
                  <a:close/>
                </a:path>
                <a:path fill="none" w="3429077" h="3429417">
                  <a:moveTo>
                    <a:pt x="3115448" y="726130"/>
                  </a:moveTo>
                  <a:cubicBezTo>
                    <a:pt x="3313043" y="1005436"/>
                    <a:pt x="3429076" y="1346520"/>
                    <a:pt x="3429076" y="1714708"/>
                  </a:cubicBezTo>
                </a:path>
              </a:pathLst>
            </a:cu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" name="心形 10"/>
            <p:cNvSpPr/>
            <p:nvPr/>
          </p:nvSpPr>
          <p:spPr>
            <a:xfrm rot="780000">
              <a:off x="461520" y="5462640"/>
              <a:ext cx="423720" cy="423720"/>
            </a:xfrm>
            <a:custGeom>
              <a:avLst/>
              <a:gdLst/>
              <a:ahLst/>
              <a:rect l="l" t="t" r="r" b="b"/>
              <a:pathLst>
                <a:path w="423872" h="423914">
                  <a:moveTo>
                    <a:pt x="211936" y="105978"/>
                  </a:moveTo>
                  <a:cubicBezTo>
                    <a:pt x="300242" y="-141304"/>
                    <a:pt x="644638" y="105978"/>
                    <a:pt x="211936" y="423914"/>
                  </a:cubicBezTo>
                  <a:cubicBezTo>
                    <a:pt x="-220766" y="105978"/>
                    <a:pt x="123629" y="-141304"/>
                    <a:pt x="211936" y="105978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" name="心形 11"/>
            <p:cNvSpPr/>
            <p:nvPr/>
          </p:nvSpPr>
          <p:spPr>
            <a:xfrm rot="20580000">
              <a:off x="44280" y="5742000"/>
              <a:ext cx="357120" cy="357120"/>
            </a:xfrm>
            <a:custGeom>
              <a:avLst/>
              <a:gdLst/>
              <a:ahLst/>
              <a:rect l="l" t="t" r="r" b="b"/>
              <a:pathLst>
                <a:path w="357196" h="357230">
                  <a:moveTo>
                    <a:pt x="178598" y="89307"/>
                  </a:moveTo>
                  <a:cubicBezTo>
                    <a:pt x="253013" y="-119076"/>
                    <a:pt x="543235" y="89307"/>
                    <a:pt x="178598" y="357230"/>
                  </a:cubicBezTo>
                  <a:cubicBezTo>
                    <a:pt x="-186039" y="89307"/>
                    <a:pt x="104182" y="-119076"/>
                    <a:pt x="178598" y="89307"/>
                  </a:cubicBez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6836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　　　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64" name="组合 6"/>
          <p:cNvGrpSpPr/>
          <p:nvPr/>
        </p:nvGrpSpPr>
        <p:grpSpPr>
          <a:xfrm>
            <a:off x="-2928960" y="4106520"/>
            <a:ext cx="7394400" cy="4448520"/>
            <a:chOff x="-2928960" y="4106520"/>
            <a:chExt cx="7394400" cy="4448520"/>
          </a:xfrm>
        </p:grpSpPr>
        <p:sp>
          <p:nvSpPr>
            <p:cNvPr id="165" name="弧形 8"/>
            <p:cNvSpPr/>
            <p:nvPr/>
          </p:nvSpPr>
          <p:spPr>
            <a:xfrm>
              <a:off x="-2928960" y="5126040"/>
              <a:ext cx="3429000" cy="3429000"/>
            </a:xfrm>
            <a:custGeom>
              <a:avLst/>
              <a:gdLst/>
              <a:ahLst/>
              <a:rect l="l" t="t" r="r" b="b"/>
              <a:pathLst>
                <a:path stroke="0" w="3429078" h="3429417">
                  <a:moveTo>
                    <a:pt x="3225572" y="904430"/>
                  </a:moveTo>
                  <a:cubicBezTo>
                    <a:pt x="3355505" y="1145531"/>
                    <a:pt x="3429077" y="1421527"/>
                    <a:pt x="3429077" y="1714708"/>
                  </a:cubicBezTo>
                  <a:lnTo>
                    <a:pt x="1714539" y="1714708"/>
                  </a:lnTo>
                  <a:close/>
                </a:path>
                <a:path fill="none" w="3429078" h="3429417">
                  <a:moveTo>
                    <a:pt x="3225572" y="904430"/>
                  </a:moveTo>
                  <a:cubicBezTo>
                    <a:pt x="3355505" y="1145531"/>
                    <a:pt x="3429077" y="1421527"/>
                    <a:pt x="3429077" y="1714708"/>
                  </a:cubicBezTo>
                </a:path>
              </a:pathLst>
            </a:cu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" name="弧形 9"/>
            <p:cNvSpPr/>
            <p:nvPr/>
          </p:nvSpPr>
          <p:spPr>
            <a:xfrm flipH="1" rot="20400000">
              <a:off x="552960" y="4589280"/>
              <a:ext cx="3429000" cy="3429000"/>
            </a:xfrm>
            <a:custGeom>
              <a:avLst/>
              <a:gdLst/>
              <a:ahLst/>
              <a:rect l="l" t="t" r="r" b="b"/>
              <a:pathLst>
                <a:path stroke="0" w="3429077" h="3429417">
                  <a:moveTo>
                    <a:pt x="3115448" y="726130"/>
                  </a:moveTo>
                  <a:cubicBezTo>
                    <a:pt x="3313043" y="1005436"/>
                    <a:pt x="3429076" y="1346520"/>
                    <a:pt x="3429076" y="1714708"/>
                  </a:cubicBezTo>
                  <a:lnTo>
                    <a:pt x="1714538" y="1714708"/>
                  </a:lnTo>
                  <a:close/>
                </a:path>
                <a:path fill="none" w="3429077" h="3429417">
                  <a:moveTo>
                    <a:pt x="3115448" y="726130"/>
                  </a:moveTo>
                  <a:cubicBezTo>
                    <a:pt x="3313043" y="1005436"/>
                    <a:pt x="3429076" y="1346520"/>
                    <a:pt x="3429076" y="1714708"/>
                  </a:cubicBezTo>
                </a:path>
              </a:pathLst>
            </a:cu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" name="心形 10"/>
            <p:cNvSpPr/>
            <p:nvPr/>
          </p:nvSpPr>
          <p:spPr>
            <a:xfrm rot="780000">
              <a:off x="461520" y="5462640"/>
              <a:ext cx="423720" cy="423720"/>
            </a:xfrm>
            <a:custGeom>
              <a:avLst/>
              <a:gdLst/>
              <a:ahLst/>
              <a:rect l="l" t="t" r="r" b="b"/>
              <a:pathLst>
                <a:path w="423872" h="423914">
                  <a:moveTo>
                    <a:pt x="211936" y="105978"/>
                  </a:moveTo>
                  <a:cubicBezTo>
                    <a:pt x="300242" y="-141304"/>
                    <a:pt x="644638" y="105978"/>
                    <a:pt x="211936" y="423914"/>
                  </a:cubicBezTo>
                  <a:cubicBezTo>
                    <a:pt x="-220766" y="105978"/>
                    <a:pt x="123629" y="-141304"/>
                    <a:pt x="211936" y="105978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" name="心形 11"/>
            <p:cNvSpPr/>
            <p:nvPr/>
          </p:nvSpPr>
          <p:spPr>
            <a:xfrm rot="20580000">
              <a:off x="44280" y="5742000"/>
              <a:ext cx="357120" cy="357120"/>
            </a:xfrm>
            <a:custGeom>
              <a:avLst/>
              <a:gdLst/>
              <a:ahLst/>
              <a:rect l="l" t="t" r="r" b="b"/>
              <a:pathLst>
                <a:path w="357196" h="357230">
                  <a:moveTo>
                    <a:pt x="178598" y="89307"/>
                  </a:moveTo>
                  <a:cubicBezTo>
                    <a:pt x="253013" y="-119076"/>
                    <a:pt x="543235" y="89307"/>
                    <a:pt x="178598" y="357230"/>
                  </a:cubicBezTo>
                  <a:cubicBezTo>
                    <a:pt x="-186039" y="89307"/>
                    <a:pt x="104182" y="-119076"/>
                    <a:pt x="178598" y="89307"/>
                  </a:cubicBez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169" name="爱的奉献.mp3" descr=""/>
          <p:cNvPicPr/>
          <p:nvPr/>
        </p:nvPicPr>
        <p:blipFill>
          <a:blip r:embed="rId1"/>
          <a:stretch/>
        </p:blipFill>
        <p:spPr>
          <a:xfrm>
            <a:off x="8656560" y="6553080"/>
            <a:ext cx="487440" cy="304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图片1"/>
          <p:cNvPicPr/>
          <p:nvPr/>
        </p:nvPicPr>
        <p:blipFill>
          <a:blip r:embed="rId2"/>
          <a:stretch/>
        </p:blipFill>
        <p:spPr>
          <a:xfrm>
            <a:off x="900000" y="620640"/>
            <a:ext cx="7685280" cy="5259600"/>
          </a:xfrm>
          <a:prstGeom prst="rect">
            <a:avLst/>
          </a:prstGeom>
          <a:ln w="0">
            <a:noFill/>
          </a:ln>
        </p:spPr>
      </p:pic>
      <p:sp>
        <p:nvSpPr>
          <p:cNvPr id="171" name="WordArt 14"/>
          <p:cNvSpPr txBox="1"/>
          <p:nvPr/>
        </p:nvSpPr>
        <p:spPr>
          <a:xfrm rot="5400000">
            <a:off x="4065840" y="3570840"/>
            <a:ext cx="79200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ffff"/>
                  </a:solidFill>
                  <a:round/>
                </a:ln>
                <a:solidFill>
                  <a:srgbClr val="cc0099"/>
                </a:solidFill>
                <a:latin typeface="宋体"/>
              </a:rPr>
              <a:t>献</a:t>
            </a:r>
            <a:endParaRPr b="1" lang="en-US" sz="1800" spc="1" strike="noStrike">
              <a:ln w="25560">
                <a:solidFill>
                  <a:srgbClr val="ffffff"/>
                </a:solidFill>
                <a:round/>
              </a:ln>
              <a:solidFill>
                <a:srgbClr val="cc0099"/>
              </a:solidFill>
              <a:latin typeface="宋体"/>
              <a:ea typeface="宋体"/>
            </a:endParaRPr>
          </a:p>
        </p:txBody>
      </p:sp>
      <p:sp>
        <p:nvSpPr>
          <p:cNvPr id="172" name="文本框 1"/>
          <p:cNvSpPr/>
          <p:nvPr/>
        </p:nvSpPr>
        <p:spPr>
          <a:xfrm>
            <a:off x="1825560" y="6116760"/>
            <a:ext cx="5516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更多免费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模板下载：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44.0)">
                                      <p:cBhvr>
                                        <p:cTn id="153" dur="204568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32:4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9:12Z</dcterms:modified>
  <cp:revision>1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