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03C7D-A0BD-40B2-9D23-483246978C5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509F8-2DDB-48FA-9D44-CF5463C25FB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6F67-2AE2-4F02-9B37-6806CF4AB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869E-4598-4C3D-970A-47FBEF7B2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420D-A420-4F34-87A6-2C05421CC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8F15-51E0-4FB7-85D0-A4B173897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78AC-BB23-43DB-8E63-8E169CEA4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4039-4DA3-4502-9399-0A7B92BED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140F-4E23-41A0-95A7-AA1DBB3C0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B3F6-5657-479C-8133-164830E25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EB3E-6018-4486-BE20-D87155DD6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6607-FEE9-4EB5-8D13-4D6D0FCE4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398B-33E5-40AC-8ACA-45077A6CE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7CA8-85F0-4DF5-B244-8BDDEAF4F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0fa8e"/>
            </a:gs>
            <a:gs pos="100000">
              <a:srgbClr val="f4fdd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6182A-4931-406E-96FF-A7AC9D55F37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16.xml"/><Relationship Id="rId3" Type="http://schemas.openxmlformats.org/officeDocument/2006/relationships/slide" Target="slide17.xml"/><Relationship Id="rId4" Type="http://schemas.openxmlformats.org/officeDocument/2006/relationships/slide" Target="slide1.xml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18.xm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744480" y="1219320"/>
            <a:ext cx="6113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_GB2312"/>
              </a:rPr>
              <a:t>17 </a:t>
            </a:r>
            <a:r>
              <a:rPr b="1" lang="zh-CN" sz="6600" spc="-1" strike="noStrike">
                <a:solidFill>
                  <a:srgbClr val="000000"/>
                </a:solidFill>
                <a:latin typeface="楷体_GB2312"/>
              </a:rPr>
              <a:t>神农尝百草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5"/>
          <p:cNvSpPr/>
          <p:nvPr/>
        </p:nvSpPr>
        <p:spPr>
          <a:xfrm>
            <a:off x="559080" y="5943600"/>
            <a:ext cx="4725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306360" y="3154320"/>
            <a:ext cx="6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神农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1967040" y="1924200"/>
            <a:ext cx="109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发现五谷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4726080" y="1924200"/>
            <a:ext cx="109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制作农具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1967040" y="3886200"/>
            <a:ext cx="109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遍尝百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4726080" y="3886200"/>
            <a:ext cx="109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配制药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7"/>
          <p:cNvSpPr/>
          <p:nvPr/>
        </p:nvSpPr>
        <p:spPr>
          <a:xfrm>
            <a:off x="1143000" y="2286000"/>
            <a:ext cx="152280" cy="2286000"/>
          </a:xfrm>
          <a:custGeom>
            <a:avLst/>
            <a:gdLst>
              <a:gd name="textAreaLeft" fmla="*/ 97200 w 152280"/>
              <a:gd name="textAreaRight" fmla="*/ 152640 w 15228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8"/>
          <p:cNvSpPr/>
          <p:nvPr/>
        </p:nvSpPr>
        <p:spPr>
          <a:xfrm>
            <a:off x="6477120" y="2286000"/>
            <a:ext cx="228600" cy="2209680"/>
          </a:xfrm>
          <a:custGeom>
            <a:avLst/>
            <a:gdLst>
              <a:gd name="textAreaLeft" fmla="*/ 0 w 228600"/>
              <a:gd name="textAreaRight" fmla="*/ 82440 w 228600"/>
              <a:gd name="textAreaTop" fmla="*/ 57600 h 2209680"/>
              <a:gd name="textAreaBottom" fmla="*/ 215208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9"/>
          <p:cNvSpPr/>
          <p:nvPr/>
        </p:nvSpPr>
        <p:spPr>
          <a:xfrm>
            <a:off x="7010280" y="2955960"/>
            <a:ext cx="190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人们永远纪念他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2941200" y="1143000"/>
            <a:ext cx="3198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宋体"/>
              </a:rPr>
              <a:t>制作    耕种    贡献    毒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3030840" y="3108240"/>
            <a:ext cx="3099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宋体"/>
              </a:rPr>
              <a:t>幸亏    断肠   寒冷    花茎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2941200" y="4876920"/>
            <a:ext cx="3198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宋体"/>
              </a:rPr>
              <a:t>治病    健康    品尝    纪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07"/>
          <p:cNvPicPr/>
          <p:nvPr/>
        </p:nvPicPr>
        <p:blipFill>
          <a:blip r:embed="rId1"/>
          <a:stretch/>
        </p:blipFill>
        <p:spPr>
          <a:xfrm>
            <a:off x="1111320" y="2362320"/>
            <a:ext cx="1022400" cy="1942920"/>
          </a:xfrm>
          <a:prstGeom prst="rect">
            <a:avLst/>
          </a:prstGeom>
          <a:ln w="0">
            <a:noFill/>
          </a:ln>
        </p:spPr>
      </p:pic>
      <p:sp>
        <p:nvSpPr>
          <p:cNvPr id="90" name="Text Box 3"/>
          <p:cNvSpPr/>
          <p:nvPr/>
        </p:nvSpPr>
        <p:spPr>
          <a:xfrm>
            <a:off x="1366920" y="3336840"/>
            <a:ext cx="4474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楷体_GB2312"/>
              </a:rPr>
              <a:t>治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4"/>
          <p:cNvSpPr/>
          <p:nvPr/>
        </p:nvSpPr>
        <p:spPr>
          <a:xfrm>
            <a:off x="2460600" y="3429000"/>
            <a:ext cx="8380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875040" y="3184560"/>
            <a:ext cx="406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</a:rPr>
              <a:t>（治理）（    ） （    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07"/>
          <p:cNvPicPr/>
          <p:nvPr/>
        </p:nvPicPr>
        <p:blipFill>
          <a:blip r:embed="rId1"/>
          <a:stretch/>
        </p:blipFill>
        <p:spPr>
          <a:xfrm>
            <a:off x="1111320" y="2362320"/>
            <a:ext cx="1022400" cy="1942920"/>
          </a:xfrm>
          <a:prstGeom prst="rect">
            <a:avLst/>
          </a:prstGeom>
          <a:ln w="0">
            <a:noFill/>
          </a:ln>
        </p:spPr>
      </p:pic>
      <p:sp>
        <p:nvSpPr>
          <p:cNvPr id="94" name="Text Box 3"/>
          <p:cNvSpPr/>
          <p:nvPr/>
        </p:nvSpPr>
        <p:spPr>
          <a:xfrm>
            <a:off x="1366920" y="3336840"/>
            <a:ext cx="4474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楷体_GB2312"/>
              </a:rPr>
              <a:t>健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4"/>
          <p:cNvSpPr/>
          <p:nvPr/>
        </p:nvSpPr>
        <p:spPr>
          <a:xfrm>
            <a:off x="2460600" y="3429000"/>
            <a:ext cx="8380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3646440" y="3184560"/>
            <a:ext cx="4524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</a:rPr>
              <a:t>（    ）（    ） （    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07"/>
          <p:cNvPicPr/>
          <p:nvPr/>
        </p:nvPicPr>
        <p:blipFill>
          <a:blip r:embed="rId1"/>
          <a:stretch/>
        </p:blipFill>
        <p:spPr>
          <a:xfrm>
            <a:off x="1111320" y="2362320"/>
            <a:ext cx="1022400" cy="1942920"/>
          </a:xfrm>
          <a:prstGeom prst="rect">
            <a:avLst/>
          </a:prstGeom>
          <a:ln w="0">
            <a:noFill/>
          </a:ln>
        </p:spPr>
      </p:pic>
      <p:sp>
        <p:nvSpPr>
          <p:cNvPr id="98" name="Text Box 3"/>
          <p:cNvSpPr/>
          <p:nvPr/>
        </p:nvSpPr>
        <p:spPr>
          <a:xfrm>
            <a:off x="1366920" y="3336840"/>
            <a:ext cx="4474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楷体_GB2312"/>
              </a:rPr>
              <a:t>帝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4"/>
          <p:cNvSpPr/>
          <p:nvPr/>
        </p:nvSpPr>
        <p:spPr>
          <a:xfrm>
            <a:off x="2460600" y="3429000"/>
            <a:ext cx="8380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3646440" y="3184560"/>
            <a:ext cx="4524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</a:rPr>
              <a:t>（    ）（    ） （    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533520" y="1355760"/>
            <a:ext cx="8001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zh-CN" sz="3000" spc="-1" strike="noStrike">
                <a:solidFill>
                  <a:srgbClr val="ff0000"/>
                </a:solidFill>
                <a:latin typeface="Arial"/>
              </a:rPr>
              <a:t>因为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神农是为人类的健康而死的，</a:t>
            </a:r>
            <a:r>
              <a:rPr b="0" lang="zh-CN" sz="3000" spc="-1" strike="noStrike">
                <a:solidFill>
                  <a:srgbClr val="ff0000"/>
                </a:solidFill>
                <a:latin typeface="Arial"/>
              </a:rPr>
              <a:t>所以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人们永远纪念他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609480" y="3809880"/>
            <a:ext cx="7848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宋体"/>
              </a:rPr>
              <a:t>　　</a:t>
            </a:r>
            <a:r>
              <a:rPr b="0" lang="zh-CN" sz="3000" spc="-1" strike="noStrike">
                <a:solidFill>
                  <a:srgbClr val="ff0000"/>
                </a:solidFill>
                <a:latin typeface="Arial"/>
              </a:rPr>
              <a:t>因为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宋体"/>
              </a:rPr>
              <a:t>__________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0" lang="zh-CN" sz="3000" spc="-1" strike="noStrike">
                <a:solidFill>
                  <a:srgbClr val="ff0000"/>
                </a:solidFill>
                <a:latin typeface="Arial"/>
              </a:rPr>
              <a:t>所以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宋体"/>
              </a:rPr>
              <a:t>_________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1828800" y="2590920"/>
            <a:ext cx="5410080" cy="7617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炎由两个“火”字组成，但上小下大，尤其注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上面“火”最后一笔改捺为点，要写得短小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4167360" y="533520"/>
            <a:ext cx="10692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</a:rPr>
              <a:t>在中国古代传说中，有一位太阳神</a:t>
            </a:r>
            <a:r>
              <a:rPr b="0" lang="zh-CN" sz="2500" spc="-1" strike="noStrike">
                <a:solidFill>
                  <a:srgbClr val="ff0000"/>
                </a:solidFill>
                <a:latin typeface="Arial"/>
              </a:rPr>
              <a:t>炎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</a:rPr>
              <a:t>帝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1828800" y="2514600"/>
            <a:ext cx="5410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“帝”字中的秃宝盖是写好这个字的关键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要托住上边，盖住下边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4088160" y="417600"/>
            <a:ext cx="10692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</a:rPr>
              <a:t>在中国古代传说中，有一位太阳神炎</a:t>
            </a:r>
            <a:r>
              <a:rPr b="0" lang="zh-CN" sz="2500" spc="-1" strike="noStrike">
                <a:solidFill>
                  <a:srgbClr val="ff0000"/>
                </a:solidFill>
                <a:latin typeface="Arial"/>
              </a:rPr>
              <a:t>帝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"/>
          <p:cNvSpPr/>
          <p:nvPr/>
        </p:nvSpPr>
        <p:spPr>
          <a:xfrm>
            <a:off x="1981080" y="2971800"/>
            <a:ext cx="541044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“病”字要注意病字头要抱住里边的字，里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是“丙”字，不要写成“两”字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1371600" y="441360"/>
            <a:ext cx="6400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</a:rPr>
              <a:t>　　神农对人类还有一个很大的贡献，就是发现了治疗疾</a:t>
            </a:r>
            <a:r>
              <a:rPr b="0" lang="zh-CN" sz="2500" spc="-1" strike="noStrike">
                <a:solidFill>
                  <a:srgbClr val="ff0000"/>
                </a:solidFill>
                <a:latin typeface="Arial"/>
              </a:rPr>
              <a:t>病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</a:rPr>
              <a:t>的各种草药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808200" y="1136520"/>
            <a:ext cx="761040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500" spc="-1" strike="noStrike">
                <a:solidFill>
                  <a:srgbClr val="000000"/>
                </a:solidFill>
                <a:latin typeface="楷体_GB2312"/>
              </a:rPr>
              <a:t>制  耕  贡  茎  寒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4123440" y="743040"/>
            <a:ext cx="92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ɡòn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6179400" y="762120"/>
            <a:ext cx="71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j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ī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n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1770120" y="4392720"/>
            <a:ext cx="589572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500" spc="-1" strike="noStrike">
                <a:solidFill>
                  <a:srgbClr val="000000"/>
                </a:solidFill>
                <a:latin typeface="楷体_GB2312"/>
              </a:rPr>
              <a:t>毒  幸  亏  肠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1566000" y="3962520"/>
            <a:ext cx="5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2286000" y="76212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ɡ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ē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n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8"/>
          <p:cNvSpPr/>
          <p:nvPr/>
        </p:nvSpPr>
        <p:spPr>
          <a:xfrm>
            <a:off x="5316840" y="3962520"/>
            <a:ext cx="6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ku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9"/>
          <p:cNvSpPr/>
          <p:nvPr/>
        </p:nvSpPr>
        <p:spPr>
          <a:xfrm>
            <a:off x="7028280" y="3962520"/>
            <a:ext cx="106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chán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0"/>
          <p:cNvSpPr/>
          <p:nvPr/>
        </p:nvSpPr>
        <p:spPr>
          <a:xfrm>
            <a:off x="380880" y="762120"/>
            <a:ext cx="76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zhì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1"/>
          <p:cNvSpPr/>
          <p:nvPr/>
        </p:nvSpPr>
        <p:spPr>
          <a:xfrm>
            <a:off x="8001360" y="7621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h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á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2"/>
          <p:cNvSpPr/>
          <p:nvPr/>
        </p:nvSpPr>
        <p:spPr>
          <a:xfrm>
            <a:off x="3318840" y="3962520"/>
            <a:ext cx="79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xì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n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838080" y="1217520"/>
            <a:ext cx="7620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在中国古代传说中，有一位太阳神</a:t>
            </a:r>
            <a:r>
              <a:rPr b="0" lang="zh-CN" sz="2800" spc="-1" strike="noStrike" u="sng">
                <a:solidFill>
                  <a:srgbClr val="3333cc"/>
                </a:solidFill>
                <a:uFillTx/>
                <a:latin typeface="Arial"/>
                <a:hlinkClick r:id="rId2" action="ppaction://hlinksldjump"/>
              </a:rPr>
              <a:t>炎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(y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á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n)</a:t>
            </a:r>
            <a:r>
              <a:rPr b="0" lang="zh-CN" sz="2800" spc="-1" strike="noStrike" u="sng">
                <a:solidFill>
                  <a:srgbClr val="3333cc"/>
                </a:solidFill>
                <a:uFillTx/>
                <a:latin typeface="宋体"/>
                <a:ea typeface="宋体"/>
                <a:hlinkClick r:id="rId3" action="ppaction://hlinksldjump"/>
              </a:rPr>
              <a:t>帝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(d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ì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他发现了稻、黍、稷、麦、豆等“五谷”，还制作了农具，教人们耕种和收割。人们尊称他为“神农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3735000" y="152280"/>
            <a:ext cx="29757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</a:rPr>
              <a:t>神农</a:t>
            </a:r>
            <a:r>
              <a:rPr b="0" lang="zh-CN" sz="3600" spc="-1" strike="noStrike" u="sng">
                <a:solidFill>
                  <a:srgbClr val="3333cc"/>
                </a:solidFill>
                <a:uFillTx/>
                <a:latin typeface="楷体_GB2312"/>
                <a:hlinkClick r:id="rId4" action="ppaction://hlinksldjump"/>
              </a:rPr>
              <a:t>尝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(ch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á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ɡ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</a:rPr>
              <a:t>百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0fa8e"/>
            </a:gs>
            <a:gs pos="100000">
              <a:srgbClr val="f4fdd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3333cc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3333cc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33cc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3333cc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33cc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3333cc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33cc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3333cc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33cc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3333cc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33cc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3333cc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33cc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3333cc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33cc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3333cc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33cc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355A3-BB5A-4DC0-93AC-7B8271B42EA7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495360" y="914400"/>
            <a:ext cx="819144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神农对人类还有一个很大的贡献，就是发现了治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(zh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ì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疗疾</a:t>
            </a:r>
            <a:r>
              <a:rPr b="0" lang="zh-CN" sz="2800" spc="-1" strike="noStrike" u="sng">
                <a:solidFill>
                  <a:srgbClr val="3333cc"/>
                </a:solidFill>
                <a:uFillTx/>
                <a:latin typeface="Arial"/>
                <a:hlinkClick r:id="rId2" action="ppaction://hlinksldjump"/>
              </a:rPr>
              <a:t>病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(b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ì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ɡ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各种草药。他走遍山山水水，品尝各种植物的根、茎、叶、花、果，看它们是苦是甜，是寒是热。为此，他曾经一天里中毒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</a:rPr>
              <a:t>7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次，幸亏他及时吃下解毒药，才没有被毒死。神农摸清了百草的药性，配成药方，传给后人。于是，人类有了医治病痛的办法，能更健康地生活和劳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文本框 1"/>
          <p:cNvSpPr/>
          <p:nvPr/>
        </p:nvSpPr>
        <p:spPr>
          <a:xfrm>
            <a:off x="1798560" y="5321160"/>
            <a:ext cx="6465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609480" y="205740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一次，神农尝了“断肠草”。这种草有毒，他来不及吃解毒药，就中毒死了！神农是为人类的健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(ji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à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n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康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(k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ā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ɡ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而死的，人们永远纪念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476280" y="914400"/>
            <a:ext cx="819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在中国古代传说中，有一位太阳神炎帝。他发现了稻、黍、稷、麦、豆等“五谷”，还制作了农具，教人们耕种和收割。人们尊称他为“神农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3"/>
          <p:cNvSpPr/>
          <p:nvPr/>
        </p:nvSpPr>
        <p:spPr>
          <a:xfrm>
            <a:off x="1181160" y="2590920"/>
            <a:ext cx="6781680" cy="6858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介绍神农及其名字的由来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3780000" y="15228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</a:rPr>
              <a:t>神农尝百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534960" y="3154320"/>
            <a:ext cx="6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神农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2195640" y="1924200"/>
            <a:ext cx="109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发现五谷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5335560" y="1924200"/>
            <a:ext cx="109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制作农具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5"/>
          <p:cNvSpPr/>
          <p:nvPr/>
        </p:nvSpPr>
        <p:spPr>
          <a:xfrm>
            <a:off x="1371600" y="2286000"/>
            <a:ext cx="152280" cy="2286000"/>
          </a:xfrm>
          <a:custGeom>
            <a:avLst/>
            <a:gdLst>
              <a:gd name="textAreaLeft" fmla="*/ 97200 w 152280"/>
              <a:gd name="textAreaRight" fmla="*/ 152640 w 15228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495360" y="914400"/>
            <a:ext cx="819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神农对人类还有一个很大的贡献，就是发现了治疗疾病的各种草药。他走遍山山水水，品尝各种植物的根、茎、叶、花、果，看它们是苦是甜，是寒是热。为此，他曾经一天里中毒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</a:rPr>
              <a:t>7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次，幸亏他及时吃下解毒药，才没有被毒死。神农摸清了百草的药性，配成药方，传给后人。于是，人类有了医治病痛的办法，能更健康地生活和劳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3"/>
          <p:cNvSpPr/>
          <p:nvPr/>
        </p:nvSpPr>
        <p:spPr>
          <a:xfrm>
            <a:off x="4952880" y="1828800"/>
            <a:ext cx="342900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4"/>
          <p:cNvSpPr/>
          <p:nvPr/>
        </p:nvSpPr>
        <p:spPr>
          <a:xfrm>
            <a:off x="609480" y="2286000"/>
            <a:ext cx="60984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5"/>
          <p:cNvSpPr/>
          <p:nvPr/>
        </p:nvSpPr>
        <p:spPr>
          <a:xfrm>
            <a:off x="5943600" y="2666880"/>
            <a:ext cx="60948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4876920" y="4572000"/>
            <a:ext cx="396216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　　神农如何发现草药，配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药方，帮人们解除疾痛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7"/>
          <p:cNvSpPr/>
          <p:nvPr/>
        </p:nvSpPr>
        <p:spPr>
          <a:xfrm>
            <a:off x="3048120" y="1371600"/>
            <a:ext cx="3200400" cy="0"/>
          </a:xfrm>
          <a:prstGeom prst="line">
            <a:avLst/>
          </a:prstGeom>
          <a:ln w="1908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dur="indefinite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dur="indefinite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500"/>
                            </p:stCondLst>
                            <p:childTnLst>
                              <p:par>
                                <p:cTn id="63" dur="indefinite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矩形 11"/>
          <p:cNvSpPr/>
          <p:nvPr/>
        </p:nvSpPr>
        <p:spPr>
          <a:xfrm>
            <a:off x="3230640" y="603360"/>
            <a:ext cx="733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"/>
          <p:cNvSpPr/>
          <p:nvPr/>
        </p:nvSpPr>
        <p:spPr>
          <a:xfrm>
            <a:off x="534960" y="3154320"/>
            <a:ext cx="6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神农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2195640" y="1924200"/>
            <a:ext cx="109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发现五谷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5259240" y="1924200"/>
            <a:ext cx="109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制作农具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2195640" y="3886200"/>
            <a:ext cx="109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遍尝百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5259240" y="3886200"/>
            <a:ext cx="109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配制药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7"/>
          <p:cNvSpPr/>
          <p:nvPr/>
        </p:nvSpPr>
        <p:spPr>
          <a:xfrm>
            <a:off x="838080" y="152280"/>
            <a:ext cx="5181840" cy="1143000"/>
          </a:xfrm>
          <a:prstGeom prst="cloudCallout">
            <a:avLst>
              <a:gd name="adj1" fmla="val -58148"/>
              <a:gd name="adj2" fmla="val 122083"/>
            </a:avLst>
          </a:prstGeom>
          <a:solidFill>
            <a:srgbClr val="ff99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如果神农没有发现五谷和草药，人类的生活会怎样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8"/>
          <p:cNvSpPr/>
          <p:nvPr/>
        </p:nvSpPr>
        <p:spPr>
          <a:xfrm>
            <a:off x="1371600" y="2286000"/>
            <a:ext cx="152280" cy="2286000"/>
          </a:xfrm>
          <a:custGeom>
            <a:avLst/>
            <a:gdLst>
              <a:gd name="textAreaLeft" fmla="*/ 97200 w 152280"/>
              <a:gd name="textAreaRight" fmla="*/ 152640 w 15228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609480" y="205740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一次，神农尝了“断肠草”。这种草有毒，他来不及吃解毒药，就中毒死了！神农是为人类的健康而死的，人们永远纪念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3"/>
          <p:cNvSpPr/>
          <p:nvPr/>
        </p:nvSpPr>
        <p:spPr>
          <a:xfrm>
            <a:off x="1866960" y="4038480"/>
            <a:ext cx="5410080" cy="1219320"/>
          </a:xfrm>
          <a:prstGeom prst="ellipse">
            <a:avLst/>
          </a:prstGeom>
          <a:solidFill>
            <a:srgbClr val="89ff8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　　神农因为尝“断肠草”中毒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死，人们永远纪念他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4T02:28:34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1:06:40Z</dcterms:modified>
  <cp:revision>126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  <property fmtid="{D5CDD505-2E9C-101B-9397-08002B2CF9AE}" pid="3" name="Version">
    <vt:r8>1</vt:r8>
  </property>
</Properties>
</file>