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FDA-E786-4AE6-8BFD-55C28B5C59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66F-7E18-4373-8ECA-04E3145B92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7DC-9962-4371-BF1E-411985A5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4F8-513C-4F95-81CC-5F3FB22B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207-7206-4836-9F7E-A6E8D4E9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260-C002-425C-8228-D8F55F94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945-20C9-4517-86E3-A54AC051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1F4-B884-4C98-8445-331F325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FE2-7918-4849-8322-0708BF6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2E1-1673-457C-B4A9-1BD47EDF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94D-2F7C-4C62-9094-5AA1D7C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80D-93B7-4237-A613-FA876E25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572-7C7F-4C86-B0C3-063A67A8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B4A-5558-4E1A-88A1-7A1C5093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5620-F528-4059-BDB2-B87538334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rcRect l="0" t="0" r="11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400560" y="947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42920" y="1628640"/>
            <a:ext cx="7129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生日快乐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95280" y="1012680"/>
            <a:ext cx="8136000" cy="2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湘教版）二年级语文下册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71900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2481-3CD8-4A63-8737-1AF795DDAD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同学们会唱生日快乐歌吗？谁能把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祝你生日快乐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的歌词写下来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531720" y="5157720"/>
            <a:ext cx="73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本课生字，并要求会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“城市”“欢迎”“街道”“交汇”等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课文内容，明白文章讲了些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司机以关爱他人为乐的美好品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0" y="2757600"/>
            <a:ext cx="9144000" cy="41004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1476360" y="476280"/>
            <a:ext cx="339084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习生字</a:t>
            </a:r>
            <a:endParaRPr b="1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多音字注音组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乐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{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u=3431241941,1152541310&amp;gp=0"/>
          <p:cNvPicPr/>
          <p:nvPr/>
        </p:nvPicPr>
        <p:blipFill>
          <a:blip r:embed="rId1"/>
          <a:stretch/>
        </p:blipFill>
        <p:spPr>
          <a:xfrm>
            <a:off x="179280" y="2492280"/>
            <a:ext cx="4119840" cy="436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u=3431241941,1152541310&amp;gp=0"/>
          <p:cNvPicPr/>
          <p:nvPr/>
        </p:nvPicPr>
        <p:blipFill>
          <a:blip r:embed="rId2"/>
          <a:stretch/>
        </p:blipFill>
        <p:spPr>
          <a:xfrm>
            <a:off x="5024520" y="0"/>
            <a:ext cx="4119480" cy="4365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508040" y="55404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课文，说说司机和男孩的快乐有什么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28240" y="3305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司机的快乐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025680" y="100008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男孩的快乐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4"/>
          <p:cNvSpPr txBox="1"/>
          <p:nvPr/>
        </p:nvSpPr>
        <p:spPr>
          <a:xfrm>
            <a:off x="1835280" y="0"/>
            <a:ext cx="245736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作业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2133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议一议，对这样一位可怜的孤儿，我们该为他做点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请你对司机叔叔说几名话，你最想说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生活中，你见过哪些人曾经给别人以关爱。你遇到过需要帮助的人吗？你又是怎样做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571680" y="906480"/>
            <a:ext cx="27810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交流学习</a:t>
            </a:r>
            <a:endParaRPr b="1" lang="en-US" sz="5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5:49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29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