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media/image26.jpeg" ContentType="image/jpeg"/>
  <Override PartName="/ppt/media/image23.png" ContentType="image/png"/>
  <Override PartName="/ppt/media/image20.gif" ContentType="image/gif"/>
  <Override PartName="/ppt/media/image1.png" ContentType="image/png"/>
  <Override PartName="/ppt/media/image24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792B-681B-4D2F-9953-1F0A77A76D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1C87-D50E-4458-B113-C48862457A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AA7-640B-4CA4-A0CF-EE392A2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2B5-A11E-49CE-BAC9-93D78A2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210-C379-4CD4-B8EB-A1AA569E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157-BDDA-4580-B20E-D46A2879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571-D3E1-4CB3-958D-8CA78C1E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027-47BF-4C6A-A906-26E23CA3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E22-0611-4409-B38F-911860D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0F1-0435-40C9-ADE7-C227FA78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C76-7190-409C-9368-188C82B1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21C-05CB-438E-AC8F-7882FC9E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B81-6374-44C9-9E0D-34C3611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230-C395-456F-A69B-F552D5F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80A-103A-4337-A682-9BE351198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542400.com/waiting/pic/yuanhang004.gif" TargetMode="External"/><Relationship Id="rId3" Type="http://schemas.openxmlformats.org/officeDocument/2006/relationships/image" Target="../media/image14.gif"/><Relationship Id="rId4" Type="http://schemas.openxmlformats.org/officeDocument/2006/relationships/hyperlink" Target="http://www.542400.com/waiting/pic/yuanhang004.gif" TargetMode="External"/><Relationship Id="rId5" Type="http://schemas.openxmlformats.org/officeDocument/2006/relationships/image" Target="../media/image14.gif"/><Relationship Id="rId6" Type="http://schemas.openxmlformats.org/officeDocument/2006/relationships/hyperlink" Target="http://www.542400.com/waiting/pic/yuanhang004.gif" TargetMode="External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2" descr="a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按钮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753160"/>
            <a:ext cx="171432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7" descr=""/>
          <p:cNvPicPr/>
          <p:nvPr/>
        </p:nvPicPr>
        <p:blipFill>
          <a:blip r:embed="rId4"/>
          <a:stretch/>
        </p:blipFill>
        <p:spPr>
          <a:xfrm>
            <a:off x="320760" y="2349360"/>
            <a:ext cx="5829120" cy="1417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4"/>
          <p:cNvSpPr/>
          <p:nvPr/>
        </p:nvSpPr>
        <p:spPr>
          <a:xfrm>
            <a:off x="285840" y="5508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湘教版二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277560" y="6113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2套5册_页面_005_图像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619280" y="2902320"/>
            <a:ext cx="75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小青藤高兴极了，他使劲往上一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蹿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攀住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了小松树的腰，不断地向上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爬呀爬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远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513240"/>
            <a:ext cx="1324080" cy="102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远航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3513240"/>
            <a:ext cx="132408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远航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80360" y="3645000"/>
            <a:ext cx="1324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5" descr="2套5册_页面_014_图像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821600" y="2490840"/>
            <a:ext cx="55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终于，在一个明媚的清晨，小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藤也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兴高采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地嚷开了：“啊，太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，我看到了辽阔的大海，绿色的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屿，还有航船上飘扬的旗帜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KBSC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258920" y="1125000"/>
            <a:ext cx="6851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比较句子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我看到了大海、岛屿、旗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我看到了辽阔的大海，绿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的岛屿，还有航船上飘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　旗帜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中国的月亮 电子琴独奏 牛气.mp3" descr=""/>
          <p:cNvPicPr/>
          <p:nvPr/>
        </p:nvPicPr>
        <p:blipFill>
          <a:blip r:embed="rId2"/>
          <a:stretch/>
        </p:blipFill>
        <p:spPr>
          <a:xfrm>
            <a:off x="939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9348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月光曲伴奏1.mp3" descr=""/>
          <p:cNvPicPr/>
          <p:nvPr/>
        </p:nvPicPr>
        <p:blipFill>
          <a:blip r:embed="rId2"/>
          <a:stretch/>
        </p:blipFill>
        <p:spPr>
          <a:xfrm>
            <a:off x="8263080" y="597708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海豚GIF动画图片"/>
          <p:cNvPicPr/>
          <p:nvPr/>
        </p:nvPicPr>
        <p:blipFill>
          <a:blip r:embed="rId3"/>
          <a:stretch/>
        </p:blipFill>
        <p:spPr>
          <a:xfrm>
            <a:off x="5003640" y="6037200"/>
            <a:ext cx="7207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2018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海豚GIF动画图片"/>
          <p:cNvPicPr/>
          <p:nvPr/>
        </p:nvPicPr>
        <p:blipFill>
          <a:blip r:embed="rId2"/>
          <a:stretch/>
        </p:blipFill>
        <p:spPr>
          <a:xfrm>
            <a:off x="684360" y="2637000"/>
            <a:ext cx="3671640" cy="2763720"/>
          </a:xfrm>
          <a:prstGeom prst="rect">
            <a:avLst/>
          </a:prstGeom>
          <a:ln w="0">
            <a:noFill/>
          </a:ln>
        </p:spPr>
      </p:pic>
      <p:pic>
        <p:nvPicPr>
          <p:cNvPr id="86" name="中国的月亮 电子琴独奏 牛气.mp3" descr=""/>
          <p:cNvPicPr/>
          <p:nvPr/>
        </p:nvPicPr>
        <p:blipFill>
          <a:blip r:embed="rId3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9348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3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769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KBS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700360" y="692280"/>
            <a:ext cx="59752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我还看到了（　  ）的（　　）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（　　）的（　　）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...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4418280" y="1413000"/>
            <a:ext cx="3310920" cy="2071800"/>
            <a:chOff x="4418280" y="1413000"/>
            <a:chExt cx="3310920" cy="2071800"/>
          </a:xfrm>
        </p:grpSpPr>
        <p:sp>
          <p:nvSpPr>
            <p:cNvPr id="92" name="Text Box 8"/>
            <p:cNvSpPr/>
            <p:nvPr/>
          </p:nvSpPr>
          <p:spPr>
            <a:xfrm>
              <a:off x="6794640" y="1413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5320b"/>
                  </a:solidFill>
                  <a:latin typeface="Arial"/>
                </a:rPr>
                <a:t>美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4418280" y="1989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5320b"/>
                  </a:solidFill>
                  <a:latin typeface="Arial"/>
                </a:rPr>
                <a:t>海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6939000" y="21337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5320b"/>
                  </a:solidFill>
                  <a:latin typeface="Arial"/>
                </a:rPr>
                <a:t>跳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4418280" y="2781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5320b"/>
                  </a:solidFill>
                  <a:latin typeface="Arial"/>
                </a:rPr>
                <a:t>海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1"/>
          <p:cNvSpPr/>
          <p:nvPr/>
        </p:nvSpPr>
        <p:spPr>
          <a:xfrm>
            <a:off x="2978280" y="464976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BDC-D906-4A5F-9BDD-D87B281226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套5册_页面_015_图像_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928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āng         ch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ài    fán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ǐ jìn</a:t>
            </a:r>
            <a:br>
              <a:rPr sz="24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 冈        初 升        耐 烦       使 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kuò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ǎo               y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辽 阔        岛 屿        拥  抱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7" descr="2套5册_页面_032_图像_0001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4"/>
          <p:cNvSpPr/>
          <p:nvPr/>
        </p:nvSpPr>
        <p:spPr>
          <a:xfrm>
            <a:off x="250920" y="206064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一天清早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小松树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高兴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地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伙伴们说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啊，我看到大海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我看到初升的太阳了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2" descr="1套7册_页面_030_图像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52280" y="954000"/>
            <a:ext cx="899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松树身边的小杉树踮起脚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嚷嚷着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看到了，看到了！有飞翔的海鸥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翻滚的波涛，还有点点白帆</a:t>
            </a: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971640" y="45298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套7册_页面_024_图像_0001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0" y="333000"/>
            <a:ext cx="8748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“杉树哥哥，请您扶我一把，让我看一眼美丽的大海。”一个微弱的声音，从地面上传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套7册_页面_038_图像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79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杉树低头一看，原来是一根幼小的青藤。小杉树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不耐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地说：“哎呀，你这么瘦小，站都站不稳，也想看大海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692280"/>
            <a:ext cx="7020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看着小青藤难过的样子，小松树俯身对青藤说：“来呀，小青藤，你就顺着我的身子爬上来吧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3:41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17Z</dcterms:modified>
  <cp:revision>8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