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自定义放映 1" id="0">
      <p:sldLst>
        <p:sld r:id="rId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  <p:custShow name="自定义放映 2" id="1">
      <p:sldLst>
        <p:sld r:id="rId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A52-843F-4722-858D-60B55C7A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62760"/>
            <a:ext cx="81532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123-B591-4CBD-82CE-99171836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17D-8B4D-42C0-BB13-42210803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259092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259092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6276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26276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26276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97F-BC4E-475D-AACC-2BB1B511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10A-0ED1-4E4C-9232-E37DDCB3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F3D-7D85-4251-A40D-01D60650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184-1A8C-41EC-B51C-501C5448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A6D-9AB5-4D87-A47C-3A3AAC1A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9A7-F856-4A2F-98C5-884F98C5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4B2-33FE-47AB-B5B5-27C3880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B9E-D562-4AE5-9F23-84B9687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62760"/>
            <a:ext cx="81532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951-889C-4AF9-BA83-2981859C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DEDE-05F6-46E1-85E0-38EEE3EEC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图片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3"/>
          <a:stretch/>
        </p:blipFill>
        <p:spPr>
          <a:xfrm>
            <a:off x="882720" y="942840"/>
            <a:ext cx="7304040" cy="3043440"/>
          </a:xfrm>
          <a:prstGeom prst="rect">
            <a:avLst/>
          </a:prstGeom>
          <a:ln w="0">
            <a:noFill/>
          </a:ln>
        </p:spPr>
      </p:pic>
      <p:sp>
        <p:nvSpPr>
          <p:cNvPr id="43" name="矩形 3"/>
          <p:cNvSpPr/>
          <p:nvPr/>
        </p:nvSpPr>
        <p:spPr>
          <a:xfrm>
            <a:off x="1447920" y="58006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4956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自学指导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1337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的题目是“生死攸关的烛光”，读过全文，你认为从哪些语句可以体会到“生死攸关”？请同学们用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画出并反复朗读、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5335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瑙德夫人知道，蜡烛燃到金属管处就会自动熄灭，情报就会泄露，同时也意味着他们一家三口的生命将告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时此刻，它仿佛成了这间房子里最可怕的东西。伯瑙德夫人的心提到了嗓子眼儿，她似乎感到德军那几双饿狼般的眼睛都盯在越来越短的蜡烛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当她踏上最后一阶楼梯时，蜡烛熄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429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33"/>
                </a:solidFill>
                <a:latin typeface="Arial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9051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学习作者通过人物的动作、语言、神态、心理活动来表现人物品质的写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感受伯瑙德夫人一家在危急关头镇定从容、机智勇敢和他们的爱国主义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自学指导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大声朗读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—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自然段回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伯瑙德夫人保存的是一份怎样的情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伯瑙德夫人想了个什么绝妙的主意把情报藏起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她想到了个绝妙的办法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把装着情报的金属管藏在半截蜡烛中，外面小心地用蜡封好，然后把蜡烛插在一个金属烛台上。由于蜡烛摆在显眼的桌子上，反而骗过了几次严密的搜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2666880" y="2133720"/>
            <a:ext cx="167652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绝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295280" y="46483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分钟后看谁回答的最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大声朗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3—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然段，理解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90720" y="24382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仿宋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走进课文，关注伯瑙德夫人一家的命运。请大家看看故事情节发生了几次令人紧张的变化？请在文段中用波浪线划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0" y="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自学指导（二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600200" y="50292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分钟后看谁的回答最精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533520" y="1219320"/>
            <a:ext cx="7315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次令人紧张的变化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这时，那位情报部的中尉顺手拿过藏有情报的蜡烛，点燃后放到长官面前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那位中尉又把冒着青烟的烛芯重新点燃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中尉快步赶上前，厉声喝道：‘你不用灯就不行吗？’一手把烛台夺回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09480" y="1447920"/>
            <a:ext cx="60962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这些危机关头，伯瑙德夫人一家是如何与德军周旋的呢？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钟后展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2004424221427"/>
          <p:cNvPicPr/>
          <p:nvPr/>
        </p:nvPicPr>
        <p:blipFill>
          <a:blip r:embed="rId1"/>
          <a:stretch/>
        </p:blipFill>
        <p:spPr>
          <a:xfrm>
            <a:off x="6553080" y="0"/>
            <a:ext cx="228600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28600" y="34290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伯瑙德夫人：取出油灯，吹熄蜡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儿子雅克：借口搬柴，端走烛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女儿杰奎琳：推说睡觉，拿走蜡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04920" y="2286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自学指导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38120" y="152388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选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3429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这些描写体现了这一家人的什么精神品质呢？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分钟后展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xxyw5apage67"/>
          <p:cNvPicPr/>
          <p:nvPr/>
        </p:nvPicPr>
        <p:blipFill>
          <a:blip r:embed="rId1"/>
          <a:stretch/>
        </p:blipFill>
        <p:spPr>
          <a:xfrm>
            <a:off x="838080" y="914400"/>
            <a:ext cx="3048120" cy="2216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886200" y="53352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自学指导（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8380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伯瑙德夫人</a:t>
            </a: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23619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仿宋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看着两个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脸色苍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儿女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急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厨房中取出一盏油灯放在桌上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瞧，先生们，这盏灯亮些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轻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蜡烛吹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t_102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352680" y="5181480"/>
            <a:ext cx="2743200" cy="764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沉着冷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儿子雅克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274320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儿子雅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慢慢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站起来，“天真冷，我到柴房去搬些柴来生个火吧。”说着伸手端起烛台朝门口走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从容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搬回一捆木柴，生了火，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默默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坐待最后的时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g_cha_p_06"/>
          <p:cNvPicPr/>
          <p:nvPr/>
        </p:nvPicPr>
        <p:blipFill>
          <a:blip r:embed="rId1"/>
          <a:stretch/>
        </p:blipFill>
        <p:spPr>
          <a:xfrm>
            <a:off x="4952880" y="1143000"/>
            <a:ext cx="213372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429000" y="5715000"/>
            <a:ext cx="3124080" cy="764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勇敢、沉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次世界大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，以德国、意大利、日本法西斯轴心国为一方，以反法西斯同盟和全世界反法西斯力量为另一方进行的，人类历史上迄今为止规模最大的全球性战争。从欧洲到亚洲，从大西洋到太平洋，先后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国家和地区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以上的人口被卷入战争，作战区域面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平方千米。据不完全统计，战争中军民共伤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余万人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多亿美元付诸流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99072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女儿杰奎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2093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女儿杰奎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娇声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德国人说道：“司令官先生，天晚了，楼上黑，我可以拿一盏灯上楼睡觉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杰奎琳仰起小脸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兴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：“那太好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过，司令官先生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今晚我的头很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想睡觉了，下次您再给我讲好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杰奎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镇定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烛台端起来，向几位军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道过晚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上楼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U1286P55T4D73188F50DT20051021162333_160small"/>
          <p:cNvPicPr/>
          <p:nvPr/>
        </p:nvPicPr>
        <p:blipFill>
          <a:blip r:embed="rId1"/>
          <a:stretch/>
        </p:blipFill>
        <p:spPr>
          <a:xfrm>
            <a:off x="5105520" y="990720"/>
            <a:ext cx="1371600" cy="10540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2514600" y="5943600"/>
            <a:ext cx="3962520" cy="703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机智勇敢，聪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027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771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4496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伯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瑙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德夫人一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124080" y="2895120"/>
            <a:ext cx="3276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镇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勇敢机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热爱祖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2004424221427"/>
          <p:cNvPicPr/>
          <p:nvPr/>
        </p:nvPicPr>
        <p:blipFill>
          <a:blip r:embed="rId1"/>
          <a:stretch/>
        </p:blipFill>
        <p:spPr>
          <a:xfrm>
            <a:off x="5943600" y="1371600"/>
            <a:ext cx="228600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2666880" y="3048120"/>
            <a:ext cx="5029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伯瑙德夫人：取出油灯，吹熄蜡烛。    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子雅克：借口搬柴，端走烛台。   失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女儿杰奎琳：推说睡觉，拿走蜡烛。   成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380880" y="1447920"/>
            <a:ext cx="4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生死攸关的烛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左大括号 7"/>
          <p:cNvSpPr/>
          <p:nvPr/>
        </p:nvSpPr>
        <p:spPr>
          <a:xfrm>
            <a:off x="1143000" y="1600200"/>
            <a:ext cx="152280" cy="396252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3962520"/>
              <a:gd name="textAreaBottom" fmla="*/ 3958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5400" y="10800"/>
                  <a:pt x="0" y="10800"/>
                </a:cubicBezTo>
                <a:cubicBezTo>
                  <a:pt x="54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1295280" y="1905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述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把情报藏在半截蜡烛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1143000" y="38098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述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—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左大括号 11"/>
          <p:cNvSpPr/>
          <p:nvPr/>
        </p:nvSpPr>
        <p:spPr>
          <a:xfrm>
            <a:off x="2438280" y="3048120"/>
            <a:ext cx="457200" cy="2819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2819160"/>
              <a:gd name="textAreaBottom" fmla="*/ 28072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6"/>
                  <a:pt x="10800" y="291"/>
                </a:cubicBezTo>
                <a:lnTo>
                  <a:pt x="10800" y="10509"/>
                </a:lnTo>
                <a:cubicBezTo>
                  <a:pt x="10800" y="10655"/>
                  <a:pt x="5400" y="10800"/>
                  <a:pt x="0" y="10800"/>
                </a:cubicBezTo>
                <a:cubicBezTo>
                  <a:pt x="5400" y="10800"/>
                  <a:pt x="10800" y="10946"/>
                  <a:pt x="10800" y="11091"/>
                </a:cubicBezTo>
                <a:lnTo>
                  <a:pt x="10800" y="21309"/>
                </a:lnTo>
                <a:cubicBezTo>
                  <a:pt x="10800" y="2145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右大括号 14"/>
          <p:cNvSpPr/>
          <p:nvPr/>
        </p:nvSpPr>
        <p:spPr>
          <a:xfrm>
            <a:off x="7467480" y="1828800"/>
            <a:ext cx="381240" cy="3886200"/>
          </a:xfrm>
          <a:custGeom>
            <a:avLst/>
            <a:gdLst>
              <a:gd name="textAreaLeft" fmla="*/ 0 w 381240"/>
              <a:gd name="textAreaRight" fmla="*/ 137520 w 381240"/>
              <a:gd name="textAreaTop" fmla="*/ 9720 h 3886200"/>
              <a:gd name="textAreaBottom" fmla="*/ 387648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8"/>
                  <a:pt x="10800" y="176"/>
                </a:cubicBezTo>
                <a:lnTo>
                  <a:pt x="10800" y="10624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8"/>
                  <a:pt x="10800" y="10976"/>
                </a:cubicBezTo>
                <a:lnTo>
                  <a:pt x="10800" y="21424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317720" y="3048120"/>
            <a:ext cx="1826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热爱祖国机智勇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直接箭头连接符 13"/>
          <p:cNvCxnSpPr/>
          <p:nvPr/>
        </p:nvCxnSpPr>
        <p:spPr>
          <a:xfrm>
            <a:off x="4495320" y="3733560"/>
            <a:ext cx="381960" cy="1080"/>
          </a:xfrm>
          <a:prstGeom prst="straightConnector1">
            <a:avLst/>
          </a:prstGeom>
          <a:ln w="38160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40" name="直接箭头连接符 17"/>
          <p:cNvCxnSpPr/>
          <p:nvPr/>
        </p:nvCxnSpPr>
        <p:spPr>
          <a:xfrm>
            <a:off x="4038120" y="4647960"/>
            <a:ext cx="381960" cy="1080"/>
          </a:xfrm>
          <a:prstGeom prst="straightConnector1">
            <a:avLst/>
          </a:prstGeom>
          <a:ln w="38160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41" name="直接箭头连接符 18"/>
          <p:cNvCxnSpPr/>
          <p:nvPr/>
        </p:nvCxnSpPr>
        <p:spPr>
          <a:xfrm>
            <a:off x="4723920" y="5638320"/>
            <a:ext cx="381960" cy="1080"/>
          </a:xfrm>
          <a:prstGeom prst="straightConnector1">
            <a:avLst/>
          </a:prstGeom>
          <a:ln w="38160">
            <a:solidFill>
              <a:srgbClr val="008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76720" y="1447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续编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2895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本文故事情节发展到高潮处戛然而止：当杰奎琳踏上最后一级阶梯时，蜡烛熄灭了。故事还会怎样发展呢？请你展开想象，续编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04d"/>
          <p:cNvPicPr/>
          <p:nvPr/>
        </p:nvPicPr>
        <p:blipFill>
          <a:blip r:embed="rId1"/>
          <a:stretch/>
        </p:blipFill>
        <p:spPr>
          <a:xfrm>
            <a:off x="1981080" y="144792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304920" y="167652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主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课文讲述的是（                  ）期间，（    ）一家（        ）机智勇敢地保护装有情报的（         ）的事迹，歌颂了（    ）崇高的（        ）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762120" y="1600200"/>
            <a:ext cx="8076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主题归纳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课文通过讲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第二次世界大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期间，（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法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家（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母子三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机智勇敢地（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保护藏有情报的半截蜡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事迹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歌颂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法国人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崇高的（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爱国主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精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0" y="0"/>
            <a:ext cx="304812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情节曲线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533520" y="3429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曲线连接符 4"/>
          <p:cNvCxnSpPr/>
          <p:nvPr/>
        </p:nvCxnSpPr>
        <p:spPr>
          <a:xfrm flipV="1">
            <a:off x="1143000" y="3123720"/>
            <a:ext cx="457920" cy="457920"/>
          </a:xfrm>
          <a:prstGeom prst="straightConnector1">
            <a:avLst/>
          </a:prstGeom>
          <a:ln w="28440">
            <a:solidFill>
              <a:srgbClr val="008000"/>
            </a:solidFill>
            <a:round/>
            <a:tailEnd len="med" type="triangle" w="med"/>
          </a:ln>
        </p:spPr>
      </p:cxnSp>
      <p:sp>
        <p:nvSpPr>
          <p:cNvPr id="150" name="TextBox 7"/>
          <p:cNvSpPr/>
          <p:nvPr/>
        </p:nvSpPr>
        <p:spPr>
          <a:xfrm>
            <a:off x="1523880" y="2666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点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形标注 8"/>
          <p:cNvSpPr/>
          <p:nvPr/>
        </p:nvSpPr>
        <p:spPr>
          <a:xfrm>
            <a:off x="304920" y="3429000"/>
            <a:ext cx="1066680" cy="762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4572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形标注 11"/>
          <p:cNvSpPr/>
          <p:nvPr/>
        </p:nvSpPr>
        <p:spPr>
          <a:xfrm>
            <a:off x="1600200" y="2590920"/>
            <a:ext cx="1066680" cy="761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形标注 12"/>
          <p:cNvSpPr/>
          <p:nvPr/>
        </p:nvSpPr>
        <p:spPr>
          <a:xfrm>
            <a:off x="2895480" y="3657600"/>
            <a:ext cx="1067040" cy="762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形标注 13"/>
          <p:cNvSpPr/>
          <p:nvPr/>
        </p:nvSpPr>
        <p:spPr>
          <a:xfrm>
            <a:off x="4191120" y="2514600"/>
            <a:ext cx="1676160" cy="838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15238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点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曲线连接符 15"/>
          <p:cNvCxnSpPr/>
          <p:nvPr/>
        </p:nvCxnSpPr>
        <p:spPr>
          <a:xfrm>
            <a:off x="2438280" y="3200040"/>
            <a:ext cx="534240" cy="686520"/>
          </a:xfrm>
          <a:prstGeom prst="straightConnector1">
            <a:avLst/>
          </a:prstGeom>
          <a:ln w="28440">
            <a:solidFill>
              <a:srgbClr val="008000"/>
            </a:solidFill>
            <a:round/>
            <a:tailEnd len="med" type="triangle" w="med"/>
          </a:ln>
        </p:spPr>
      </p:cxnSp>
      <p:sp>
        <p:nvSpPr>
          <p:cNvPr id="158" name="TextBox 17"/>
          <p:cNvSpPr/>
          <p:nvPr/>
        </p:nvSpPr>
        <p:spPr>
          <a:xfrm>
            <a:off x="289548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吹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曲线连接符 20"/>
          <p:cNvCxnSpPr/>
          <p:nvPr/>
        </p:nvCxnSpPr>
        <p:spPr>
          <a:xfrm flipV="1">
            <a:off x="3580200" y="3123360"/>
            <a:ext cx="686520" cy="686520"/>
          </a:xfrm>
          <a:prstGeom prst="straightConnector1">
            <a:avLst/>
          </a:prstGeom>
          <a:ln w="28440">
            <a:solidFill>
              <a:srgbClr val="008000"/>
            </a:solidFill>
            <a:round/>
            <a:tailEnd len="med" type="arrow" w="med"/>
          </a:ln>
        </p:spPr>
      </p:cxnSp>
      <p:sp>
        <p:nvSpPr>
          <p:cNvPr id="160" name="TextBox 26"/>
          <p:cNvSpPr/>
          <p:nvPr/>
        </p:nvSpPr>
        <p:spPr>
          <a:xfrm>
            <a:off x="4191120" y="2590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又点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曲线连接符 27"/>
          <p:cNvCxnSpPr/>
          <p:nvPr/>
        </p:nvCxnSpPr>
        <p:spPr>
          <a:xfrm>
            <a:off x="5562360" y="3276720"/>
            <a:ext cx="686520" cy="457920"/>
          </a:xfrm>
          <a:prstGeom prst="straightConnector1">
            <a:avLst/>
          </a:prstGeom>
          <a:ln w="28440">
            <a:solidFill>
              <a:srgbClr val="008000"/>
            </a:solidFill>
            <a:round/>
            <a:tailEnd len="med" type="arrow" w="med"/>
          </a:ln>
        </p:spPr>
      </p:cxnSp>
      <p:sp>
        <p:nvSpPr>
          <p:cNvPr id="162" name="椭圆形标注 29"/>
          <p:cNvSpPr/>
          <p:nvPr/>
        </p:nvSpPr>
        <p:spPr>
          <a:xfrm>
            <a:off x="6019920" y="3657600"/>
            <a:ext cx="1143000" cy="762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0"/>
          <p:cNvSpPr/>
          <p:nvPr/>
        </p:nvSpPr>
        <p:spPr>
          <a:xfrm>
            <a:off x="6019920" y="3657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端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形标注 31"/>
          <p:cNvSpPr/>
          <p:nvPr/>
        </p:nvSpPr>
        <p:spPr>
          <a:xfrm>
            <a:off x="7010280" y="2590920"/>
            <a:ext cx="1143000" cy="761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曲线连接符 32"/>
          <p:cNvCxnSpPr/>
          <p:nvPr/>
        </p:nvCxnSpPr>
        <p:spPr>
          <a:xfrm flipV="1">
            <a:off x="6856920" y="3047400"/>
            <a:ext cx="305640" cy="686520"/>
          </a:xfrm>
          <a:prstGeom prst="straightConnector1">
            <a:avLst/>
          </a:prstGeom>
          <a:ln w="28440">
            <a:solidFill>
              <a:srgbClr val="008000"/>
            </a:solidFill>
            <a:round/>
            <a:tailEnd len="med" type="arrow" w="med"/>
          </a:ln>
        </p:spPr>
      </p:cxnSp>
      <p:sp>
        <p:nvSpPr>
          <p:cNvPr id="166" name="TextBox 34"/>
          <p:cNvSpPr/>
          <p:nvPr/>
        </p:nvSpPr>
        <p:spPr>
          <a:xfrm>
            <a:off x="70102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夺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曲线连接符 36"/>
          <p:cNvCxnSpPr/>
          <p:nvPr/>
        </p:nvCxnSpPr>
        <p:spPr>
          <a:xfrm>
            <a:off x="7999920" y="3200400"/>
            <a:ext cx="305640" cy="534240"/>
          </a:xfrm>
          <a:prstGeom prst="straightConnector1">
            <a:avLst/>
          </a:prstGeom>
          <a:ln w="28440">
            <a:solidFill>
              <a:srgbClr val="008000"/>
            </a:solidFill>
            <a:round/>
            <a:tailEnd len="med" type="arrow" w="med"/>
          </a:ln>
        </p:spPr>
      </p:cxnSp>
      <p:sp>
        <p:nvSpPr>
          <p:cNvPr id="168" name="椭圆形标注 39"/>
          <p:cNvSpPr/>
          <p:nvPr/>
        </p:nvSpPr>
        <p:spPr>
          <a:xfrm>
            <a:off x="8001000" y="3657600"/>
            <a:ext cx="1143000" cy="762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0"/>
          <p:cNvSpPr/>
          <p:nvPr/>
        </p:nvSpPr>
        <p:spPr>
          <a:xfrm>
            <a:off x="792468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端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2362320" y="1219320"/>
            <a:ext cx="44956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生死攸关的烛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直接箭头连接符 44"/>
          <p:cNvCxnSpPr/>
          <p:nvPr/>
        </p:nvCxnSpPr>
        <p:spPr>
          <a:xfrm>
            <a:off x="2742840" y="1981080"/>
            <a:ext cx="1080" cy="534240"/>
          </a:xfrm>
          <a:prstGeom prst="straightConnector1">
            <a:avLst/>
          </a:prstGeom>
          <a:ln w="28440">
            <a:solidFill>
              <a:srgbClr val="339933"/>
            </a:solidFill>
            <a:round/>
            <a:tailEnd len="med" type="arrow" w="med"/>
          </a:ln>
        </p:spPr>
      </p:cxnSp>
      <p:cxnSp>
        <p:nvCxnSpPr>
          <p:cNvPr id="172" name="直接箭头连接符 47"/>
          <p:cNvCxnSpPr/>
          <p:nvPr/>
        </p:nvCxnSpPr>
        <p:spPr>
          <a:xfrm flipV="1">
            <a:off x="3352320" y="1828080"/>
            <a:ext cx="1080" cy="610200"/>
          </a:xfrm>
          <a:prstGeom prst="straightConnector1">
            <a:avLst/>
          </a:prstGeom>
          <a:ln w="28440">
            <a:solidFill>
              <a:srgbClr val="339933"/>
            </a:solidFill>
            <a:round/>
            <a:tailEnd len="med" type="arrow" w="med"/>
          </a:ln>
        </p:spPr>
      </p:cxnSp>
      <p:sp>
        <p:nvSpPr>
          <p:cNvPr id="173" name="文本框 1"/>
          <p:cNvSpPr/>
          <p:nvPr/>
        </p:nvSpPr>
        <p:spPr>
          <a:xfrm>
            <a:off x="279360" y="5111640"/>
            <a:ext cx="64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61DB-046B-4ABC-9FFA-392FC13A0C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有感情地朗读课文，理解课题“生死攸关的烛光”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深入理解课文内容，体会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120" y="33523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大声朗读课文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自己喜欢的方式解决生字、词。（查字典、问同学、看拼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xxyw5apage67"/>
          <p:cNvPicPr/>
          <p:nvPr/>
        </p:nvPicPr>
        <p:blipFill>
          <a:blip r:embed="rId1"/>
          <a:stretch/>
        </p:blipFill>
        <p:spPr>
          <a:xfrm>
            <a:off x="609480" y="609480"/>
            <a:ext cx="3353040" cy="2438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3962520" y="152280"/>
            <a:ext cx="38862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自学指导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8单元：2生死攸关的烛光.MP3" descr=""/>
          <p:cNvPicPr/>
          <p:nvPr/>
        </p:nvPicPr>
        <p:blipFill>
          <a:blip r:embed="rId2"/>
          <a:stretch/>
        </p:blipFill>
        <p:spPr>
          <a:xfrm>
            <a:off x="6095880" y="5181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1681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685800" y="380880"/>
            <a:ext cx="3581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读写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19051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搜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28195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厄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038480" y="38098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生死攸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038480" y="48006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不堪设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286000" y="18288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ō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514600" y="27432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0102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ō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010280" y="4724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1149612_911242"/>
          <p:cNvPicPr/>
          <p:nvPr/>
        </p:nvPicPr>
        <p:blipFill>
          <a:blip r:embed="rId1"/>
          <a:stretch/>
        </p:blipFill>
        <p:spPr>
          <a:xfrm>
            <a:off x="72388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4191120" y="28954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厨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40460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盟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022800" y="289548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947560" y="1905120"/>
            <a:ext cx="17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é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33520" y="3809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俘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119680" y="3809880"/>
            <a:ext cx="13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fú l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061000" y="4876920"/>
            <a:ext cx="180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 z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533520" y="4876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蜡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  形  区  别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6765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椅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掏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厨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45720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堪设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124080" y="38088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057400" y="1143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事情的结果不能想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指会发展到很坏很危险的地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609480" y="24382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厄运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590920" y="2438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困苦的遭遇，不幸的命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09480" y="30322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黯淡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2590920" y="3032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暗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609480" y="35812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绝妙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2514600" y="3581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非常美妙，非常巧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609480" y="411480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摇曳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590920" y="4114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摇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09480" y="46483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从容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609480" y="51814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镇定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2514600" y="46324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慌不忙，镇静沉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2514600" y="51814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慌张，沉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520" y="30477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课文讲了一件什么事情，是围绕什么事物来展开故事情节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“生死攸关”是什么意思？为什么说是生死攸关的烛光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_1135050966_20051220W09"/>
          <p:cNvPicPr/>
          <p:nvPr/>
        </p:nvPicPr>
        <p:blipFill>
          <a:blip r:embed="rId1"/>
          <a:stretch/>
        </p:blipFill>
        <p:spPr>
          <a:xfrm>
            <a:off x="685800" y="106668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124080" y="533520"/>
            <a:ext cx="42674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自学指导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6632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课文讲了伯瑙德母子三人想尽办法保护装有情报的半截蜡烛的故事。故事紧紧围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根小小的蜡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展开了一个惊心动魄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124080" y="3733920"/>
            <a:ext cx="54104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死攸关：关系到人的生存和死亡。这一根小小的蜡烛关系到很多人的生死存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20"/>
          <p:cNvPicPr/>
          <p:nvPr/>
        </p:nvPicPr>
        <p:blipFill>
          <a:blip r:embed="rId1"/>
          <a:stretch/>
        </p:blipFill>
        <p:spPr>
          <a:xfrm>
            <a:off x="762120" y="3809880"/>
            <a:ext cx="2133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23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9:40Z</dcterms:modified>
  <cp:revision>110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