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8.gif" ContentType="image/gif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4EEB-B1AE-4A6F-BD93-B2A349301C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CA87-76CD-4DE0-859C-AF27B539B9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D83-01E9-4C55-ABD7-E734974A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6276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8B0-C11F-4CC2-9ABA-1803851C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6D4E-CF1B-4719-9277-1FBBC4CB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259092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262760"/>
            <a:ext cx="26251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C1C-4EA4-42BD-B203-C99BFC4C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0CB-A986-456A-AF0A-56A445F9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58C-FF1F-410F-B6E9-33B6DBE7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CE4-25D5-4E6C-A11E-03DCFA39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068-E420-4641-87CF-BA997B6F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105-93BF-471F-BB8D-00A9E7B3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44E-E9E9-4E4D-BE9C-BE597D5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26276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8FF-D76C-4A40-B697-35E1E564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2590920"/>
            <a:ext cx="397872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62760"/>
            <a:ext cx="8153280" cy="15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AF4-5159-4F6A-99FC-051057BC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25909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89CF-D969-4266-828C-5261356239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b20060214113955_866_GTWkh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181160" y="1905120"/>
            <a:ext cx="678168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微软雅黑"/>
              </a:rPr>
              <a:t>生死攸关的烛光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微软雅黑"/>
              <a:ea typeface="微软雅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gif0111"/>
          <p:cNvPicPr/>
          <p:nvPr/>
        </p:nvPicPr>
        <p:blipFill>
          <a:blip r:embed="rId1"/>
          <a:stretch/>
        </p:blipFill>
        <p:spPr>
          <a:xfrm>
            <a:off x="7086600" y="990720"/>
            <a:ext cx="914400" cy="990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21932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三次令人紧张的变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）“这时，那位情报部的中尉顺手拿过藏有情报的蜡烛，点燃后放到长官面前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）“那位中尉又把冒着青烟的烛芯重新点燃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（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）“中尉快步赶上前，厉声喝道：‘你不用灯就不行吗？’一手把烛台夺回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781360"/>
            <a:ext cx="863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未知"/>
          <p:cNvSpPr/>
          <p:nvPr/>
        </p:nvSpPr>
        <p:spPr>
          <a:xfrm>
            <a:off x="826920" y="1989000"/>
            <a:ext cx="7561440" cy="1727280"/>
          </a:xfrm>
          <a:custGeom>
            <a:avLst/>
            <a:gdLst/>
            <a:ahLst/>
            <a:rect l="l" t="t" r="r" b="b"/>
            <a:pathLst>
              <a:path w="4763" h="1088">
                <a:moveTo>
                  <a:pt x="0" y="756"/>
                </a:moveTo>
                <a:cubicBezTo>
                  <a:pt x="431" y="378"/>
                  <a:pt x="862" y="0"/>
                  <a:pt x="1134" y="30"/>
                </a:cubicBezTo>
                <a:cubicBezTo>
                  <a:pt x="1406" y="60"/>
                  <a:pt x="1376" y="922"/>
                  <a:pt x="1633" y="937"/>
                </a:cubicBezTo>
                <a:cubicBezTo>
                  <a:pt x="1890" y="952"/>
                  <a:pt x="2435" y="136"/>
                  <a:pt x="2677" y="121"/>
                </a:cubicBezTo>
                <a:cubicBezTo>
                  <a:pt x="2919" y="106"/>
                  <a:pt x="2881" y="862"/>
                  <a:pt x="3085" y="847"/>
                </a:cubicBezTo>
                <a:cubicBezTo>
                  <a:pt x="3289" y="832"/>
                  <a:pt x="3644" y="15"/>
                  <a:pt x="3901" y="30"/>
                </a:cubicBezTo>
                <a:cubicBezTo>
                  <a:pt x="4158" y="45"/>
                  <a:pt x="4491" y="786"/>
                  <a:pt x="4627" y="937"/>
                </a:cubicBezTo>
                <a:cubicBezTo>
                  <a:pt x="4763" y="1088"/>
                  <a:pt x="4703" y="929"/>
                  <a:pt x="4718" y="9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979640" y="1268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点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771640" y="3284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熄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06728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重点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076720" y="3213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端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300720" y="134136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夺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7308720" y="3429000"/>
            <a:ext cx="21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端、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09(1)"/>
          <p:cNvPicPr/>
          <p:nvPr/>
        </p:nvPicPr>
        <p:blipFill>
          <a:blip r:embed="rId1"/>
          <a:stretch/>
        </p:blipFill>
        <p:spPr>
          <a:xfrm>
            <a:off x="533520" y="1295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362320"/>
            <a:ext cx="71625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　　文章情节有着如此曲折的变化，你可以用哪些成语来形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95280" y="4038480"/>
            <a:ext cx="6858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一波三折、跌宕起伏、扣人心弦</a:t>
            </a:r>
            <a:r>
              <a:rPr b="1" lang="zh-CN" sz="4000" spc="-1" strike="noStrike">
                <a:solidFill>
                  <a:srgbClr val="ff00ff"/>
                </a:solidFill>
                <a:latin typeface="华文仿宋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14040" y="1294920"/>
            <a:ext cx="4800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在这些危机关头，伯瑙德夫人一家是如何与德军周旋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2004424221427"/>
          <p:cNvPicPr/>
          <p:nvPr/>
        </p:nvPicPr>
        <p:blipFill>
          <a:blip r:embed="rId1"/>
          <a:stretch/>
        </p:blipFill>
        <p:spPr>
          <a:xfrm>
            <a:off x="5943600" y="1371600"/>
            <a:ext cx="228600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143000" y="3657600"/>
            <a:ext cx="7620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伯瑙德夫人：取出油灯，吹熄蜡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儿子雅克：借口搬柴，端走烛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小女儿杰奎琳：推说睡觉，拿走蜡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38120" y="17524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华文中宋"/>
              </a:rPr>
              <a:t>选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365760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画出描写伯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瑙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德夫人一家动作、语言的句子，认真读一读，思考：这些描写体现了这一家人的什么精神品质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xxyw5apage67"/>
          <p:cNvPicPr/>
          <p:nvPr/>
        </p:nvPicPr>
        <p:blipFill>
          <a:blip r:embed="rId1"/>
          <a:stretch/>
        </p:blipFill>
        <p:spPr>
          <a:xfrm>
            <a:off x="838080" y="1066680"/>
            <a:ext cx="30481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33920" y="1447560"/>
            <a:ext cx="35049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伯瑙德夫人</a:t>
            </a: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320040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她看着两个脸色苍白的儿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急忙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从厨房中取出一盏油灯放在桌上。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瞧，先生们，这盏灯亮些。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说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轻轻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把蜡烛吹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t_102"/>
          <p:cNvPicPr/>
          <p:nvPr/>
        </p:nvPicPr>
        <p:blipFill>
          <a:blip r:embed="rId1"/>
          <a:stretch/>
        </p:blipFill>
        <p:spPr>
          <a:xfrm>
            <a:off x="1371600" y="1219320"/>
            <a:ext cx="2209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儿子雅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895120"/>
            <a:ext cx="74678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儿子雅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慢慢地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站起来，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天真冷，我到柴房去搬些柴来生个火吧。</a:t>
            </a:r>
            <a:r>
              <a:rPr b="1" lang="zh-CN" sz="32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说着伸手端起烛台朝门口走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从容地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搬回一捆木柴，生了火，默默地坐待最后的时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g_cha_p_06"/>
          <p:cNvPicPr/>
          <p:nvPr/>
        </p:nvPicPr>
        <p:blipFill>
          <a:blip r:embed="rId1"/>
          <a:stretch/>
        </p:blipFill>
        <p:spPr>
          <a:xfrm>
            <a:off x="4495680" y="1143000"/>
            <a:ext cx="2133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99072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小女儿杰奎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2093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小女儿杰奎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娇声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德国人说道：“司令官先生，天晚了，楼上黑，我可以拿一盏灯上楼睡觉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杰奎琳仰起小脸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兴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说：“那太好了……不过，司令官先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今晚我的头很痛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，我想睡觉了，下次您再给我讲好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杰奎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镇定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把烛台端起来，向几位军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道过晚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，上楼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U1286P55T4D73188F50DT20051021162333_160small"/>
          <p:cNvPicPr/>
          <p:nvPr/>
        </p:nvPicPr>
        <p:blipFill>
          <a:blip r:embed="rId1"/>
          <a:stretch/>
        </p:blipFill>
        <p:spPr>
          <a:xfrm>
            <a:off x="5105520" y="990720"/>
            <a:ext cx="13716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027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791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09320" y="2209320"/>
            <a:ext cx="4496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瑙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德夫人一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76360" y="3047760"/>
            <a:ext cx="3276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镇定从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勇敢机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热爱祖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76720" y="1447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续编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895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本文故事情节发展到高潮处戛然而止：当杰奎琳踏上最后一级阶梯时，蜡烛熄灭了。故事还会怎样发展呢？请你展开想象，续编故事。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4d"/>
          <p:cNvPicPr/>
          <p:nvPr/>
        </p:nvPicPr>
        <p:blipFill>
          <a:blip r:embed="rId1"/>
          <a:stretch/>
        </p:blipFill>
        <p:spPr>
          <a:xfrm>
            <a:off x="1981080" y="144792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"/>
          <p:cNvSpPr/>
          <p:nvPr/>
        </p:nvSpPr>
        <p:spPr>
          <a:xfrm>
            <a:off x="1758960" y="5946840"/>
            <a:ext cx="562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99640" y="206064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（课文主要讲述了第二次世界大战期间，法国的一个普通家庭的母子三人是如何想办法保住情报的故事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初读感知"/>
          <p:cNvPicPr/>
          <p:nvPr/>
        </p:nvPicPr>
        <p:blipFill>
          <a:blip r:embed="rId1"/>
          <a:stretch/>
        </p:blipFill>
        <p:spPr>
          <a:xfrm>
            <a:off x="755640" y="105264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6093007"/>
          <p:cNvPicPr/>
          <p:nvPr/>
        </p:nvPicPr>
        <p:blipFill>
          <a:blip r:embed="rId1"/>
          <a:stretch/>
        </p:blipFill>
        <p:spPr>
          <a:xfrm>
            <a:off x="533520" y="2819520"/>
            <a:ext cx="8001000" cy="3585960"/>
          </a:xfrm>
          <a:prstGeom prst="rect">
            <a:avLst/>
          </a:prstGeom>
          <a:ln w="0">
            <a:noFill/>
          </a:ln>
        </p:spPr>
      </p:pic>
      <p:sp>
        <p:nvSpPr>
          <p:cNvPr id="124" name="WordArt 3"/>
          <p:cNvSpPr txBox="1"/>
          <p:nvPr/>
        </p:nvSpPr>
        <p:spPr>
          <a:xfrm>
            <a:off x="3124080" y="1371600"/>
            <a:ext cx="28195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华文中宋"/>
              </a:rPr>
              <a:t>再见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slow">
    <p:zoom dir="in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4E94-4B71-410B-9D0D-5F75C10ACA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57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91628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了解课文的主要内容，学习母子三人对祖国的热爱和机智勇敢的高贵品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学会从人物的语言、动作、表情以及心理活动体会人物的品质。</a:t>
            </a:r>
            <a:br>
              <a:rPr sz="44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2"/>
          <p:cNvSpPr txBox="1"/>
          <p:nvPr/>
        </p:nvSpPr>
        <p:spPr>
          <a:xfrm>
            <a:off x="800280" y="457200"/>
            <a:ext cx="358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华文中宋"/>
              </a:rPr>
              <a:t>读写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华文中宋"/>
              <a:ea typeface="华文中宋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14400" y="1905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搜</a:t>
            </a:r>
            <a:r>
              <a:rPr b="1" lang="zh-CN" sz="4800" spc="-1" strike="noStrike">
                <a:solidFill>
                  <a:srgbClr val="3366ff"/>
                </a:solidFill>
                <a:latin typeface="Arial"/>
                <a:ea typeface="楷体_GB2312"/>
              </a:rPr>
              <a:t>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38080" y="3124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厄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038480" y="198108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生死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攸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038480" y="31240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不</a:t>
            </a: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堪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设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90920" y="1981080"/>
            <a:ext cx="121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s</a:t>
            </a: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ō</a:t>
            </a: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666880" y="304812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010280" y="1981080"/>
            <a:ext cx="121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y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086600" y="304812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宋体"/>
              </a:rPr>
              <a:t>kā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1149612_911242"/>
          <p:cNvPicPr/>
          <p:nvPr/>
        </p:nvPicPr>
        <p:blipFill>
          <a:blip r:embed="rId1"/>
          <a:stretch/>
        </p:blipFill>
        <p:spPr>
          <a:xfrm>
            <a:off x="7238880" y="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914400" y="4114800"/>
            <a:ext cx="218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厨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515840" y="40384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盟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2365200" y="403848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ch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6328440" y="3962520"/>
            <a:ext cx="170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mé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942840" y="5130720"/>
            <a:ext cx="218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俘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4340160" y="5224320"/>
            <a:ext cx="218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楷体_GB2312"/>
              </a:rPr>
              <a:t>半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8"/>
          <p:cNvSpPr/>
          <p:nvPr/>
        </p:nvSpPr>
        <p:spPr>
          <a:xfrm>
            <a:off x="2529360" y="5079960"/>
            <a:ext cx="62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0" lang="zh-CN" sz="4800" spc="-1" strike="noStrike">
                <a:solidFill>
                  <a:srgbClr val="008000"/>
                </a:solidFill>
                <a:latin typeface="Times New Roman"/>
              </a:rPr>
              <a:t>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6147720" y="52434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ji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_1135050966_20051220W09"/>
          <p:cNvPicPr/>
          <p:nvPr/>
        </p:nvPicPr>
        <p:blipFill>
          <a:blip r:embed="rId1"/>
          <a:stretch/>
        </p:blipFill>
        <p:spPr>
          <a:xfrm>
            <a:off x="685800" y="106668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323064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蜡烛    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子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汤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锅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闯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入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灭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微弱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恶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狼     强盗      嗓子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2098800" cy="58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堪设想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攻陷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厄运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黯淡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绝妙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摇曳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容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镇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132000" y="404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3720" y="692280"/>
            <a:ext cx="673236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事情的结果不能想象，指会发 展到很坏很危险的地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攻占、攻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困苦的遭遇，不幸的命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暗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美妙，非常巧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摇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慌不忙，镇静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慌张，沉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42840" y="16765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057040" y="3352320"/>
            <a:ext cx="5638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１、课文是围绕什么事物来展开故事情节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２、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生死攸关的烛光</a:t>
            </a:r>
            <a:r>
              <a:rPr b="1" lang="zh-CN" sz="3600" spc="-1" strike="noStrike">
                <a:solidFill>
                  <a:srgbClr val="3333ff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_1135050966_20051220W09"/>
          <p:cNvPicPr/>
          <p:nvPr/>
        </p:nvPicPr>
        <p:blipFill>
          <a:blip r:embed="rId1"/>
          <a:stretch/>
        </p:blipFill>
        <p:spPr>
          <a:xfrm>
            <a:off x="685800" y="10666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43000" y="16765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课文紧紧围绕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根小小的蜡烛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展开了一个惊心动魄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124080" y="3352680"/>
            <a:ext cx="5410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生死攸关：关系到人的生存和死亡。这一根小小的蜡烛关系到伯瑙德夫人一家３口的性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"/>
          <p:cNvPicPr/>
          <p:nvPr/>
        </p:nvPicPr>
        <p:blipFill>
          <a:blip r:embed="rId1"/>
          <a:stretch/>
        </p:blipFill>
        <p:spPr>
          <a:xfrm>
            <a:off x="762120" y="3581280"/>
            <a:ext cx="2133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167652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黑体"/>
              </a:rPr>
              <a:t>再读课文，理解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3429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  <a:ea typeface="华文仿宋"/>
              </a:rPr>
              <a:t>　　</a:t>
            </a:r>
            <a:r>
              <a:rPr b="1" i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走进课文，关注伯瑙德夫人一家的命运。请大家看看故事情节发生了几次令人紧张的变化？请在文段中用横线划出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bk7342"/>
          <p:cNvPicPr/>
          <p:nvPr/>
        </p:nvPicPr>
        <p:blipFill>
          <a:blip r:embed="rId1"/>
          <a:stretch/>
        </p:blipFill>
        <p:spPr>
          <a:xfrm>
            <a:off x="7010280" y="12952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4T07:08:0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0:18Z</dcterms:modified>
  <cp:revision>106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