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gif" ContentType="image/gif"/>
  <Override PartName="/ppt/media/image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173788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174000" cy="8917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46080" y="734760"/>
            <a:ext cx="411480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3840" y="4280040"/>
            <a:ext cx="520236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6766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495240" y="-360"/>
            <a:ext cx="26766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69000"/>
            <a:ext cx="26766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495240" y="8469000"/>
            <a:ext cx="26766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D2D-829C-4D82-8B53-4EF1B6ABD9E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63640" y="735120"/>
            <a:ext cx="4280040" cy="3211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83840" y="4280040"/>
            <a:ext cx="520236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495600" y="8469360"/>
            <a:ext cx="267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9158-6212-4CEB-BE50-C207ADE05FA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2CC-E9B6-4AA8-A0BB-A08A9072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D6C-5F5A-4252-B875-5A8C9F96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635-A728-4ACD-8E55-4D59EC07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05A-6C1D-4FF9-88F0-7C5F43BB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EEA-0D44-4B02-B4BA-C7D19F8E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CA0-C49E-4226-983B-464F0438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63-7A5C-4B1D-BC70-5CA55043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1AD-B591-4F02-A81F-49A9CC1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0BF-0DF4-4C1D-A486-9F968198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B05-0414-4DE8-B4E6-93486283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7DE-905E-4FF9-8AD2-371725A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FF4-9654-4774-BC72-E7A0629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D7E-20DF-4BBA-A3F4-376593946B3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4.xm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51110080224486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622520" y="404640"/>
            <a:ext cx="561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生死攸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38360" y="3716280"/>
            <a:ext cx="4032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0000"/>
                </a:solidFill>
                <a:latin typeface="Arial"/>
                <a:ea typeface="华文行楷"/>
              </a:rPr>
              <a:t>烛光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462040" y="3716280"/>
            <a:ext cx="410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660033"/>
                </a:solidFill>
                <a:latin typeface="Arial"/>
                <a:ea typeface="华文行楷"/>
              </a:rPr>
              <a:t>烛光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706920" y="2192400"/>
            <a:ext cx="143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827000" y="6116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伯瑙德夫人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427640" y="0"/>
            <a:ext cx="1738080" cy="242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生命攸关的烛光"/>
          <p:cNvPicPr/>
          <p:nvPr/>
        </p:nvPicPr>
        <p:blipFill>
          <a:blip r:embed="rId2"/>
          <a:stretch/>
        </p:blipFill>
        <p:spPr>
          <a:xfrm>
            <a:off x="0" y="2421000"/>
            <a:ext cx="2556000" cy="4437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79280" y="333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伯瑙德夫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860640"/>
            <a:ext cx="590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</a:rPr>
              <a:t>她看着两个脸色苍白的儿女，急忙从厨房中取出一盏油灯放在桌上。“瞧，先生们，这盏灯亮些。”说着轻轻把蜡烛吹熄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627280" y="260280"/>
            <a:ext cx="6516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烛光摇曳着，发出微弱的光。此时此刻，它仿佛成为这房子里最可怕的东西。伯瑙德夫人的心提到了嗓子眼上，她似乎感到德军那几双恶狼般的眼睛都盯在越来越短的蜡烛上。一旦这个情报中转站暴露，后果是不堪设想的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生命攸关的烛光"/>
          <p:cNvPicPr/>
          <p:nvPr/>
        </p:nvPicPr>
        <p:blipFill>
          <a:blip r:embed="rId1"/>
          <a:stretch/>
        </p:blipFill>
        <p:spPr>
          <a:xfrm>
            <a:off x="3240" y="2998800"/>
            <a:ext cx="2620800" cy="3862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995640" y="1916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可怕的东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995640" y="2743200"/>
            <a:ext cx="40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提到了嗓子眼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10316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恶狼般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089600" y="443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932360" y="602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堪设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9280" y="26028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这时的气氛怎么样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79280" y="141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楷体_GB2312"/>
              </a:rPr>
              <a:t>紧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楷体_GB2312"/>
              </a:rPr>
              <a:t>恐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2565360"/>
            <a:ext cx="6337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这时候，儿子雅克慢慢地站起来，“天真冷，我到柴房去搬些柴来生个火吧。”说着伸手端起烛台朝门口走去，房子顿时暗了下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生命攸关的烛光"/>
          <p:cNvPicPr/>
          <p:nvPr/>
        </p:nvPicPr>
        <p:blipFill>
          <a:blip r:embed="rId1"/>
          <a:stretch/>
        </p:blipFill>
        <p:spPr>
          <a:xfrm>
            <a:off x="0" y="2421000"/>
            <a:ext cx="2556000" cy="443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1405287264"/>
          <p:cNvPicPr/>
          <p:nvPr/>
        </p:nvPicPr>
        <p:blipFill>
          <a:blip r:embed="rId2"/>
          <a:stretch/>
        </p:blipFill>
        <p:spPr>
          <a:xfrm>
            <a:off x="6156360" y="0"/>
            <a:ext cx="155268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33336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儿子雅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27280" y="2923920"/>
            <a:ext cx="6337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突然，小女儿杰奎琳娇声地对德国人说道：“司令官先生，天晚了，楼上黑，我可以拿一盏灯上楼睡觉吗？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生命攸关的烛光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6000" y="0"/>
            <a:ext cx="1440000" cy="24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生命攸关的烛光"/>
          <p:cNvPicPr/>
          <p:nvPr/>
        </p:nvPicPr>
        <p:blipFill>
          <a:blip r:embed="rId3"/>
          <a:stretch/>
        </p:blipFill>
        <p:spPr>
          <a:xfrm>
            <a:off x="0" y="2421000"/>
            <a:ext cx="2556000" cy="4437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79280" y="33336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女儿杰奎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04836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少校瞧了瞧这位可爱的小姑娘，一把拉她到身边，用亲切的声音说</a:t>
            </a:r>
            <a:r>
              <a:rPr b="1" lang="zh-CN" sz="3600" spc="-1" strike="noStrike">
                <a:solidFill>
                  <a:srgbClr val="069421"/>
                </a:solidFill>
                <a:latin typeface="Arial"/>
                <a:ea typeface="楷体_GB2312"/>
              </a:rPr>
              <a:t>：“当然可以。我家也有一个你这样年纪的小女儿。来，我给你讲讲我的路易莎，好吗？”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生命攸关的烛光"/>
          <p:cNvPicPr/>
          <p:nvPr/>
        </p:nvPicPr>
        <p:blipFill>
          <a:blip r:embed="rId1"/>
          <a:stretch/>
        </p:blipFill>
        <p:spPr>
          <a:xfrm>
            <a:off x="6372360" y="260280"/>
            <a:ext cx="237636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324000" y="3789360"/>
            <a:ext cx="8280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杰奎琳仰起小脸，高兴地说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69421"/>
                </a:solidFill>
                <a:latin typeface="Arial"/>
                <a:ea typeface="楷体_GB2312"/>
              </a:rPr>
              <a:t>“那太好了……不过，司令官先生，今晚我的头很痛，我想睡觉了，下次您再给我讲，好吗？”</a:t>
            </a:r>
            <a:r>
              <a:rPr b="1" lang="zh-CN" sz="4000" spc="-1" strike="noStrike">
                <a:solidFill>
                  <a:srgbClr val="06942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"/>
                            </p:stCondLst>
                            <p:childTnLst>
                              <p:par>
                                <p:cTn id="29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1"/>
                            </p:stCondLst>
                            <p:childTnLst>
                              <p:par>
                                <p:cTn id="3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杰奎琳镇定地把烛台端起来，向几位军官道过晚安，上楼去了。正当她踏上最后一级阶梯时，蜡烛熄灭了。</a:t>
            </a:r>
            <a:r>
              <a:rPr b="1" lang="zh-CN" sz="35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生命攸关的烛光"/>
          <p:cNvPicPr/>
          <p:nvPr/>
        </p:nvPicPr>
        <p:blipFill>
          <a:blip r:embed="rId1"/>
          <a:stretch/>
        </p:blipFill>
        <p:spPr>
          <a:xfrm>
            <a:off x="395280" y="2205000"/>
            <a:ext cx="7848720" cy="426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c0e68"/>
                </a:solidFill>
                <a:latin typeface="Times New Roman"/>
                <a:ea typeface="楷体_GB2312"/>
              </a:rPr>
              <a:t>有时候，仅有勇敢是不够的，还必须</a:t>
            </a:r>
            <a:r>
              <a:rPr b="1" lang="zh-CN" sz="4800" spc="-1" strike="noStrike">
                <a:solidFill>
                  <a:srgbClr val="33ccff"/>
                </a:solidFill>
                <a:latin typeface="Times New Roman"/>
                <a:ea typeface="楷体_GB2312"/>
              </a:rPr>
              <a:t>机智</a:t>
            </a:r>
            <a:r>
              <a:rPr b="1" lang="zh-CN" sz="4800" spc="-1" strike="noStrike">
                <a:solidFill>
                  <a:srgbClr val="8c0e68"/>
                </a:solidFill>
                <a:latin typeface="Times New Roman"/>
                <a:ea typeface="楷体_GB2312"/>
              </a:rPr>
              <a:t>。杰奎琳的机智就在于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她成功地唤起敌人身为父亲这一身份的“柔情”，并获得他的喜爱，最终化险为夷。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楷体_GB231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瑙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德夫人一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87640" y="2852280"/>
            <a:ext cx="33084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镇定从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勇敢机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热爱祖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00"/>
                            </p:stCondLst>
                            <p:childTnLst>
                              <p:par>
                                <p:cTn id="3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00"/>
                            </p:stCondLst>
                            <p:childTnLst>
                              <p:par>
                                <p:cTn id="3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300"/>
                            </p:stCondLst>
                            <p:childTnLst>
                              <p:par>
                                <p:cTn id="3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布置作业：续编故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895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本文故事情节发展到高潮处戛然而止：当杰琳踏上最后一级阶梯时，蜡烛熄灭了。故事还会怎样发展呢？请你展开想象，续编故事。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04d"/>
          <p:cNvPicPr/>
          <p:nvPr/>
        </p:nvPicPr>
        <p:blipFill>
          <a:blip r:embed="rId1"/>
          <a:stretch/>
        </p:blipFill>
        <p:spPr>
          <a:xfrm>
            <a:off x="0" y="2602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"/>
          <p:cNvSpPr/>
          <p:nvPr/>
        </p:nvSpPr>
        <p:spPr>
          <a:xfrm>
            <a:off x="2050920" y="63180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50920" y="549360"/>
            <a:ext cx="86421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夜深了，屋外的风还在呼呼的吹着，看着三个德军军官远去的背影，伯瑙德夫人忐忑的心才稍稍平静了下来，她疲惫的站起身，向楼上走去，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杰奎琳，我的好孩子，你睡了吗？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听到妈妈的喊声，女儿杰奎琳从床上爬起，轻轻的走到楼梯边，顺着楼梯向下看，她用柔和的声音回答着妈妈的问话，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妈妈，是你吗？我在这儿，蜡烛也好好的保管着。怎么样，德国兵走了吗？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走了，走了。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伯诺德夫人用疲惫的声音说道。 </a:t>
            </a:r>
            <a:br>
              <a:rPr sz="2500"/>
            </a:b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杰奎琳从桌上拿起烛台，飞奔的从楼梯上下来，一见妈妈，赶紧扑到她的怀中，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妈妈，我们的劫难过去了吗？我真的好害怕。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伯诺德夫人紧紧的抱住女儿，此时，她的心绪如潮水般起起伏伏，她在思索着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——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未来的日子。 </a:t>
            </a:r>
            <a:br>
              <a:rPr sz="2500"/>
            </a:b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伯瑙德夫人深深的叹了一口气，看看女儿，再回头看看儿子杰克</a:t>
            </a:r>
            <a:r>
              <a:rPr b="1" lang="zh-CN" sz="2500" spc="-1" strike="noStrike">
                <a:solidFill>
                  <a:srgbClr val="6600ff"/>
                </a:solidFill>
                <a:latin typeface="Arial"/>
                <a:ea typeface="楷体_GB2312"/>
              </a:rPr>
              <a:t>——</a:t>
            </a:r>
            <a:r>
              <a:rPr b="1" lang="zh-CN" sz="25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他已经趴在桌上熟睡了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世界大战：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939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日—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945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日，以德国、意大利、日本法西斯轴心国为一方，以反法西斯同盟和全世界反法西斯力量为另一方进行的，人类历史上迄今为止规模最大的全球性战争。从欧洲到亚洲，从大西洋到太平洋，先后有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61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个国家和地区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亿以上的人口被卷入战争，作战区域面积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2200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万平方千米。据不完全统计，战争中军民共伤亡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9000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余万人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万多亿美元付诸流水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本文是发生在第二次世界大战期间的一个真实感人的故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毕业设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CB68-E63F-4ECA-81CC-EE8335034B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685800" y="380880"/>
            <a:ext cx="3581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中宋"/>
              </a:rPr>
              <a:t>读写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905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3520" y="28195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厄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038480" y="38098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生死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攸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038480" y="48006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不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堪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设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0" y="18288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sō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514600" y="27432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0102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yō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010280" y="4724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kā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1" descr="1149612_911242"/>
          <p:cNvPicPr/>
          <p:nvPr/>
        </p:nvPicPr>
        <p:blipFill>
          <a:blip r:embed="rId1"/>
          <a:stretch/>
        </p:blipFill>
        <p:spPr>
          <a:xfrm>
            <a:off x="72388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4191120" y="28954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厨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385880" y="198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盟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22800" y="289548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ch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947560" y="190512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mé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533520" y="3809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俘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119680" y="3809880"/>
            <a:ext cx="13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  <a:ea typeface="Arial Unicode MS"/>
              </a:rPr>
              <a:t>fú l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2061000" y="487692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là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zh-CN" sz="4800" spc="-1" strike="noStrike">
                <a:solidFill>
                  <a:srgbClr val="6600ff"/>
                </a:solidFill>
                <a:latin typeface="Arial"/>
                <a:ea typeface="Arial Unicode MS"/>
              </a:rPr>
              <a:t>zh</a:t>
            </a:r>
            <a:r>
              <a:rPr b="0" lang="zh-CN" sz="4800" spc="-1" strike="noStrike">
                <a:solidFill>
                  <a:srgbClr val="6600ff"/>
                </a:solidFill>
                <a:latin typeface="Arial"/>
              </a:rPr>
              <a:t>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533520" y="4876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蜡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一、朗读课文，思考问题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2781360"/>
            <a:ext cx="9304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、课文讲了一件什么事情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、本文围绕什么事物来展开故事情节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、“生死攸关”是什么意思？为什么说是     生死攸关的烛光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_1135050966_20051220W09"/>
          <p:cNvPicPr/>
          <p:nvPr/>
        </p:nvPicPr>
        <p:blipFill>
          <a:blip r:embed="rId1"/>
          <a:stretch/>
        </p:blipFill>
        <p:spPr>
          <a:xfrm>
            <a:off x="6804000" y="2602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7"/>
          <p:cNvSpPr/>
          <p:nvPr/>
        </p:nvSpPr>
        <p:spPr>
          <a:xfrm>
            <a:off x="1187280" y="44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5640" y="475920"/>
            <a:ext cx="770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课文讲了伯瑙德母子三人想尽办法保护装有情报的半截蜡烛的故事，故事紧紧围绕一根小小的蜡烛展开了一个惊心动魄的故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76720" y="3645000"/>
            <a:ext cx="5410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生死攸关：关系到人的生存和死亡。这一根小小的蜡烛关系到很多人的生死存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20"/>
          <p:cNvPicPr/>
          <p:nvPr/>
        </p:nvPicPr>
        <p:blipFill>
          <a:blip r:embed="rId1"/>
          <a:stretch/>
        </p:blipFill>
        <p:spPr>
          <a:xfrm>
            <a:off x="395280" y="378936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、 伯瑙德夫人保护的是一份怎么样的情报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704000" y="1125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绝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24000" y="1773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、为保护绝密情报，伯瑙德夫人想了一个怎样绝妙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的办法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627280" y="306864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装着情报的金属管藏在半截蜡烛中，外面小心地用蜡封好，然后把蜡烛插在一个金属烛台上。由于蜡烛摆在显眼的桌子上，反而骗过了几次严密的搜查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271960" cy="367164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468360" y="260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二、合作探究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trips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77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三、再读课文，理解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0920" y="24922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仿宋"/>
              </a:rPr>
              <a:t>　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走进课文，关注伯瑙德夫人一家的命运。请大家看看故事情节发生了几次令人紧张的变化？请在文段中用横线划出来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wbk7342"/>
          <p:cNvPicPr/>
          <p:nvPr/>
        </p:nvPicPr>
        <p:blipFill>
          <a:blip r:embed="rId1"/>
          <a:stretch/>
        </p:blipFill>
        <p:spPr>
          <a:xfrm>
            <a:off x="7010280" y="990720"/>
            <a:ext cx="1600200" cy="1676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if0111"/>
          <p:cNvPicPr/>
          <p:nvPr/>
        </p:nvPicPr>
        <p:blipFill>
          <a:blip r:embed="rId1"/>
          <a:stretch/>
        </p:blipFill>
        <p:spPr>
          <a:xfrm>
            <a:off x="8229600" y="26028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95280" y="260280"/>
            <a:ext cx="59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三次令人紧张的变化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90792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）“这时，那位情报部的中尉顺手拿过藏有    情报的蜡烛，点燃后放到长官面前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2060640"/>
            <a:ext cx="954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）“那位中尉又把冒着青烟的烛芯重新点燃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2781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）“中尉快步赶上前，厉声喝道：‘你不用灯就不行吗？’一手把烛台夺回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42076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章情节富有如此曲折的变化，可以用哪些成语来形容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116000" y="5478480"/>
            <a:ext cx="68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一波三折、跌宕起伏、扣人心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2565360"/>
            <a:ext cx="6337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思考：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当危险步步逼近时，伯瑙德一家三口是怎样和敌人巧妙周旋的？边读边画出描写伯诺德夫人一家动作、表情、语言的句子，认真体会当时的那种紧张气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伯瑙德夫人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427640" y="0"/>
            <a:ext cx="1738080" cy="242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生命攸关的烛光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9080" y="0"/>
            <a:ext cx="1440000" cy="242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生命攸关的烛光"/>
          <p:cNvPicPr/>
          <p:nvPr/>
        </p:nvPicPr>
        <p:blipFill>
          <a:blip r:embed="rId4"/>
          <a:stretch/>
        </p:blipFill>
        <p:spPr>
          <a:xfrm>
            <a:off x="0" y="2421000"/>
            <a:ext cx="2556000" cy="443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405287264"/>
          <p:cNvPicPr/>
          <p:nvPr/>
        </p:nvPicPr>
        <p:blipFill>
          <a:blip r:embed="rId5"/>
          <a:stretch/>
        </p:blipFill>
        <p:spPr>
          <a:xfrm>
            <a:off x="6156360" y="0"/>
            <a:ext cx="1552680" cy="242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0" y="33336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默读课文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-7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3:50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0:08Z</dcterms:modified>
  <cp:revision>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