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0C32-CB61-4482-8AFC-4C70DBB47E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6561-32A4-42DA-84F1-B6C647C281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198-28BD-48D7-A860-FD955F45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7CD-964E-4B45-B116-577F20D7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FDB-D8BA-4627-8195-B904A66B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F06-5389-4760-AC9E-521EE0CB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55B-4DBF-4ED2-AB41-2FE31C48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25E-AE33-4B51-9655-8BCF784A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724-146A-46CF-AE24-C10D8D68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29B-EEB7-46B9-8A0D-D0B5EFBB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C17-410F-43EA-880F-ECDFF7BC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D7D-00A5-4FD0-BFF1-A14B08A6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07F-531C-4F8B-8266-1F618E80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201-7681-4E64-A190-E60E5959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22DE-3F2E-4501-AD2F-9C6A245C7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24800" y="990720"/>
            <a:ext cx="462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</a:rPr>
              <a:t>11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课 熟悉的脚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744560" y="58672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3520" y="12063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怎样才能走出森林呢？尼基申大声喊叫，可是森林里什么人也没有。突然，尼基申发现雪地上有一行熟悉的脚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有办法了！跟我走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孩子们跟着尼基申，顺着这行脚印，走哇，走哇，终于来到了一间小木屋前。这是守林人的住房，屋前有一条小路，一直通向村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4267080" y="1981080"/>
            <a:ext cx="4038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7238880" y="236232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609480" y="274320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20320" y="317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迷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998000" y="2529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孩子们：都很害怕，吓哭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140200" y="38098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尼基申：沿着狗的脚印走出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990720" y="2685960"/>
            <a:ext cx="152280" cy="1581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1040 h 1581120"/>
              <a:gd name="textAreaBottom" fmla="*/ 1540080 h 15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5638680" y="56386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31240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你是沿着什么脚印带我们回来的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孩子们问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狗的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尼基申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狗的脚印总是通向主人的家，无论它在森林中跑得多么远，总要回家的。这是爷爷告诉我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1600200" y="3505320"/>
            <a:ext cx="4495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600200" y="38862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990720" y="4648320"/>
            <a:ext cx="1752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419720" y="4419720"/>
            <a:ext cx="3504960" cy="1752480"/>
          </a:xfrm>
          <a:prstGeom prst="cloudCallout">
            <a:avLst>
              <a:gd name="adj1" fmla="val 47189"/>
              <a:gd name="adj2" fmla="val 63226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为什么尼基申能带大家走出森林，而其他孩子不能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20320" y="317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迷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969960" y="3179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识对人有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998000" y="2529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孩子们：都很害怕，吓哭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140200" y="38098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尼基申：沿着狗的脚印走出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990720" y="2685960"/>
            <a:ext cx="152280" cy="1581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1040 h 1581120"/>
              <a:gd name="textAreaBottom" fmla="*/ 1540080 h 15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6324480" y="2666880"/>
            <a:ext cx="152640" cy="152424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1906560" y="1812960"/>
            <a:ext cx="14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熟悉　辨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716800" y="1812960"/>
            <a:ext cx="14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碰到　野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906560" y="2879640"/>
            <a:ext cx="14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吼叫　脚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716800" y="2879640"/>
            <a:ext cx="14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互相　顺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906560" y="3886200"/>
            <a:ext cx="14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告诉　交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16800" y="3886200"/>
            <a:ext cx="14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过　守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>
            <a:off x="2346480" y="236232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 rot="10800000">
            <a:off x="2346120" y="312372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889280" y="358128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 rot="17786400">
            <a:off x="1658880" y="2757240"/>
            <a:ext cx="685800" cy="6541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92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 rot="3670800">
            <a:off x="3030120" y="2757240"/>
            <a:ext cx="685800" cy="6541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7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2803680" y="361476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6324480" y="236232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 rot="10800000">
            <a:off x="6324120" y="312372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5867280" y="358128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 rot="3670800">
            <a:off x="6992640" y="2757240"/>
            <a:ext cx="685800" cy="6541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7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6781680" y="361476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5"/>
          <p:cNvSpPr/>
          <p:nvPr/>
        </p:nvSpPr>
        <p:spPr>
          <a:xfrm rot="16598400">
            <a:off x="5653800" y="275796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04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522520" y="1136520"/>
            <a:ext cx="4181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悉  辨  碰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09680" y="819000"/>
            <a:ext cx="8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xī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016680" y="819000"/>
            <a:ext cx="9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è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428280" y="3935520"/>
            <a:ext cx="3038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兽  吼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429000" y="365760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327640" y="35812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ǒ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191120" y="838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ShockwaveFlash1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ShockwaveFlash2" descr=""/>
          <p:cNvPicPr/>
          <p:nvPr/>
        </p:nvPicPr>
        <p:blipFill>
          <a:blip r:embed="rId3"/>
          <a:stretch/>
        </p:blipFill>
        <p:spPr>
          <a:xfrm>
            <a:off x="426708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ShockwaveFlash3" descr=""/>
          <p:cNvPicPr/>
          <p:nvPr/>
        </p:nvPicPr>
        <p:blipFill>
          <a:blip r:embed="rId4"/>
          <a:stretch/>
        </p:blipFill>
        <p:spPr>
          <a:xfrm>
            <a:off x="617220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ShockwaveFlash6" descr=""/>
          <p:cNvPicPr/>
          <p:nvPr/>
        </p:nvPicPr>
        <p:blipFill>
          <a:blip r:embed="rId5"/>
          <a:stretch/>
        </p:blipFill>
        <p:spPr>
          <a:xfrm>
            <a:off x="3505320" y="51814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ShockwaveFlash7" descr=""/>
          <p:cNvPicPr/>
          <p:nvPr/>
        </p:nvPicPr>
        <p:blipFill>
          <a:blip r:embed="rId6"/>
          <a:stretch/>
        </p:blipFill>
        <p:spPr>
          <a:xfrm>
            <a:off x="5410080" y="518148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3833-5525-4B25-AC34-244E0CD4AE3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04"/>
          <p:cNvPicPr/>
          <p:nvPr/>
        </p:nvPicPr>
        <p:blipFill>
          <a:blip r:embed="rId1"/>
          <a:stretch/>
        </p:blipFill>
        <p:spPr>
          <a:xfrm>
            <a:off x="6248520" y="3124080"/>
            <a:ext cx="214452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/>
          <p:cNvSpPr/>
          <p:nvPr/>
        </p:nvSpPr>
        <p:spPr>
          <a:xfrm>
            <a:off x="5105520" y="380880"/>
            <a:ext cx="3352680" cy="1828800"/>
          </a:xfrm>
          <a:prstGeom prst="cloudCallout">
            <a:avLst>
              <a:gd name="adj1" fmla="val 55587"/>
              <a:gd name="adj2" fmla="val 8532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 假如你在森林中迷路了，你用什么方法辨别方向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71440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118640" y="6019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南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002"/>
          <p:cNvPicPr/>
          <p:nvPr/>
        </p:nvPicPr>
        <p:blipFill>
          <a:blip r:embed="rId2"/>
          <a:stretch/>
        </p:blipFill>
        <p:spPr>
          <a:xfrm>
            <a:off x="1066680" y="1295280"/>
            <a:ext cx="365148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762120" y="3841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一天，刚下过雪，爷爷带尼基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hē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去林子里玩。路上，他把雪地上动物的脚印指给尼基申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bià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认。还说，什么东西都得学，各种知识对人都是有帮助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138840" y="2743200"/>
            <a:ext cx="310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</a:rPr>
              <a:t>熟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(shú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(xī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的脚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76320" y="5562720"/>
            <a:ext cx="877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09480" y="7621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过了几天，尼基申和小朋友出去玩。回来的时候，大家来到一个交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hā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路口。尼基申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我们抄近路，穿过森林回家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孩子们都很高兴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互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hù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相在雪地上追赶着。他们发现雪地上各种动物的脚印，便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hù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着脚印追去。一会儿发现了狐狸，一会儿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pè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到了野山羊。他们追着，追着，不知不觉在森林中迷路了。远处传来野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hòu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的吼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hǒu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叫声，孩子们都很害怕，有的吓得哭了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95360" y="1219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怎样才能走出森林呢？尼基申大声喊叫，可是森林里什么人也没有。突然，尼基申发现雪地上有一行熟悉的脚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有办法了！跟我走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孩子们跟着尼基申，顺着这行脚印，走哇，走哇，终于来到了一间小木屋前。这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hǒu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林人的住房，屋前有一条小路，一直通向村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838080" y="31240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你是沿着什么脚印带我们回来的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孩子们问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狗的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尼基申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狗的脚印总是通向主人的家，无论它在森林中跑得多么远，总要回家的。这是爷爷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ɡào)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ù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我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3841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一天，刚下过雪，爷爷带尼基申去林子里玩。路上，他把雪地上动物的脚印指给尼基申辨认。还说，什么东西都得学，各种知识对人都是有帮助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909960" y="28036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熟悉的脚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09480" y="781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过了几天，尼基申和小朋友出去玩。回来的时候，大家来到一个交叉路口。尼基申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我们抄近路，穿过森林回家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孩子们都很高兴，互相在雪地上追赶着。他们发现雪地上各种动物的脚印，便顺着脚印追去。一会儿发现了狐狸，一会儿碰到了野山羊。他们追着，追着，不知不觉在森林中迷路了。远处传来野兽的吼叫声，孩子们都很害怕，有的吓得哭了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914400" y="3581280"/>
            <a:ext cx="3276720" cy="1600200"/>
          </a:xfrm>
          <a:prstGeom prst="cloudCallout">
            <a:avLst>
              <a:gd name="adj1" fmla="val -58430"/>
              <a:gd name="adj2" fmla="val 7143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孩子们是怎样走进森林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286000" y="15238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6019920" y="152388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1066680" y="304812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6934320" y="30481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685800" y="34066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2286000" y="340524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20320" y="317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迷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998000" y="2529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孩子们：都很害怕，吓哭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990720" y="2638440"/>
            <a:ext cx="152280" cy="1581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1040 h 1581120"/>
              <a:gd name="textAreaBottom" fmla="*/ 1540080 h 15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00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2:17Z</dcterms:modified>
  <cp:revision>9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