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6EA4-ECA9-410F-B8F1-F7474A29C7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C162-621B-4312-97F0-CB91111D51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0DF-B0D9-4279-A99F-79639471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9F5-34A7-4E37-AA7A-143A4E45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C01-B57B-44D8-A9B1-85C08847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D8E-A844-4BB9-A5B7-AEB4EA3C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241-B99B-43D1-A834-8B397DC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248-A0DF-43BA-8AF3-9042432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F86-3543-480C-8846-7BAD6DB9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440-D6CF-4549-A910-FB27652B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D42-FFB5-4280-AB8D-563E289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FE1-D233-4C63-A3D8-E658C17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7F3-3CA0-4EBD-9A52-DE76699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DE1-9336-4F3A-953F-924DE1C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9A93-0E1B-4E0A-81B3-AC92015F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116000" y="1200240"/>
            <a:ext cx="71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树叶都是绿色的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44052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101205153337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900000" y="-458640"/>
            <a:ext cx="3024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68360" y="2384280"/>
            <a:ext cx="68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认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生字，正确读写本课的新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课文，抓住课文的重点部分，理解课文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908000" y="0"/>
            <a:ext cx="590400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我会写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23353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ǐ       jiǎn       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ì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启         简        亦        毕        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启发     简单  人云亦云 毕业    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图片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2700360" y="0"/>
            <a:ext cx="4103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0" y="1952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áo        jiàn       nuò       bèi        cá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疗           践           诺         辈         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治疗       实践       承诺    长辈     木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图片1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250920" y="0"/>
            <a:ext cx="6192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我会认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87280" y="2695680"/>
            <a:ext cx="65534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īng        zhé     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婴           哲          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婴儿        哲学       奇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u=1318920452,3467049483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250920" y="620640"/>
            <a:ext cx="4321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我检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22827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想一想，这篇课文给了我们什么启示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372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一个人成长过程中，老师的循循善诱固然重要，更重要的是要领会老师的用心，从中得到启迪，学会学习，学会做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图片15"/>
          <p:cNvPicPr/>
          <p:nvPr/>
        </p:nvPicPr>
        <p:blipFill>
          <a:blip r:embed="rId1"/>
          <a:stretch/>
        </p:blipFill>
        <p:spPr>
          <a:xfrm>
            <a:off x="0" y="14400"/>
            <a:ext cx="9109080" cy="6829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1449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填字组成成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云（ ）云              千（ ）百（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）久不忘               （  ）口（  ）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兴味（ ）然                不（  ）不（ ）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片1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160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写出下列词语的近义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著（      ）简单（     ）积累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贵（      ）启发（     ）回答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掌握（      ）称赞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419200" y="4822920"/>
            <a:ext cx="50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F0CB-1668-4DF4-94A4-E1D732813C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08:30:00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40:22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