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CFAC-4ED3-474B-A37B-0EBC2CE1966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3085-6FBD-4596-A26E-9A58D7B76C6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54FD-3699-4FD5-9DC2-15D3D4B1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A6AF-B6EC-4F72-B24F-4E10B924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E56E-F33F-4BB8-B049-D11CBC4C5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FC69-3D6C-4FD5-83B0-B0C9983CC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72E0-9C81-455A-A2D1-BFF14A35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94B2-40B9-4055-AF32-90754648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2FB4-A527-4E8A-85E6-DB3C7F08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1C1C-EB87-41C2-8565-47867CB0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7256-DFAF-4548-A0E2-AB1C17C2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9D36-68D3-4A82-87BC-91BDF746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5931-F3B1-448B-A251-61629043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5C7C-DA76-40A6-84DA-ED3BAF20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3179-9552-49A2-A0A3-8895634B5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news.163.com/05/0606/11/1LIFEHCS0001122C.html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219320" y="9144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00ff"/>
                </a:solidFill>
                <a:latin typeface="华文隶书"/>
                <a:ea typeface="华文隶书"/>
              </a:rPr>
              <a:t>少一个马掌钉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1523880" y="586728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7030a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2390760" y="2286000"/>
            <a:ext cx="4495680" cy="3363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理解词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228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权杖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凑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冲锋陷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扬鞭策马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缰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倾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4271400" y="16002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借指权威或职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2819520" y="2209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将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2057400" y="28195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向敌人冲锋，深入敌人阵地形容作战英勇。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5084280" y="39625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驱马快速前行，借指出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4068360" y="4572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牵牲口的绳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2743200" y="53341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使失败，颠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362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阅读思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简洁的话说说课文主要讲了一个什么故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358128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理清文章层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600200"/>
            <a:ext cx="198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四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4484160" y="1579680"/>
            <a:ext cx="104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）决战即将打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4596120" y="2722680"/>
            <a:ext cx="14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2-12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）钉马掌，少钉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4610520" y="3865680"/>
            <a:ext cx="18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13-15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）掉马掌，打败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3797640" y="5084640"/>
            <a:ext cx="429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16-21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）查理国王战败的原因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838080" y="175248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查理环顾四周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在空中挥舞着宝剑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绝望地喊道：“马！我的马，难道国家倾覆，就因为这一匹马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1371600" y="144792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查理说的话对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他到底为什么会失败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990720" y="121932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查理国王战败的原因是“少 钉了一个马掌钉”。这里有战势的紧张，情况的危急，更有马夫的不负责任，铁匠的将就敷衍。总之，真正的原因在于忽视了“细节”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914400" y="1295280"/>
            <a:ext cx="72388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Arial"/>
                <a:ea typeface="楷体_GB2312"/>
              </a:rPr>
              <a:t>少了一个铁钉，丢了一只马掌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Arial"/>
                <a:ea typeface="楷体_GB2312"/>
              </a:rPr>
              <a:t>丢了一只马掌，跑了一匹战马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Arial"/>
                <a:ea typeface="楷体_GB2312"/>
              </a:rPr>
              <a:t>跑了一匹战马，败了一场战役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Arial"/>
                <a:ea typeface="楷体_GB2312"/>
              </a:rPr>
              <a:t>败了一场战役，失了一个国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143000" y="1676520"/>
            <a:ext cx="678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马夫和铁匠听说了查理战败的消息后，会怎样想呢？在这次战役后，又发生了什么事呢？续写</a:t>
            </a:r>
            <a:r>
              <a:rPr b="1" lang="en-US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一个马掌钉</a:t>
            </a:r>
            <a:r>
              <a:rPr b="1" lang="en-US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的故事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"/>
          <p:cNvSpPr/>
          <p:nvPr/>
        </p:nvSpPr>
        <p:spPr>
          <a:xfrm>
            <a:off x="520560" y="5932440"/>
            <a:ext cx="53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838080" y="6858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99"/>
                </a:solidFill>
                <a:latin typeface="Arial"/>
              </a:rPr>
              <a:t>读一读，背一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838080" y="1828800"/>
            <a:ext cx="6629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千里之行，始于足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天下难事，必做于易；天下大事，必做于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千里之堤，溃于蚁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大理不辞小让，细节决定成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小事成就大事，细节成就完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689400" y="1676520"/>
            <a:ext cx="667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少一个马掌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451880" y="990720"/>
            <a:ext cx="454680" cy="42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———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600200" y="83808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286000" y="685800"/>
            <a:ext cx="297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争王位    将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76520" y="205740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1676520" y="327672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1676520" y="472428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2286000" y="1981080"/>
            <a:ext cx="3124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钉马掌    少钉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2—1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2209680" y="3200400"/>
            <a:ext cx="4465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掉马掌     打败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13—21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2286000" y="4648320"/>
            <a:ext cx="3200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痛毁国     结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16—21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6400800" y="1447920"/>
            <a:ext cx="21258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小事本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大事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把握细节        定乾坤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6023880" y="838080"/>
            <a:ext cx="4546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————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5867280" y="7621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5715000" y="4724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1600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导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438280" y="1447920"/>
            <a:ext cx="5410440" cy="3962160"/>
          </a:xfrm>
          <a:prstGeom prst="cloudCallout">
            <a:avLst>
              <a:gd name="adj1" fmla="val -76231"/>
              <a:gd name="adj2" fmla="val 46152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国著名剧作家莎士比亚有一句名言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，一马失社稷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匹马怎么可能会让一个国家倾覆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2895480" y="2209680"/>
            <a:ext cx="3124440" cy="16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楷体_GB2312"/>
              </a:rPr>
              <a:t>再见</a:t>
            </a:r>
            <a:endParaRPr b="0" lang="en-US" sz="54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blinds dir="vert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C731-E6D1-460B-9574-0D3CC847DFE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78093ECC793EE437846D6B85CA80AE80"/>
          <p:cNvPicPr/>
          <p:nvPr/>
        </p:nvPicPr>
        <p:blipFill>
          <a:blip r:embed="rId1"/>
          <a:stretch/>
        </p:blipFill>
        <p:spPr>
          <a:xfrm>
            <a:off x="0" y="1295280"/>
            <a:ext cx="4572000" cy="556272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0"/>
          <p:cNvSpPr/>
          <p:nvPr/>
        </p:nvSpPr>
        <p:spPr>
          <a:xfrm>
            <a:off x="3419640" y="4941720"/>
            <a:ext cx="976320" cy="486000"/>
          </a:xfrm>
          <a:prstGeom prst="rightArrow">
            <a:avLst>
              <a:gd name="adj1" fmla="val 6013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1"/>
          <p:cNvSpPr/>
          <p:nvPr/>
        </p:nvSpPr>
        <p:spPr>
          <a:xfrm>
            <a:off x="3995640" y="4724280"/>
            <a:ext cx="976320" cy="486000"/>
          </a:xfrm>
          <a:custGeom>
            <a:avLst/>
            <a:gdLst>
              <a:gd name="textAreaLeft" fmla="*/ 84960 w 976320"/>
              <a:gd name="textAreaRight" fmla="*/ 891360 w 976320"/>
              <a:gd name="textAreaTop" fmla="*/ 83880 h 486000"/>
              <a:gd name="textAreaBottom" fmla="*/ 402120 h 486000"/>
            </a:gdLst>
            <a:ahLst/>
            <a:rect l="textAreaLeft" t="textAreaTop" r="textAreaRight" b="textAreaBottom"/>
            <a:pathLst>
              <a:path w="21600" h="21600">
                <a:moveTo>
                  <a:pt x="0" y="3741"/>
                </a:moveTo>
                <a:lnTo>
                  <a:pt x="18722" y="3741"/>
                </a:lnTo>
                <a:lnTo>
                  <a:pt x="18722" y="0"/>
                </a:lnTo>
                <a:lnTo>
                  <a:pt x="21600" y="10800"/>
                </a:lnTo>
                <a:lnTo>
                  <a:pt x="18722" y="21600"/>
                </a:lnTo>
                <a:lnTo>
                  <a:pt x="18722" y="17859"/>
                </a:lnTo>
                <a:lnTo>
                  <a:pt x="0" y="17859"/>
                </a:lnTo>
                <a:lnTo>
                  <a:pt x="1881" y="10800"/>
                </a:lnTo>
                <a:lnTo>
                  <a:pt x="0" y="374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2"/>
          <p:cNvSpPr/>
          <p:nvPr/>
        </p:nvSpPr>
        <p:spPr>
          <a:xfrm>
            <a:off x="3564000" y="4869000"/>
            <a:ext cx="1368360" cy="360360"/>
          </a:xfrm>
          <a:prstGeom prst="leftRightArrow">
            <a:avLst>
              <a:gd name="adj1" fmla="val 50000"/>
              <a:gd name="adj2" fmla="val 7590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3"/>
          <p:cNvSpPr/>
          <p:nvPr/>
        </p:nvSpPr>
        <p:spPr>
          <a:xfrm>
            <a:off x="3564000" y="4869000"/>
            <a:ext cx="1295280" cy="215640"/>
          </a:xfrm>
          <a:prstGeom prst="leftRightArrow">
            <a:avLst>
              <a:gd name="adj1" fmla="val 50000"/>
              <a:gd name="adj2" fmla="val 1201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4">
            <a:hlinkClick r:id="rId2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5" descr="2005617919050148"/>
          <p:cNvPicPr/>
          <p:nvPr/>
        </p:nvPicPr>
        <p:blipFill>
          <a:blip r:embed="rId3"/>
          <a:stretch/>
        </p:blipFill>
        <p:spPr>
          <a:xfrm>
            <a:off x="4800600" y="1295280"/>
            <a:ext cx="4343400" cy="5562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867280" y="380880"/>
            <a:ext cx="236232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方正少儿_GBK"/>
              </a:rPr>
              <a:t>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方正少儿_GBK"/>
              </a:rPr>
              <a:t>马蹄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533520" y="457200"/>
            <a:ext cx="237492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方正少儿_GBK"/>
              </a:rPr>
              <a:t>钉马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33520" y="19047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防止马匹走路、奔跑时受伤，人们通常在马蹄处钉上铁掌。钉马掌时，要用上很多的铁钉，也就是马掌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24"/>
          <p:cNvSpPr/>
          <p:nvPr/>
        </p:nvSpPr>
        <p:spPr>
          <a:xfrm>
            <a:off x="2884320" y="39625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田字格"/>
          <p:cNvPicPr/>
          <p:nvPr/>
        </p:nvPicPr>
        <p:blipFill>
          <a:blip r:embed="rId1"/>
          <a:stretch/>
        </p:blipFill>
        <p:spPr>
          <a:xfrm>
            <a:off x="2514600" y="144792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2514600" y="1295280"/>
            <a:ext cx="118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厮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田字格"/>
          <p:cNvPicPr/>
          <p:nvPr/>
        </p:nvPicPr>
        <p:blipFill>
          <a:blip r:embed="rId2"/>
          <a:stretch/>
        </p:blipFill>
        <p:spPr>
          <a:xfrm>
            <a:off x="762120" y="144792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9"/>
          <p:cNvSpPr/>
          <p:nvPr/>
        </p:nvSpPr>
        <p:spPr>
          <a:xfrm>
            <a:off x="762120" y="1295280"/>
            <a:ext cx="118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田字格"/>
          <p:cNvPicPr/>
          <p:nvPr/>
        </p:nvPicPr>
        <p:blipFill>
          <a:blip r:embed="rId3"/>
          <a:stretch/>
        </p:blipFill>
        <p:spPr>
          <a:xfrm>
            <a:off x="4495680" y="144792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1"/>
          <p:cNvSpPr/>
          <p:nvPr/>
        </p:nvSpPr>
        <p:spPr>
          <a:xfrm>
            <a:off x="4495680" y="1371600"/>
            <a:ext cx="118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2" descr="田字格"/>
          <p:cNvPicPr/>
          <p:nvPr/>
        </p:nvPicPr>
        <p:blipFill>
          <a:blip r:embed="rId4"/>
          <a:stretch/>
        </p:blipFill>
        <p:spPr>
          <a:xfrm>
            <a:off x="6477120" y="137160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3"/>
          <p:cNvSpPr/>
          <p:nvPr/>
        </p:nvSpPr>
        <p:spPr>
          <a:xfrm>
            <a:off x="6477120" y="1295280"/>
            <a:ext cx="118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6" descr="田字格"/>
          <p:cNvPicPr/>
          <p:nvPr/>
        </p:nvPicPr>
        <p:blipFill>
          <a:blip r:embed="rId5"/>
          <a:stretch/>
        </p:blipFill>
        <p:spPr>
          <a:xfrm>
            <a:off x="762120" y="541008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7"/>
          <p:cNvSpPr/>
          <p:nvPr/>
        </p:nvSpPr>
        <p:spPr>
          <a:xfrm>
            <a:off x="762120" y="5257800"/>
            <a:ext cx="118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9"/>
          <p:cNvSpPr/>
          <p:nvPr/>
        </p:nvSpPr>
        <p:spPr>
          <a:xfrm>
            <a:off x="838080" y="5335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j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0"/>
          <p:cNvSpPr/>
          <p:nvPr/>
        </p:nvSpPr>
        <p:spPr>
          <a:xfrm>
            <a:off x="2819520" y="5335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1"/>
          <p:cNvSpPr/>
          <p:nvPr/>
        </p:nvSpPr>
        <p:spPr>
          <a:xfrm>
            <a:off x="4343400" y="5335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2"/>
          <p:cNvSpPr/>
          <p:nvPr/>
        </p:nvSpPr>
        <p:spPr>
          <a:xfrm>
            <a:off x="6324480" y="4572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j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ā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8"/>
          <p:cNvSpPr/>
          <p:nvPr/>
        </p:nvSpPr>
        <p:spPr>
          <a:xfrm>
            <a:off x="685800" y="2666880"/>
            <a:ext cx="2286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</a:rPr>
              <a:t>爵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</a:rPr>
              <a:t>爵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9"/>
          <p:cNvSpPr/>
          <p:nvPr/>
        </p:nvSpPr>
        <p:spPr>
          <a:xfrm>
            <a:off x="2438280" y="2590920"/>
            <a:ext cx="23623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</a:rPr>
              <a:t>厮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</a:rPr>
              <a:t>厮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0"/>
          <p:cNvSpPr/>
          <p:nvPr/>
        </p:nvSpPr>
        <p:spPr>
          <a:xfrm>
            <a:off x="4419720" y="2666880"/>
            <a:ext cx="2133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</a:rPr>
              <a:t>鞭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</a:rPr>
              <a:t>扬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1"/>
          <p:cNvSpPr/>
          <p:nvPr/>
        </p:nvSpPr>
        <p:spPr>
          <a:xfrm>
            <a:off x="6400800" y="2590920"/>
            <a:ext cx="14479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</a:rPr>
              <a:t>缰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</a:rPr>
              <a:t>脱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2"/>
          <p:cNvSpPr/>
          <p:nvPr/>
        </p:nvSpPr>
        <p:spPr>
          <a:xfrm>
            <a:off x="990720" y="4572000"/>
            <a:ext cx="7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f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3"/>
          <p:cNvSpPr/>
          <p:nvPr/>
        </p:nvSpPr>
        <p:spPr>
          <a:xfrm>
            <a:off x="2286000" y="548640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</a:rPr>
              <a:t>倾覆  覆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457200" y="838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多音字辨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600200" y="2133720"/>
            <a:ext cx="4724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īng  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铁钉   钉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ìng  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钉马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1143000" y="4495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争夺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谦让            惊恐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镇定  绝望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希望            退却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前进   冲锋陷阵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临阵脱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143000" y="1523880"/>
            <a:ext cx="6629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厮杀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拼杀     凑合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将就                        退却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后退     绝望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失望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惊恐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惊慌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33520" y="5335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近义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609480" y="3581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反义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5:26:4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07:19Z</dcterms:modified>
  <cp:revision>7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