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46D9-E638-465E-A544-A4C50E5659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EA3-F458-4C74-BB0E-E954981611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764-1A84-448A-BDDD-3747E1B0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024-0D53-41AF-BC7C-FF4707AF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3BB-87FD-4122-9FBC-139D398F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BE5-4560-438B-9EED-9A3096B0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A0D-A555-4DD0-AAAA-E4B23D30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A24-DE86-4C77-9FA0-CD04E784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A74-FB77-4311-8BA9-8B074A3D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F4D-72DC-4CE3-8727-7022E3C7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C34-09AA-4D71-B6E7-6D619ED4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825-ED24-48FE-AD7B-F5F455A2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EC5-126F-49AC-BBE8-DE530B6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0C8-B987-47AF-8362-830349C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BAD7-0270-495A-BD7F-FA5E4771A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ontrol 4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rol 5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rol 6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WordArt 7" descr=""/>
          <p:cNvPicPr/>
          <p:nvPr/>
        </p:nvPicPr>
        <p:blipFill>
          <a:blip r:embed="rId1"/>
          <a:stretch/>
        </p:blipFill>
        <p:spPr>
          <a:xfrm>
            <a:off x="1581120" y="974880"/>
            <a:ext cx="5943600" cy="263196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 rot="5400000">
            <a:off x="7129080" y="3844800"/>
            <a:ext cx="1530360" cy="698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陆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179496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诗通过写出作者夜卧孤村，连梦中都想为国戍边杀敌的描述，充分表达了作者报国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诗语言朴实明快、豪放流畅、通俗平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表现方法上采用“寄情于梦，虚实结合的写法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4508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86D8-FEEB-4B27-B764-54A16BD344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陆游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25—121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，字务观，号放翁。汉族，越州山阴（今浙江绍兴）人。南宋诗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年退居家乡，但收复中原信念始终不渝。创作诗歌很多，今存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九千多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内容极为丰富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抒发政治抱负，反映人民疾苦，风格雄浑豪放；抒写日常生活，也多清新之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词作量不如诗篇巨大，但和诗同样贯穿了气吞残虏的爱国主义精神。著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剑南诗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渭南文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唐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4508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十一月四日风雨大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              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陆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   　僵卧孤村不自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   　尚思为国戍轮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   　夜阑卧听风吹雨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        铁马冰河入梦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trol 4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4508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333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⑴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僵卧：直挺挺躺着。此指无所作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⑵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孤村：孤寂荒凉的村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⑶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自哀：不为自己而感到悲伤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为自己哀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⑷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尚：副词，还，仍然；表示事情的继续或残存状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⑸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思：想着，想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⑹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为：介词，为，为了；表示动作行为的目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⑺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戍轮台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在新疆一带防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戍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，守卫。轮台：现在的新疆轮台县，汉代曾在这里驻兵屯守。 这里泛指北方的边防据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2700360" y="3789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82368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⑻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夜阑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夜将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阑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lán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残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⑼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卧听：躺着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⑽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风吹雨：风雨交加，和题目中“风雨大作”相呼应；当时南宋王朝处于风雨飘摇之中，“风吹雨”也是时局写照，故诗人直到深夜尚难成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⑾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铁马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披着铁甲的战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⑿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冰河：冰封的河流，指北方地区的河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4508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僵直地躺在孤寂荒凉的乡村里，没有为自己的处境而感到悲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中还想着替国家防卫边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夜将尽了，躺在床上听到那风雨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迷迷糊糊梦见自己骑着披甲的战马踏过冰河奔赴前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4508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首诗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情感激昂，精神饱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作者晚年境遇困顿，身体衰弱，但并没有哀伤自己，而是想着从军奔赴边疆，跨战马，抗击敌人进犯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表达了诗人的爱国热情希望用实际行动来报效国家，忧国忧民的思想感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450864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"/>
          <p:cNvSpPr/>
          <p:nvPr/>
        </p:nvSpPr>
        <p:spPr>
          <a:xfrm>
            <a:off x="1785960" y="5391000"/>
            <a:ext cx="50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75248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僵卧孤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自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尚思为国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戍轮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181480" y="2819520"/>
            <a:ext cx="65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点明处境及心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直抒报国情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4859280" y="2492280"/>
            <a:ext cx="152280" cy="213372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95280" y="76500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夜阑卧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吹雨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铁马冰河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入梦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076720" y="1557360"/>
            <a:ext cx="32767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虚实结合的写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35c2"/>
                </a:solidFill>
                <a:latin typeface="Arial"/>
              </a:rPr>
              <a:t>实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雨夜之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35c2"/>
                </a:solidFill>
                <a:latin typeface="Arial"/>
              </a:rPr>
              <a:t>虚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梦境战场杀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4788000" y="1557360"/>
            <a:ext cx="152280" cy="213372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6300720" y="386064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076720" y="45086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达报国情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4508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3:42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4:42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