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arrow.wav" ContentType="audio/x-wav"/>
  <Override PartName="/ppt/media/coin.wav" ContentType="audio/x-wav"/>
  <Override PartName="/ppt/media/image7.jpeg" ContentType="image/jpeg"/>
  <Override PartName="/ppt/media/camera.wav" ContentType="audio/x-wav"/>
  <Override PartName="/ppt/media/wind.wav" ContentType="audio/x-wav"/>
  <Override PartName="/ppt/media/chimes.wav" ContentType="audio/x-wav"/>
  <Override PartName="/ppt/media/image4.jpeg" ContentType="image/jpeg"/>
  <Override PartName="/ppt/media/image3.jpeg" ContentType="image/jpeg"/>
  <Override PartName="/ppt/media/image15.png" ContentType="image/png"/>
  <Override PartName="/ppt/media/image12.png" ContentType="image/png"/>
  <Override PartName="/ppt/media/image11.png" ContentType="image/png"/>
  <Override PartName="/ppt/media/image14.png" ContentType="image/png"/>
  <Override PartName="/ppt/media/image9.wmf" ContentType="image/x-wmf"/>
  <Override PartName="/ppt/media/hammer.wav" ContentType="audio/x-wav"/>
  <Override PartName="/ppt/media/image13.png" ContentType="image/png"/>
  <Override PartName="/ppt/media/image8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1C3D-B417-4059-B44B-0EF177C656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E349-11D7-49D3-8A50-293380E126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0CB-9865-4F31-86F6-45BD5DBC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7F0-37CE-47F9-A381-C6F93B8B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CEB-2F0B-43F6-85E8-067C4828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1F1-DF05-4C4D-AB59-DBC99BF8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0E1-744F-4F5D-BB20-0455C02E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FC7-4E3A-4093-9F5E-C1938BE3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855-29D5-436F-B471-8EBB1C7C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D36-CB75-458B-B008-AFB96CE4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F00-20BD-46C6-883A-D858404E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BC3-48CD-4210-85CA-09130A6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909-98E7-4978-B912-AD34F8C1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7CA-3E5F-4C0F-904D-5391DACA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85C3-2904-46E6-88A2-7B89714C3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file:///../../&#35821;&#25991;S&#29256;&#20116;&#24180;&#32423;&#19978;&#20876;&#35838;&#20214;&#30446;&#24405;B.ppt" TargetMode="External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914400" y="2173320"/>
            <a:ext cx="5126040" cy="25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天窗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723960" y="59310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295280" y="1143000"/>
            <a:ext cx="7597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乡下人在屋顶开一个小方洞，装了一块玻璃，叫做（         ）。每当（                     ） 时，或（                 ）时，小小的天窗是孩子（                 ）。这小小的一方空白是神奇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800600" y="18288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375240" y="2362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95480" y="29718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夏天阵雨来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828800" y="3562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晚上被逼上床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467160" y="4203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唯一的慰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8600" y="304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整体感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oin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57200" y="2286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447920" y="9111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浏览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447920" y="169380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天窗给孩子们带来了什么？（用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上的一句话来概括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143000" y="37846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小的天窗是唯一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慰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182844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透过小小的天窗，孩子们看见了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么，又想到了什么？分别用</a:t>
            </a:r>
            <a:r>
              <a:rPr b="1" lang="zh-CN" sz="3600" spc="-1" strike="noStrike">
                <a:solidFill>
                  <a:srgbClr val="3333ff"/>
                </a:solidFill>
                <a:latin typeface="Arial Black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Arial Black"/>
              </a:rPr>
              <a:t>——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3333ff"/>
                </a:solidFill>
                <a:latin typeface="Arial Black"/>
                <a:ea typeface="黑体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Arial Black"/>
                <a:ea typeface="黑体"/>
              </a:rPr>
              <a:t>~~~~”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画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1371600" y="990720"/>
            <a:ext cx="25146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合作探究：</a:t>
            </a:r>
            <a:endParaRPr b="0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80880" y="1066680"/>
          <a:ext cx="8305920" cy="5162400"/>
        </p:xfrm>
        <a:graphic>
          <a:graphicData uri="http://schemas.openxmlformats.org/drawingml/2006/table">
            <a:tbl>
              <a:tblPr/>
              <a:tblGrid>
                <a:gridCol w="3733920"/>
                <a:gridCol w="457200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看    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想     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22"/>
          <p:cNvSpPr/>
          <p:nvPr/>
        </p:nvSpPr>
        <p:spPr>
          <a:xfrm>
            <a:off x="533520" y="18288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雨脚在那里卜落卜落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838080" y="2971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带子似的闪电一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4419720" y="1752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这雨、这风、这雷、这电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怎样猛厉地扫荡了这世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4343400" y="274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它们的威力比你在露天真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感到的要大十倍百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6"/>
          <p:cNvSpPr/>
          <p:nvPr/>
        </p:nvSpPr>
        <p:spPr>
          <a:xfrm>
            <a:off x="762120" y="4114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颗星，一朵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7"/>
          <p:cNvSpPr/>
          <p:nvPr/>
        </p:nvSpPr>
        <p:spPr>
          <a:xfrm>
            <a:off x="4191120" y="3809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无数闪闪烁烁可爱的星；无数像山似的、马似的、巨人似的奇幻的云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380880" y="5334120"/>
            <a:ext cx="36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掠过一条黑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4114800" y="50292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这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也许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是灰色的蝙蝠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也许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是会唱歌的夜莺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也许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是恶霸似的猫头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30"/>
          <p:cNvSpPr txBox="1"/>
          <p:nvPr/>
        </p:nvSpPr>
        <p:spPr>
          <a:xfrm>
            <a:off x="609480" y="304920"/>
            <a:ext cx="20196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合作探究</a:t>
            </a:r>
            <a:endParaRPr b="0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24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说话训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888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会从那小玻璃上面掠过一条黑影，想象到这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也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灰色的蝙蝠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也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会唱歌的夜莺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也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恶霸似的猫头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之，美丽而神奇的夜的世界的一切，立刻会在你的想象中展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们通过那小玻璃上面掠过的一条黑影还能想象到什么呢？请你再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....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也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....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也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....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也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..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6668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时，你觉得天窗还是乡下屋子房顶上那一扇小小的玻璃窗吗？它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拓展学习"/>
          <p:cNvPicPr/>
          <p:nvPr/>
        </p:nvPicPr>
        <p:blipFill>
          <a:blip r:embed="rId1"/>
          <a:stretch/>
        </p:blipFill>
        <p:spPr>
          <a:xfrm>
            <a:off x="380880" y="0"/>
            <a:ext cx="3565800" cy="8809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295280" y="12193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窗外的世界是幅永恒的画面，印在茅盾爷爷的心上，也印在我们的心中。想象是首隽永的小诗，想象是支悠扬的小曲，想象是一对金色的翅膀，有了它，我们就可以飞起来离开熟悉的陆地，离开司空见惯的事物，进入一个个神奇、美妙、广阔的境界。愿同学们插上想象的翅膀，使得生活变得更加丰富有趣。愿你们的人生永远有一扇天窗向你们开放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371600" y="425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教师寄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6"/>
          <p:cNvSpPr txBox="1"/>
          <p:nvPr/>
        </p:nvSpPr>
        <p:spPr>
          <a:xfrm rot="339600">
            <a:off x="1676160" y="1828440"/>
            <a:ext cx="5410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敬请指导！</a:t>
            </a:r>
            <a:endParaRPr b="0" lang="en-US" sz="4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2703600" y="5737320"/>
            <a:ext cx="52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A024-E83A-4777-B571-A4E6340A1D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7920" y="4876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乡下的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乡下的房子"/>
          <p:cNvPicPr/>
          <p:nvPr/>
        </p:nvPicPr>
        <p:blipFill>
          <a:blip r:embed="rId1"/>
          <a:stretch/>
        </p:blipFill>
        <p:spPr>
          <a:xfrm>
            <a:off x="1447920" y="99072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320004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楷体_GBK"/>
              </a:rPr>
              <a:t>木板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木板窗"/>
          <p:cNvPicPr/>
          <p:nvPr/>
        </p:nvPicPr>
        <p:blipFill>
          <a:blip r:embed="rId1"/>
          <a:stretch/>
        </p:blipFill>
        <p:spPr>
          <a:xfrm>
            <a:off x="3152880" y="762120"/>
            <a:ext cx="4619520" cy="4944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天窗04"/>
          <p:cNvPicPr/>
          <p:nvPr/>
        </p:nvPicPr>
        <p:blipFill>
          <a:blip r:embed="rId1"/>
          <a:stretch/>
        </p:blipFill>
        <p:spPr>
          <a:xfrm>
            <a:off x="4343400" y="1981080"/>
            <a:ext cx="4800600" cy="487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天窗"/>
          <p:cNvPicPr/>
          <p:nvPr/>
        </p:nvPicPr>
        <p:blipFill>
          <a:blip r:embed="rId2">
            <a:lum bright="-2000"/>
          </a:blip>
          <a:stretch/>
        </p:blipFill>
        <p:spPr>
          <a:xfrm>
            <a:off x="0" y="2286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4648320" y="11430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edge/>
    <p:sndAc>
      <p:stSnd>
        <p:snd r:embed="rId3" name="camera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1"/>
          <p:cNvPicPr/>
          <p:nvPr/>
        </p:nvPicPr>
        <p:blipFill>
          <a:blip r:embed="rId1"/>
          <a:stretch/>
        </p:blipFill>
        <p:spPr>
          <a:xfrm>
            <a:off x="1295280" y="380880"/>
            <a:ext cx="7391520" cy="5892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209680" y="17701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95120" y="228240"/>
            <a:ext cx="62485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1343160" y="596880"/>
            <a:ext cx="3000240" cy="2247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4572000" y="9907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茅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中国现代最著名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文学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一，原名沈德鸿，字雁冰。茅盾是他的笔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343160" y="3048120"/>
            <a:ext cx="71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出生在浙江省桐乡县乌镇一个商人家庭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在北京病逝。临终前，茅盾捐献出自己一生的积蓄设立文学奖，专门奖励优秀的长篇小说创作者，这就是著名的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茅盾文学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他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代表作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子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林家铺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白杨礼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144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们放声朗读课文，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读准字音，读通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遇到难读的句子多读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在你不理解的地方做上记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71600" y="54936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初读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784520" y="3200400"/>
            <a:ext cx="99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藉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127920" y="3200400"/>
            <a:ext cx="83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651800" y="3200400"/>
            <a:ext cx="83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079800" y="3200400"/>
            <a:ext cx="83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27720" y="3200400"/>
            <a:ext cx="83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7651800" y="236232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f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Arial"/>
              </a:rPr>
              <a:t>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/>
          <p:cNvSpPr/>
          <p:nvPr/>
        </p:nvSpPr>
        <p:spPr>
          <a:xfrm>
            <a:off x="6051600" y="236232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bi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375080" y="2362320"/>
            <a:ext cx="12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zh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Arial"/>
              </a:rPr>
              <a:t>ò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0"/>
          <p:cNvSpPr/>
          <p:nvPr/>
        </p:nvSpPr>
        <p:spPr>
          <a:xfrm>
            <a:off x="2855160" y="2362320"/>
            <a:ext cx="8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b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1"/>
          <p:cNvSpPr/>
          <p:nvPr/>
        </p:nvSpPr>
        <p:spPr>
          <a:xfrm>
            <a:off x="1631880" y="236232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ji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Arial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F:\素材\图片1.emf"/>
          <p:cNvPicPr/>
          <p:nvPr/>
        </p:nvPicPr>
        <p:blipFill>
          <a:blip r:embed="rId1"/>
          <a:stretch/>
        </p:blipFill>
        <p:spPr>
          <a:xfrm>
            <a:off x="285840" y="285840"/>
            <a:ext cx="1944720" cy="166536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11360" y="22860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慰藉  蝙蝠  恶霸  宇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猛厉  扫荡  奇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"/>
          <p:cNvGrpSpPr/>
          <p:nvPr/>
        </p:nvGrpSpPr>
        <p:grpSpPr>
          <a:xfrm>
            <a:off x="6519960" y="6497640"/>
            <a:ext cx="2623680" cy="360360"/>
            <a:chOff x="6519960" y="6497640"/>
            <a:chExt cx="2623680" cy="360360"/>
          </a:xfrm>
        </p:grpSpPr>
        <p:pic>
          <p:nvPicPr>
            <p:cNvPr id="79" name="Picture 4" descr="按扭2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167240" y="6497640"/>
              <a:ext cx="6807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5" descr="按扭3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848360" y="6497640"/>
              <a:ext cx="6807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519960" y="6497640"/>
              <a:ext cx="6807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7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62880" y="6497640"/>
              <a:ext cx="680760" cy="36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图片 6" descr="图片3.png"/>
          <p:cNvPicPr/>
          <p:nvPr/>
        </p:nvPicPr>
        <p:blipFill>
          <a:blip r:embed="rId6"/>
          <a:stretch/>
        </p:blipFill>
        <p:spPr>
          <a:xfrm>
            <a:off x="189000" y="285840"/>
            <a:ext cx="1954080" cy="16430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7" name="camera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4:28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9:57Z</dcterms:modified>
  <cp:revision>14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