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D56E-67C4-4486-AE33-2454D62197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A255-EF83-4590-9CC1-D158824E53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115-1739-4EF7-80BD-D78FF64E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C65-2D17-495B-897A-A3D3505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4EB-AA8C-49BD-B519-8A6DEC36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CDB-A8B4-4A27-B907-E0C47020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70B0-81D8-48C4-AEE9-0450E529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4C17-8310-42CF-9C8B-A3C7F59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6DF-F958-4A73-9217-AB74584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506D-0FEB-4178-AC9E-1C3864A6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56B9-FF11-4BF7-A974-63F9D4B8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16CA-FDBF-4469-AD81-93E96135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3081-B574-482E-B7DE-87D5E74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B0F-ECE0-4CAA-86E7-27BD6CA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4E61-02E2-4C2F-8836-478B259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23D-BA9F-482D-B0EC-309B1C6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C172-09AC-4D42-90EC-52C2376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D60E-C70B-4158-BE9F-B2205CF9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086-48E9-4CD3-99F7-C4008A84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F75A-3852-42D9-A1BA-8CC067C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E1C2-14B4-4778-A4D4-B2B398B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D2CF-85EF-4C17-A46C-DB3240A3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6F4D-DF70-4CD9-8023-F22B239D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B52C-1090-4F0C-AEAD-2269899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174-5F6A-400A-BB10-96665C6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47ED-B918-4674-9D62-6780FAF7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9930-0180-4155-9BB0-9E2B1D2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05EA-F3F7-4026-9250-E324C8A5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B8E5-466F-4C95-BBA2-18F53D6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57006-3855-43A2-A1D9-36EB87DA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5E21-8395-4E2E-AF4D-0FFD9D02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A681-C5A7-43C6-8D66-6D027F6B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042A-25CA-49D8-8D7B-1F249079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E95E-A480-4001-8E83-61A042EA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5D92-CB2D-410C-8325-F201C0DE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20D-FEAA-4D0E-80B0-E3D63186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69C0-14C4-4356-9CFC-ED4A26C3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107E-C326-4215-A071-9174235A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6CF3-227A-4EFF-8DB8-EAF32FB0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82FD-1F75-4420-8554-9216424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C664-AAC1-4C3E-A5C7-89B67A7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992A-999A-4897-999D-FECFFC0C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679A-A852-41C8-8916-4CC4E5F1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F7BA-3C3C-4CA1-BCF2-F4F53BD5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F9B6-057D-4C7C-BFFB-19F72102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2D1-E6D5-4370-B60D-F6D4201F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20F-3CE2-4FD3-AFE5-EC6D617D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80E-E7B6-4103-BD2B-BE86C145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45C-7D8E-49F8-8EC2-E44CFED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098-5AA3-4BD2-903C-9937AA2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B27-C258-4417-80BB-A0902B8BDB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412-3818-498A-A937-467CC34EF3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1145-733F-4370-AAEF-CB07F2F925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349C-12EC-48F7-9943-FEEBCCD755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57200" y="914400"/>
            <a:ext cx="5257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童年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浒传</a:t>
            </a:r>
            <a:r>
              <a:rPr b="1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43200" y="5599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就在这以后不久，我家不幸失火，房屋全被烧毁，心爱的《水浒传》也被大火吞没了。我哭着要《水浒传》知道妈妈答应再买一套的时候，我才破涕为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700200" y="285840"/>
            <a:ext cx="47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0" y="2057400"/>
            <a:ext cx="6477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3520" y="2590920"/>
            <a:ext cx="6400800" cy="28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248520" y="3581280"/>
            <a:ext cx="3047760" cy="1219320"/>
          </a:xfrm>
          <a:prstGeom prst="wedgeRoundRectCallout">
            <a:avLst>
              <a:gd name="adj1" fmla="val -37759"/>
              <a:gd name="adj2" fmla="val -135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破涕为笑：停止哭泣，露出笑容。形容由悲伤转为高兴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152280" y="3124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当心爱的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水浒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被大火吞没后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哭着要《水浒传》直到妈妈答应再买一套的时候，我才破涕为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2666880" y="1447920"/>
            <a:ext cx="990720" cy="685800"/>
          </a:xfrm>
          <a:prstGeom prst="ellipse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28600" y="0"/>
            <a:ext cx="804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段从这些词句可以看出作者想读《水浒传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5238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、武松打虎，更是百听不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、我盼望自己快些长大，多认些字，能读《水浒传》这样有趣的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、我哭着要《水浒传》，直到妈妈答应再买一套的时候，我才破涕为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457200" y="5335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九岁时，我读四年级了，妈妈给我买来一套崭新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迫不及待地读起来。我被书中英雄人物的豪情壮举，生动曲折的故事情节吸引住了。尽管有些字还不认识，有些内容还不理解，我仍然津津有味地看下去。早上在晨曦中看，晚上在煤油灯下看，放学回来的路上，还坐在草地上看个没完。不到一星期，我就把全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71800" y="4191120"/>
            <a:ext cx="3200400" cy="1828800"/>
          </a:xfrm>
          <a:prstGeom prst="cloudCallout">
            <a:avLst>
              <a:gd name="adj1" fmla="val -43601"/>
              <a:gd name="adj2" fmla="val 6996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想一想，你从哪些地方感受到了“我”的迫不及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133720" y="16765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066680" y="3200400"/>
            <a:ext cx="3276720" cy="685800"/>
          </a:xfrm>
          <a:prstGeom prst="wedgeRoundRectCallout">
            <a:avLst>
              <a:gd name="adj1" fmla="val -2615"/>
              <a:gd name="adj2" fmla="val -281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迫不及待：急迫得不容等待。形容急切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33520" y="0"/>
            <a:ext cx="63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段，我是怎么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？从哪一个词可以看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81080" y="3200400"/>
            <a:ext cx="579132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8"/>
          <p:cNvGrpSpPr/>
          <p:nvPr/>
        </p:nvGrpSpPr>
        <p:grpSpPr>
          <a:xfrm>
            <a:off x="685800" y="2057400"/>
            <a:ext cx="7848720" cy="380880"/>
            <a:chOff x="685800" y="2057400"/>
            <a:chExt cx="7848720" cy="380880"/>
          </a:xfrm>
        </p:grpSpPr>
        <p:sp>
          <p:nvSpPr>
            <p:cNvPr id="250" name="Line 9"/>
            <p:cNvSpPr/>
            <p:nvPr/>
          </p:nvSpPr>
          <p:spPr>
            <a:xfrm>
              <a:off x="5639040" y="2057400"/>
              <a:ext cx="2895480" cy="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0"/>
            <p:cNvSpPr/>
            <p:nvPr/>
          </p:nvSpPr>
          <p:spPr>
            <a:xfrm>
              <a:off x="685800" y="2437920"/>
              <a:ext cx="6095880" cy="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1"/>
          <p:cNvGrpSpPr/>
          <p:nvPr/>
        </p:nvGrpSpPr>
        <p:grpSpPr>
          <a:xfrm>
            <a:off x="609480" y="2438280"/>
            <a:ext cx="8001000" cy="762120"/>
            <a:chOff x="609480" y="2438280"/>
            <a:chExt cx="8001000" cy="762120"/>
          </a:xfrm>
        </p:grpSpPr>
        <p:sp>
          <p:nvSpPr>
            <p:cNvPr id="253" name="Line 12"/>
            <p:cNvSpPr/>
            <p:nvPr/>
          </p:nvSpPr>
          <p:spPr>
            <a:xfrm>
              <a:off x="7162560" y="2438280"/>
              <a:ext cx="1447920" cy="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3"/>
            <p:cNvSpPr/>
            <p:nvPr/>
          </p:nvSpPr>
          <p:spPr>
            <a:xfrm>
              <a:off x="685440" y="2742840"/>
              <a:ext cx="7848360" cy="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4"/>
            <p:cNvSpPr/>
            <p:nvPr/>
          </p:nvSpPr>
          <p:spPr>
            <a:xfrm>
              <a:off x="609480" y="3200040"/>
              <a:ext cx="1143000" cy="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Oval 15"/>
          <p:cNvSpPr/>
          <p:nvPr/>
        </p:nvSpPr>
        <p:spPr>
          <a:xfrm>
            <a:off x="4191120" y="2286000"/>
            <a:ext cx="838080" cy="60948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1371600" y="2286000"/>
            <a:ext cx="838080" cy="60948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"/>
          <p:cNvSpPr/>
          <p:nvPr/>
        </p:nvSpPr>
        <p:spPr>
          <a:xfrm>
            <a:off x="7010280" y="1905120"/>
            <a:ext cx="838440" cy="60948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3505320" y="1905120"/>
            <a:ext cx="838080" cy="60948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9"/>
          <p:cNvSpPr/>
          <p:nvPr/>
        </p:nvSpPr>
        <p:spPr>
          <a:xfrm>
            <a:off x="5410080" y="1523880"/>
            <a:ext cx="838440" cy="6098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06000" y="1523880"/>
            <a:ext cx="891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武松打虎的故事，虽然邻居大爷早就讲过，但毕竟讲得比较简单。书上的描写就细致多了。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武松不管什么“三碗不过冈”，连喝十八碗酒；老虎的一扑、一掀、一剪；哨棒打断了，武松赤手空拳打虎；武松下冈时碰到身蒙虎皮的猎户等情节，都写得如闻其声，如见其人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这一段，我反复读了好几遍。其他如鲁达拳打镇关西、吴用智取生辰纲、宋江三打祝家庄等等故事，都在我童年的心海中，激起了喜悦的浪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5410080" y="5638680"/>
            <a:ext cx="3048120" cy="990720"/>
          </a:xfrm>
          <a:prstGeom prst="wedgeRoundRectCallout">
            <a:avLst>
              <a:gd name="adj1" fmla="val -37759"/>
              <a:gd name="adj2" fmla="val -1241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英雄人物的豪情壮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5334120" y="457200"/>
            <a:ext cx="1828800" cy="1676520"/>
          </a:xfrm>
          <a:prstGeom prst="wedgeRoundRectCallout">
            <a:avLst>
              <a:gd name="adj1" fmla="val 76564"/>
              <a:gd name="adj2" fmla="val 68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连串的动作描写体现故事情节的生动曲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7543800" y="2819520"/>
            <a:ext cx="457200" cy="75960"/>
            <a:chOff x="7543800" y="2819520"/>
            <a:chExt cx="457200" cy="75960"/>
          </a:xfrm>
        </p:grpSpPr>
        <p:sp>
          <p:nvSpPr>
            <p:cNvPr id="265" name="AutoShape 6"/>
            <p:cNvSpPr/>
            <p:nvPr/>
          </p:nvSpPr>
          <p:spPr>
            <a:xfrm>
              <a:off x="754380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7"/>
            <p:cNvSpPr/>
            <p:nvPr/>
          </p:nvSpPr>
          <p:spPr>
            <a:xfrm>
              <a:off x="792468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8"/>
          <p:cNvGrpSpPr/>
          <p:nvPr/>
        </p:nvGrpSpPr>
        <p:grpSpPr>
          <a:xfrm>
            <a:off x="1600200" y="3276720"/>
            <a:ext cx="457200" cy="75960"/>
            <a:chOff x="1600200" y="3276720"/>
            <a:chExt cx="457200" cy="75960"/>
          </a:xfrm>
        </p:grpSpPr>
        <p:sp>
          <p:nvSpPr>
            <p:cNvPr id="268" name="AutoShape 9"/>
            <p:cNvSpPr/>
            <p:nvPr/>
          </p:nvSpPr>
          <p:spPr>
            <a:xfrm>
              <a:off x="1600200" y="32767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0"/>
            <p:cNvSpPr/>
            <p:nvPr/>
          </p:nvSpPr>
          <p:spPr>
            <a:xfrm>
              <a:off x="1981080" y="32767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1"/>
          <p:cNvGrpSpPr/>
          <p:nvPr/>
        </p:nvGrpSpPr>
        <p:grpSpPr>
          <a:xfrm>
            <a:off x="914400" y="2819520"/>
            <a:ext cx="7772400" cy="532800"/>
            <a:chOff x="914400" y="2819520"/>
            <a:chExt cx="7772400" cy="532800"/>
          </a:xfrm>
        </p:grpSpPr>
        <p:sp>
          <p:nvSpPr>
            <p:cNvPr id="271" name="AutoShape 12"/>
            <p:cNvSpPr/>
            <p:nvPr/>
          </p:nvSpPr>
          <p:spPr>
            <a:xfrm>
              <a:off x="914400" y="327636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>
              <a:off x="861048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14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5"/>
          <p:cNvGrpSpPr/>
          <p:nvPr/>
        </p:nvGrpSpPr>
        <p:grpSpPr>
          <a:xfrm>
            <a:off x="838080" y="4114800"/>
            <a:ext cx="8077320" cy="533520"/>
            <a:chOff x="838080" y="4114800"/>
            <a:chExt cx="8077320" cy="533520"/>
          </a:xfrm>
        </p:grpSpPr>
        <p:sp>
          <p:nvSpPr>
            <p:cNvPr id="275" name="Line 16"/>
            <p:cNvSpPr/>
            <p:nvPr/>
          </p:nvSpPr>
          <p:spPr>
            <a:xfrm>
              <a:off x="838080" y="4572000"/>
              <a:ext cx="73152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>
              <a:off x="8305560" y="411480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>
              <a:off x="838080" y="4648320"/>
              <a:ext cx="73152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>
              <a:off x="8305560" y="4191120"/>
              <a:ext cx="60984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0" y="152280"/>
            <a:ext cx="9144000" cy="1477080"/>
            <a:chOff x="0" y="152280"/>
            <a:chExt cx="9144000" cy="1477080"/>
          </a:xfrm>
        </p:grpSpPr>
        <p:sp>
          <p:nvSpPr>
            <p:cNvPr id="280" name="Text Box 21"/>
            <p:cNvSpPr/>
            <p:nvPr/>
          </p:nvSpPr>
          <p:spPr>
            <a:xfrm>
              <a:off x="0" y="152280"/>
              <a:ext cx="9144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品读第五自然段，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“        ”标记出老虎进攻时一连串动作的词语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22"/>
            <p:cNvGrpSpPr/>
            <p:nvPr/>
          </p:nvGrpSpPr>
          <p:grpSpPr>
            <a:xfrm>
              <a:off x="4572000" y="533520"/>
              <a:ext cx="457200" cy="75960"/>
              <a:chOff x="4572000" y="533520"/>
              <a:chExt cx="457200" cy="75960"/>
            </a:xfrm>
          </p:grpSpPr>
          <p:sp>
            <p:nvSpPr>
              <p:cNvPr id="282" name="AutoShape 23"/>
              <p:cNvSpPr/>
              <p:nvPr/>
            </p:nvSpPr>
            <p:spPr>
              <a:xfrm>
                <a:off x="4572000" y="533520"/>
                <a:ext cx="76320" cy="759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952880" y="533520"/>
                <a:ext cx="76320" cy="759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0040" y="274680"/>
            <a:ext cx="87631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除了书本上介绍的故事，你还知道《水浒传》中有哪些有趣的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438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林教头风雪山神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林教头大闹野猪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和尚倒拔垂杨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武松大闹飞云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06000" y="1523880"/>
            <a:ext cx="891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武松打虎的故事，虽然邻居大爷早就讲过，但毕竟讲得比较简单。书上的描写就细致多了。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武松不管什么“三碗不过冈”，连喝十八碗酒；老虎的一扑、一掀、一剪；哨棒打断了，武松赤手空拳打虎；武松下冈时碰到身蒙虎皮的猎户等情节，都写得如闻其声，如见其人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这一段，我反复读了好几遍。其他如鲁达拳打镇关西、吴用智取生辰纲、宋江三打祝家庄等等故事，都在我童年的心海中，激起了喜悦的浪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7543800" y="2819520"/>
            <a:ext cx="457200" cy="75960"/>
            <a:chOff x="7543800" y="2819520"/>
            <a:chExt cx="457200" cy="75960"/>
          </a:xfrm>
        </p:grpSpPr>
        <p:sp>
          <p:nvSpPr>
            <p:cNvPr id="288" name="AutoShape 4"/>
            <p:cNvSpPr/>
            <p:nvPr/>
          </p:nvSpPr>
          <p:spPr>
            <a:xfrm>
              <a:off x="754380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5"/>
            <p:cNvSpPr/>
            <p:nvPr/>
          </p:nvSpPr>
          <p:spPr>
            <a:xfrm>
              <a:off x="792468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6"/>
          <p:cNvGrpSpPr/>
          <p:nvPr/>
        </p:nvGrpSpPr>
        <p:grpSpPr>
          <a:xfrm>
            <a:off x="1600200" y="3276720"/>
            <a:ext cx="457200" cy="75960"/>
            <a:chOff x="1600200" y="3276720"/>
            <a:chExt cx="457200" cy="75960"/>
          </a:xfrm>
        </p:grpSpPr>
        <p:sp>
          <p:nvSpPr>
            <p:cNvPr id="291" name="AutoShape 7"/>
            <p:cNvSpPr/>
            <p:nvPr/>
          </p:nvSpPr>
          <p:spPr>
            <a:xfrm>
              <a:off x="1600200" y="32767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8"/>
            <p:cNvSpPr/>
            <p:nvPr/>
          </p:nvSpPr>
          <p:spPr>
            <a:xfrm>
              <a:off x="1981080" y="32767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914400" y="2819520"/>
            <a:ext cx="7772400" cy="532800"/>
            <a:chOff x="914400" y="2819520"/>
            <a:chExt cx="7772400" cy="532800"/>
          </a:xfrm>
        </p:grpSpPr>
        <p:sp>
          <p:nvSpPr>
            <p:cNvPr id="294" name="AutoShape 10"/>
            <p:cNvSpPr/>
            <p:nvPr/>
          </p:nvSpPr>
          <p:spPr>
            <a:xfrm>
              <a:off x="914400" y="327636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1"/>
            <p:cNvSpPr/>
            <p:nvPr/>
          </p:nvSpPr>
          <p:spPr>
            <a:xfrm>
              <a:off x="8610480" y="2819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Line 12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3"/>
          <p:cNvGrpSpPr/>
          <p:nvPr/>
        </p:nvGrpSpPr>
        <p:grpSpPr>
          <a:xfrm>
            <a:off x="838080" y="4114800"/>
            <a:ext cx="8077320" cy="533520"/>
            <a:chOff x="838080" y="4114800"/>
            <a:chExt cx="8077320" cy="533520"/>
          </a:xfrm>
        </p:grpSpPr>
        <p:sp>
          <p:nvSpPr>
            <p:cNvPr id="298" name="Line 14"/>
            <p:cNvSpPr/>
            <p:nvPr/>
          </p:nvSpPr>
          <p:spPr>
            <a:xfrm>
              <a:off x="838080" y="4572000"/>
              <a:ext cx="73152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>
              <a:off x="8305560" y="411480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6"/>
            <p:cNvSpPr/>
            <p:nvPr/>
          </p:nvSpPr>
          <p:spPr>
            <a:xfrm>
              <a:off x="838080" y="4648320"/>
              <a:ext cx="731520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7"/>
            <p:cNvSpPr/>
            <p:nvPr/>
          </p:nvSpPr>
          <p:spPr>
            <a:xfrm>
              <a:off x="8305560" y="4191120"/>
              <a:ext cx="60984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8"/>
          <p:cNvGrpSpPr/>
          <p:nvPr/>
        </p:nvGrpSpPr>
        <p:grpSpPr>
          <a:xfrm>
            <a:off x="0" y="152280"/>
            <a:ext cx="9144000" cy="520560"/>
            <a:chOff x="0" y="152280"/>
            <a:chExt cx="9144000" cy="520560"/>
          </a:xfrm>
        </p:grpSpPr>
        <p:sp>
          <p:nvSpPr>
            <p:cNvPr id="303" name="Text Box 19"/>
            <p:cNvSpPr/>
            <p:nvPr/>
          </p:nvSpPr>
          <p:spPr>
            <a:xfrm>
              <a:off x="0" y="1522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品读第五自然段，用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标记出老虎进攻时一连串动作的词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20"/>
            <p:cNvGrpSpPr/>
            <p:nvPr/>
          </p:nvGrpSpPr>
          <p:grpSpPr>
            <a:xfrm>
              <a:off x="3733560" y="381240"/>
              <a:ext cx="457200" cy="75960"/>
              <a:chOff x="3733560" y="381240"/>
              <a:chExt cx="457200" cy="75960"/>
            </a:xfrm>
          </p:grpSpPr>
          <p:sp>
            <p:nvSpPr>
              <p:cNvPr id="305" name="AutoShape 21"/>
              <p:cNvSpPr/>
              <p:nvPr/>
            </p:nvSpPr>
            <p:spPr>
              <a:xfrm>
                <a:off x="3733560" y="381240"/>
                <a:ext cx="76320" cy="759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22"/>
              <p:cNvSpPr/>
              <p:nvPr/>
            </p:nvSpPr>
            <p:spPr>
              <a:xfrm>
                <a:off x="4114440" y="381240"/>
                <a:ext cx="76320" cy="759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未命名"/>
          <p:cNvPicPr/>
          <p:nvPr/>
        </p:nvPicPr>
        <p:blipFill>
          <a:blip r:embed="rId1"/>
          <a:stretch/>
        </p:blipFill>
        <p:spPr>
          <a:xfrm>
            <a:off x="0" y="1440"/>
            <a:ext cx="9144000" cy="693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1905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天分不高，当时成绩只是中等。在读了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其他课外书后，语文成绩提高很快，我的作文也经常被老师贴在墙上，供同学们观摩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/>
          <p:cNvSpPr/>
          <p:nvPr/>
        </p:nvSpPr>
        <p:spPr>
          <a:xfrm>
            <a:off x="5562720" y="4343400"/>
            <a:ext cx="3200400" cy="1828800"/>
          </a:xfrm>
          <a:prstGeom prst="cloudCallout">
            <a:avLst>
              <a:gd name="adj1" fmla="val 44990"/>
              <a:gd name="adj2" fmla="val 539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童年的“我”读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水浒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什么收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2895480" y="3962520"/>
            <a:ext cx="5334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0" y="4495680"/>
            <a:ext cx="5410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838080" y="533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609480" y="2133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们平常读课外书有什么收获呢？和你的学习伙伴说一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读书不好读书，好读书不好读书。（徐文长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书好，好读书，读好书。（冰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09480" y="1676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2286000" y="1676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962520" y="1676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50532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6386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25909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410080" y="39625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596880" y="1676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2273400" y="1676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949560" y="16765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349236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6260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5397480" y="3962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ă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3736080" y="144792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水浒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736080" y="287964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爱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水浒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735360" y="4419720"/>
            <a:ext cx="16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感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水浒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45720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45720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09480" y="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回顾一下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经历，并说说学了这篇课文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"/>
          <p:cNvSpPr/>
          <p:nvPr/>
        </p:nvSpPr>
        <p:spPr>
          <a:xfrm>
            <a:off x="1967040" y="5405400"/>
            <a:ext cx="76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320" y="15228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江发配江州途中遇险，逃到船上遇到张横，张横便问：“你是吃板刀面还是吃馄炖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036800" y="14479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马达</a:t>
            </a:r>
            <a:r>
              <a:rPr b="0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南华容人。中国作家协会天津分会创委会第一届委员兼诗歌组长，中国寓言文学研究会副会长，中国屈原学会理事。编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寓林折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寓言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子寓言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劝学寓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序译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寓言名篇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寓言故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序说苑选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寓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幽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忍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劝忍百箴释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种寓言类图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76320" y="-20016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作者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742B-2ED1-4C6E-AAAD-1BC6952D15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-73080" y="152280"/>
            <a:ext cx="906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自由读课文，画出生字词，并多读几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课文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0040" y="456840"/>
            <a:ext cx="32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会读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175752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凉   肚子  叔叔  猛烈   一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豪情   煤油  赤手空拳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猎人  纲领  提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1752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057400" y="175248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d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429000" y="17524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sh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648320" y="175248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mĕ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781680" y="1828800"/>
            <a:ext cx="9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t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990720" y="3352680"/>
            <a:ext cx="102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p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438280" y="3352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h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962520" y="3352680"/>
            <a:ext cx="10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m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334120" y="335268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c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819520" y="502920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l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886200" y="4952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g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791320" y="4952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g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0040" y="456840"/>
            <a:ext cx="32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会读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438280" y="1828800"/>
            <a:ext cx="1905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kuí w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191120" y="1828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z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40080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t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352680" y="350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zhă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2666880"/>
            <a:ext cx="7696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秦 朝     魁 梧      砸下去    抽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破涕为笑      崭新      鲁智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990720" y="182880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q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1678680" y="35053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t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952880" y="3505320"/>
            <a:ext cx="6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l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87360" y="108000"/>
            <a:ext cx="6851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304920"/>
            <a:ext cx="62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文章的三个层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89160" y="1641600"/>
            <a:ext cx="206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6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995560" y="160956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看《水浒传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048120" y="281952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爱看《水浒传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124080" y="3886200"/>
            <a:ext cx="41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谢《水浒传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"/>
          <p:cNvSpPr/>
          <p:nvPr/>
        </p:nvSpPr>
        <p:spPr>
          <a:xfrm>
            <a:off x="3962520" y="56260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990720" y="152280"/>
            <a:ext cx="8042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自由朗读文章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—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自然段并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我为什么想看《水浒传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从哪些词语可以看出作者爱听故事的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"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标记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哪些句子让你感受到了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浒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深深喜爱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画出相关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3"/>
          <p:cNvCxnSpPr>
            <a:stCxn id="205" idx="3"/>
            <a:endCxn id="205" idx="3"/>
          </p:cNvCxnSpPr>
          <p:nvPr/>
        </p:nvCxnSpPr>
        <p:spPr>
          <a:xfrm>
            <a:off x="9032400" y="307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7" name="AutoShape 4"/>
          <p:cNvCxnSpPr>
            <a:stCxn id="205" idx="3"/>
            <a:endCxn id="205" idx="3"/>
          </p:cNvCxnSpPr>
          <p:nvPr/>
        </p:nvCxnSpPr>
        <p:spPr>
          <a:xfrm>
            <a:off x="9032400" y="307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8" name="AutoShape 5"/>
          <p:cNvCxnSpPr>
            <a:stCxn id="205" idx="1"/>
            <a:endCxn id="205" idx="1"/>
          </p:cNvCxnSpPr>
          <p:nvPr/>
        </p:nvCxnSpPr>
        <p:spPr>
          <a:xfrm>
            <a:off x="990360" y="307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9" name="AutoShape 6"/>
          <p:cNvCxnSpPr>
            <a:stCxn id="205" idx="1"/>
            <a:endCxn id="205" idx="1"/>
          </p:cNvCxnSpPr>
          <p:nvPr/>
        </p:nvCxnSpPr>
        <p:spPr>
          <a:xfrm>
            <a:off x="1981080" y="5866920"/>
            <a:ext cx="991440" cy="1080"/>
          </a:xfrm>
          <a:prstGeom prst="straightConnector1">
            <a:avLst/>
          </a:prstGeom>
          <a:ln w="9360">
            <a:solidFill>
              <a:srgbClr val="ff0066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04920" y="11430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时候，我特别爱听故事。夏天晚上乘凉的时候，我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搬个小凳到禾场上，缠着邻居老大爷讲故事。老大爷看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旧小说，满肚子都是故事，什么程咬金三板斧啦，秦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宝卖马啦，我都爱听；武松打虎，更是百听不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621960" y="380880"/>
            <a:ext cx="190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童年读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6553080" y="4800600"/>
            <a:ext cx="3124440" cy="838080"/>
          </a:xfrm>
          <a:prstGeom prst="wedgeRoundRectCallout">
            <a:avLst>
              <a:gd name="adj1" fmla="val -70467"/>
              <a:gd name="adj2" fmla="val -1551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看出作者喜欢听《水浒传》等故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85800" y="41148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小时候听老大爷讲故事，初次接触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水浒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就被深深吸引了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武松打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百听不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3505320" y="3886200"/>
            <a:ext cx="3276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514600" y="129528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8001000" y="1295280"/>
            <a:ext cx="4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80880" y="1981080"/>
            <a:ext cx="5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29000" y="198108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562720" y="3505320"/>
            <a:ext cx="27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。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286000" y="3581280"/>
            <a:ext cx="3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049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家里有许多大人看的书，我好奇地拿几本来翻翻，看不懂就放下了。有四本摞在一起的书，每本的彩色封面上，都画着一个身材魁梧的大汉，一手按着老虎的头，一手抡起拳，向老虎猛砸下去。母亲告诉我，这四本书是一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封面上画的就是武松打虎。我拿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看，可那时我刚读一年级，哪里能看懂！我失望地合上了书本，把它收进抽屉里。我盼望自己快些长大，多认些字，能读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有趣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57200" y="2438280"/>
            <a:ext cx="7848720" cy="380880"/>
            <a:chOff x="457200" y="2438280"/>
            <a:chExt cx="7848720" cy="380880"/>
          </a:xfrm>
        </p:grpSpPr>
        <p:sp>
          <p:nvSpPr>
            <p:cNvPr id="224" name="Line 4"/>
            <p:cNvSpPr/>
            <p:nvPr/>
          </p:nvSpPr>
          <p:spPr>
            <a:xfrm>
              <a:off x="5410080" y="2438280"/>
              <a:ext cx="28958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457200" y="2819160"/>
              <a:ext cx="2438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6"/>
          <p:cNvSpPr/>
          <p:nvPr/>
        </p:nvSpPr>
        <p:spPr>
          <a:xfrm>
            <a:off x="5105520" y="2819520"/>
            <a:ext cx="2895480" cy="1600200"/>
          </a:xfrm>
          <a:prstGeom prst="cloudCallout">
            <a:avLst>
              <a:gd name="adj1" fmla="val 47861"/>
              <a:gd name="adj2" fmla="val 61902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此时的“我”在想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8120" y="2819520"/>
            <a:ext cx="5333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228600" y="3276720"/>
            <a:ext cx="3200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76320" y="3352680"/>
            <a:ext cx="3047760" cy="1067040"/>
          </a:xfrm>
          <a:prstGeom prst="wedgeRoundRectCallout">
            <a:avLst>
              <a:gd name="adj1" fmla="val 70365"/>
              <a:gd name="adj2" fmla="val -109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情急切，希望早一点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514600" y="4419720"/>
            <a:ext cx="411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1828800" y="49528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在家里找到一套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水浒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看不懂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盼望能快些长大，多认些字，能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有趣的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2"/>
          <p:cNvSpPr/>
          <p:nvPr/>
        </p:nvSpPr>
        <p:spPr>
          <a:xfrm>
            <a:off x="3276720" y="2438280"/>
            <a:ext cx="609480" cy="45720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5638680" y="205740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7:50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8:47Z</dcterms:modified>
  <cp:revision>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