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B697-6219-4453-A651-0C48D3C4F7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1480-BE8D-4867-A534-F1FCBB5E4B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859-FC31-494B-AF5C-A1EFF91B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E73-A3B9-4B58-9024-EF19575D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F0A6B-6A1E-427E-A486-97959287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12C69-239A-4FAD-A4C9-C6416547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5F9A3-77CF-4873-B0CF-15AE2A36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5BEB0-3236-4917-AB54-C3C38EE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AF15F-234D-4E6E-94B4-16F8F1B3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45A73-CF28-4650-9E2F-9A91C5A0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AFE07-4D5D-4FCF-9E1E-09CFF008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62EBE-2465-4B9D-979E-756EDE97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02DED-FDD2-4578-8516-EFCD8E3B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7BE82-E55E-4262-9460-E45E7AC7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408-5ED7-4B2A-9E44-239A3864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356E8-961D-4347-9C3F-E229429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83E3E-9F9E-4504-8067-5577DDCF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2AFE6-84E0-4E08-AE10-5A4A19B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1EBDD-0AB6-49B3-BD55-E27FE7D6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A4934-DEDE-49C4-8C3B-6EB82E8B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436D6-DCB2-419B-AE8C-7DF70EBE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357E2-105F-48C3-A363-862693A7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B72ED-692A-4A18-A0D4-9C81644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E14F9-27A5-4491-87D1-736B7818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EEC08-4F0C-46B7-8E9A-DDE9B2CE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7C8-6C51-447F-803E-C3EC08EF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1AC54-23C3-44F2-B1E6-E734E697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41FCF-C6B3-4107-95A9-DAD1D159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45B7-A332-4D39-9151-951D5C2D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2382D-247D-4E1C-87A8-9E13EC3C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5415C-D462-44CE-9B5B-9B4C5CD8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BBD92-5AD3-475E-ABF0-7841968D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7600C-97E3-4878-A7B1-44102FD1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7CA4A-1E22-4F30-BD44-F83B16E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B22BC-E90B-44AA-A0F2-EEDF25D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3FA28-2B2D-4CBB-A379-0822598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29E4-9625-4DB1-8B99-0A183482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204D4-3592-4B21-A5A5-5670B1C1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434FA-5C2A-43CC-B642-C9463A97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A0E21-301E-4B35-AF02-A2C3FB36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D3AEA-D880-4799-AF60-00A421FE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94AF0-65FF-44D7-8690-4BAE88F9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86473-E228-4516-A5CB-0B7277FE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A7AD5-FA89-4333-B828-0C9F7468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6C0E4-D271-489A-93CE-C7BAFFC6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9EFFD-B23D-4D05-ADD2-5D635806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E5024-6EE3-4108-9F9E-233AE2D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94DF-FD9B-4BBB-AB2F-1E4CB0D1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2C19F-785C-4C34-8DC5-097938E7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84C3A-DBBF-45E1-814A-D7E69880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DA265-4465-4369-BAD2-43837F34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6560D-7912-4806-B22D-C65E6DBD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7DB51-92B6-44C7-AC34-1F363E4D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DE69A-ABEF-4E92-BCD1-039EDD77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ED42F-C3D8-47A8-A354-EEA76021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04B88-1013-4EF9-9622-CEF0B2D9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B772D-2750-477F-89EC-EAD2A3BC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E6AAB-2D17-4394-9E93-D6A3006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E0F2-B0C5-4EEC-A432-2004F363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298FD-09A4-4445-B163-F0455F56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4B589-9B33-4813-A616-78C5D3B0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29773-29F8-42CA-AC2B-CCDB6AC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4A8D3-0B4B-41AD-BBA4-D83105F2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2C7B9-A145-4930-9F64-03AFD9C1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915E6-BBCB-4DA0-B441-4BDE3AE0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771CD-2315-4669-B1BB-5049221D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49C6D-1EA0-472A-83AD-3171D348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783A2-1974-4F32-8342-313A5106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C4485-DE10-41D6-A4EE-6391DEDC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1760-0847-4C45-8281-4AD26CE9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83AF2-272A-4A78-8045-ED8F428A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4F781-3F9D-48DC-8048-3201633E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50A42-E156-4B2B-A823-3CC3A13E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1AC4F-EB06-47D6-A4EC-751769F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83C73-F346-4224-86DB-A042A787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F6D6C-B1AA-4337-921F-2564B0E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BDE7F-3337-4EC5-A109-E88B5A2A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A082A-423C-4215-9FAE-57D06ECD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569DA-9D11-4F97-9AD1-E1D8A648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177-64E7-4EBB-A993-B8C64A51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482A-834D-4230-A876-DF91ADBB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1123-FEC8-46C3-91FD-938485B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8BC-55E6-478A-B2F4-3D4FBD42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61BE-8E19-4AD5-A5D9-2F553766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BB00-E619-4694-B9AA-EC4FD83D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7D02-5309-4892-AE25-E3829CE4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9FE3-E74F-4870-864A-7E232F82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2378-E7BF-4701-A123-D86316CB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8626-B046-4C0D-9794-AC47D732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25B5-1086-427F-88F2-0824A253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4EF1-199C-4FD2-8A3F-40699E92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DDA3-B48F-420B-908A-BACE68A5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373F-B931-40B6-8825-1F2B5D49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981-98E1-4765-96BA-FCB15F18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C67B5-FF6E-4FAB-9A5E-ED477B24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1F24-CD50-4176-AD05-46927921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B3CE-37A0-4147-8EE1-D734FA5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E133-E29B-4C77-AB0F-FD6A1498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1A4D-05C0-4BD2-AF2A-0F88EEF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CBF0-4073-40F5-AE43-783E78B7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6665-5BC1-4D2A-BD05-527CC366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81B2-FFCD-4EC4-ADCB-6A4ECBAB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AC0A-0AC8-4DFA-BB1F-40669C14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FC8B-37BA-494D-8503-BC43F636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D23-8E0F-4BA4-83A6-09F0AF01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B0A1-2E76-4E4A-9832-AD90ED3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BB61-DA66-48F7-B11A-47EAC8D9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7FF8-A8F7-4DC5-A2F7-6AF382A4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15A9B-094B-44C9-86C2-9A631F6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2B09-927E-405F-A9B8-D2BC282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6753-A9B6-47A3-9B82-EA2E1EED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A7F08-7055-4189-8FC5-9621F01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7935-3686-4289-890F-8CD07C05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4213-9529-47F7-944C-8FBB26CC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61D97-A2F8-4CF2-AF34-23FC9DA6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CC3-B3CA-4E7B-B91A-64DF5FBE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F90C7-4FC4-4CD0-B950-F435CABF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07BF5-9BEB-4492-BA7E-B30F279E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8CBB9-53ED-4308-994D-2DF77159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4C7AB-E7F6-4FA0-BC5D-CE0E095C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9944-E323-4EA4-A5CE-2A7E8AF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994D-A9C7-4C94-90B3-41ADB5D6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F4FED-7A31-4DC8-A90B-9876FB29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60EF6-EF52-4FD3-9B0F-610BA7C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5B25A-6228-4AD9-BED4-BF5408C7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0D942-0833-4927-92DA-09E90B3C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EB2-A613-4A62-A731-65251EE8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7CD83-F647-4BA9-A3C4-EB34DD0B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5928-085F-46A6-8A40-F8FD8A12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1060B-F0E4-457E-BE86-0920A22C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3B59-0C9B-4B07-A333-3D390979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63BBF-FD4B-45C6-A4C6-B1479A05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00BB-B0C1-448D-ABA0-221D0F32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2C8CB-B1B7-490F-A110-E94BA24A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FD6C-5C27-4698-AF5D-9C9D8B90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30456-34FC-466A-9072-A82C6474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BD8C2-ABD8-4C72-B780-47EC5359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102-DD82-4E82-B56F-58F9D2B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66FB4-905B-4EAA-8549-2C38C1C5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1CCEF-DFFE-40D3-96E9-568219DC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4F23-85D7-4B13-A820-D1BD4493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56B4E-C2BC-474D-AC2C-A923EB2D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A0C1-0441-42F1-87E1-5EFD1260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DABC2-7662-4CB4-97FE-AFBCCBA8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80067-063E-40A5-AFAF-2C67A672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1FB61-3E39-4C02-A5B9-9661B522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AC32B-0CC5-445E-AD2F-877DA2A1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40742-EA99-4FC6-83A5-BB2B037F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5EE-8928-4EF9-87E6-E0CD904C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9534D-C9D7-4747-9B85-94837FAA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48AA2-F314-4523-8711-2330C1C0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6E0B8-8011-4455-A8BF-1C59D153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B9EB6-FE33-466A-A465-1BFCF8FB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B9209-A48E-464A-97CE-852B9B5E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D3DF3-70EB-4553-B0A3-7900244A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C3D74-5AC9-4901-B0A9-FF3A14B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B43A7-076D-4D55-B3D9-A4416922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32E9A-4DD3-4402-98E3-1C1ADF67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AC61-DFBF-452F-947E-BE5ADAD2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352-102F-4DAE-AB5B-5EA29AED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D1335-FBA9-48CE-8FD2-3FFCE862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C134A-AD6B-426E-8EE3-5D6F62EF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F0D9F-6993-4F44-87CB-262A7A2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2BD7D-CDFB-4A10-8F6A-67641F4C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C9D5-E68B-45F4-8E76-2851C8B9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DAD0E-1603-4319-89C4-80610686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98676-E449-47E8-8194-8A297B95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82B55-8EE0-47F3-918D-EAA0C653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E53DE-8DFE-4349-AAC1-66153252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CD60A-4B6F-4CE0-9EE0-753027A1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6081-F3DA-4E94-898E-DB65A1C60EB3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4AFF-E0C1-4A87-B84B-F8A76C7EC2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38A5-D621-4FEE-B8E0-34EFAA5731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5010-9AD6-4B44-B807-C0B9791505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65D5-B938-40B6-A032-24EA9CBA95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77DF-7418-4EBD-B8E6-BA9F9CE0C53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D9EC-3F70-4202-A5F7-0830979A244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D645-20A5-4FC5-8A6E-B42137B2A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B550-BAE2-47AC-B911-2DDD0EC2FC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64B6-13C5-40F6-97C1-57822E8440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F461-059C-4484-A1E6-8ABDF374D5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B291-D017-4787-8705-F0289D8CA5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DFD1-0584-4AE0-991B-688711871D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A386-F83E-4AA4-A8F4-DC65ABE403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1763640" y="2235240"/>
            <a:ext cx="576108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太平洋的来客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82" name="矩形 3"/>
          <p:cNvSpPr/>
          <p:nvPr/>
        </p:nvSpPr>
        <p:spPr>
          <a:xfrm>
            <a:off x="193788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08AE-D526-40A1-B590-B8333907DD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Arial"/>
              </a:rPr>
              <a:t>潮    坝    虹    喷    滚    咆</a:t>
            </a:r>
            <a:endParaRPr b="0" lang="en-US" sz="5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Arial"/>
              </a:rPr>
              <a:t>哮    涛    汹    喇    叭    岳</a:t>
            </a:r>
            <a:endParaRPr b="0" lang="en-US" sz="5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229680" y="1052640"/>
            <a:ext cx="84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cháo      bà     hóng    pēn     gǔn      p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206640" y="3789360"/>
            <a:ext cx="85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xiào      tāo     xiōng      lǎ        bā       y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179280" y="189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掌握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863640" y="1989000"/>
            <a:ext cx="82803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大 潮    堤 坝    白 虹    滚 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咆  哮  汹   涌   喇 叭    山 岳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39640" y="404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重点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2771640" y="1628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ī     b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5435640" y="162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6732720" y="1628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ǔ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755640" y="357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áo  xi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2556000" y="357336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iōng yǒ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788000" y="36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ǎ     b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7596360" y="36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u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1619280" y="162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4500720" y="29973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钱塘江大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钱塘江大潮2"/>
          <p:cNvPicPr/>
          <p:nvPr/>
        </p:nvPicPr>
        <p:blipFill>
          <a:blip r:embed="rId1"/>
          <a:stretch/>
        </p:blipFill>
        <p:spPr>
          <a:xfrm>
            <a:off x="0" y="0"/>
            <a:ext cx="9396360" cy="68803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611280" y="404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钱塘江大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5"/>
          <p:cNvSpPr/>
          <p:nvPr/>
        </p:nvSpPr>
        <p:spPr>
          <a:xfrm>
            <a:off x="1763640" y="21366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539640" y="47628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钱塘江大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3" descr="钱塘江大潮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611280" y="404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钱塘江大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钱塘江大潮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179280" y="112536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钱塘江大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826920" y="2776680"/>
            <a:ext cx="75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再读读课文，说说课文是按什么顺序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你从文中感悟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539640" y="476280"/>
            <a:ext cx="187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图文感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3556800" y="1268280"/>
            <a:ext cx="204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自由读课文开头和结尾部分，想一想“太平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来客”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914400" y="126828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由读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，边读边思考：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画出课文中描写大潮景象的词句，美美地读一读。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说说钱塘江大潮给你留下怎样的印象。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0" name="文本框 1"/>
          <p:cNvSpPr/>
          <p:nvPr/>
        </p:nvSpPr>
        <p:spPr>
          <a:xfrm>
            <a:off x="520560" y="5006880"/>
            <a:ext cx="59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971640" y="191628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课后进一步收集一些有关钱塘江大潮的图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资料，办一期“请你观潮”的黑板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1625760" y="404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课外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3:07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02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