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6.gif" ContentType="image/gif"/>
  <Override PartName="/ppt/media/image23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499A-0D59-4D24-9E15-CE4FF2474A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9.xml"/><Relationship Id="rId24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84A-AAB7-4F4C-97E6-457D947D1F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ACFC-9984-43FD-BED4-B367D9D9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FB9-BAD9-4B4B-9C6E-7FADC00A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663-4EFE-478F-B105-E81818B1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8CA-85D5-485A-83A7-AEBD4D04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52A-7174-41D0-95DC-56624376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185-E0B4-498C-9F41-47D924CF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BE0-D063-4EB6-9588-C8FC6688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177-9E6D-41CF-B9B7-EB86CF8B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676-89A8-4C9F-8BE5-AB969E09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746-51F0-4C5C-83C2-5B588F2C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906-1286-4224-A76E-6982A560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99D-EA8C-4942-92FD-1061CB9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49C5-6F84-4546-ACDE-8E461A4F4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1课小白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7080" y="1628640"/>
            <a:ext cx="669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天上的小白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1714680" y="5977080"/>
            <a:ext cx="58640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9"/>
          <p:cNvSpPr/>
          <p:nvPr/>
        </p:nvSpPr>
        <p:spPr>
          <a:xfrm>
            <a:off x="4427640" y="34448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0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"/>
          <p:cNvGrpSpPr/>
          <p:nvPr/>
        </p:nvGrpSpPr>
        <p:grpSpPr>
          <a:xfrm>
            <a:off x="1187280" y="2205000"/>
            <a:ext cx="2247840" cy="2382840"/>
            <a:chOff x="1187280" y="2205000"/>
            <a:chExt cx="2247840" cy="2382840"/>
          </a:xfrm>
        </p:grpSpPr>
        <p:pic>
          <p:nvPicPr>
            <p:cNvPr id="79" name="Picture 4" descr="aaa"/>
            <p:cNvPicPr/>
            <p:nvPr/>
          </p:nvPicPr>
          <p:blipFill>
            <a:blip r:embed="rId2"/>
            <a:stretch/>
          </p:blipFill>
          <p:spPr>
            <a:xfrm>
              <a:off x="1187280" y="2301840"/>
              <a:ext cx="22478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5"/>
            <p:cNvSpPr/>
            <p:nvPr/>
          </p:nvSpPr>
          <p:spPr>
            <a:xfrm>
              <a:off x="1330200" y="2205000"/>
              <a:ext cx="194472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8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200" spc="-1" strike="noStrike">
                  <a:solidFill>
                    <a:srgbClr val="000000"/>
                  </a:solidFill>
                  <a:latin typeface="楷体"/>
                  <a:ea typeface="黑体"/>
                </a:rPr>
                <a:t>家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6" descr="untitled"/>
          <p:cNvPicPr/>
          <p:nvPr/>
        </p:nvPicPr>
        <p:blipFill>
          <a:blip r:embed="rId3"/>
          <a:stretch/>
        </p:blipFill>
        <p:spPr>
          <a:xfrm>
            <a:off x="4067280" y="1557360"/>
            <a:ext cx="4465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752480" y="2438280"/>
            <a:ext cx="613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"/>
                <a:ea typeface="黑体"/>
              </a:rPr>
              <a:t>天上一</a:t>
            </a:r>
            <a:r>
              <a:rPr b="1" lang="zh-CN" sz="5400" spc="-1" strike="noStrike">
                <a:solidFill>
                  <a:srgbClr val="ff3300"/>
                </a:solidFill>
                <a:latin typeface="楷体"/>
                <a:ea typeface="黑体"/>
              </a:rPr>
              <a:t>群</a:t>
            </a:r>
            <a:r>
              <a:rPr b="1" lang="zh-CN" sz="5400" spc="-1" strike="noStrike">
                <a:solidFill>
                  <a:srgbClr val="333399"/>
                </a:solidFill>
                <a:latin typeface="楷体"/>
                <a:ea typeface="黑体"/>
              </a:rPr>
              <a:t>小白羊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40120" y="16765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q</a:t>
            </a:r>
            <a:r>
              <a:rPr b="1" lang="en-US" sz="5400" spc="-1" strike="noStrike">
                <a:solidFill>
                  <a:srgbClr val="ff3300"/>
                </a:solidFill>
                <a:latin typeface="楷体"/>
              </a:rPr>
              <a:t>ú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895480" y="3276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ū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295280" y="40384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"/>
                <a:ea typeface="黑体"/>
              </a:rPr>
              <a:t>有的</a:t>
            </a:r>
            <a:r>
              <a:rPr b="1" lang="zh-CN" sz="5400" spc="-1" strike="noStrike">
                <a:solidFill>
                  <a:srgbClr val="ff3300"/>
                </a:solidFill>
                <a:latin typeface="楷体"/>
                <a:ea typeface="黑体"/>
              </a:rPr>
              <a:t>蹲</a:t>
            </a:r>
            <a:r>
              <a:rPr b="1" lang="zh-CN" sz="5400" spc="-1" strike="noStrike">
                <a:solidFill>
                  <a:srgbClr val="333399"/>
                </a:solidFill>
                <a:latin typeface="楷体"/>
                <a:ea typeface="黑体"/>
              </a:rPr>
              <a:t>着有的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66680" y="990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"/>
                <a:ea typeface="黑体"/>
              </a:rPr>
              <a:t>拼一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1145799257614504"/>
          <p:cNvPicPr/>
          <p:nvPr/>
        </p:nvPicPr>
        <p:blipFill>
          <a:blip r:embed="rId2"/>
          <a:stretch/>
        </p:blipFill>
        <p:spPr>
          <a:xfrm>
            <a:off x="2438280" y="838080"/>
            <a:ext cx="2011320" cy="2895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219640" y="148428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楷体"/>
              </a:rPr>
              <a:t>u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19280" y="4149720"/>
            <a:ext cx="57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楷体"/>
              </a:rPr>
              <a:t>ūn ún ǔn ù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5"/>
          <p:cNvPicPr/>
          <p:nvPr/>
        </p:nvPicPr>
        <p:blipFill>
          <a:blip r:embed="rId2"/>
          <a:stretch/>
        </p:blipFill>
        <p:spPr>
          <a:xfrm>
            <a:off x="1835280" y="260280"/>
            <a:ext cx="3124080" cy="2163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4" name="Text Box 4"/>
          <p:cNvSpPr/>
          <p:nvPr/>
        </p:nvSpPr>
        <p:spPr>
          <a:xfrm>
            <a:off x="2438280" y="3809880"/>
            <a:ext cx="99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楷体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62520" y="388620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1" lang="en-US" sz="8000" spc="-1" strike="noStrike">
                <a:solidFill>
                  <a:srgbClr val="ff3300"/>
                </a:solidFill>
                <a:latin typeface="宋体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943600" y="3809880"/>
            <a:ext cx="2057400" cy="25318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0" lang="en-US" sz="8000" spc="-1" strike="noStrike">
                <a:solidFill>
                  <a:srgbClr val="333399"/>
                </a:solidFill>
                <a:latin typeface="楷体"/>
              </a:rPr>
              <a:t>y</a:t>
            </a:r>
            <a:r>
              <a:rPr b="1" lang="en-US" sz="8000" spc="-1" strike="noStrike">
                <a:solidFill>
                  <a:srgbClr val="333399"/>
                </a:solidFill>
                <a:latin typeface="黑体"/>
              </a:rPr>
              <a:t>u</a:t>
            </a:r>
            <a:r>
              <a:rPr b="1" lang="en-US" sz="8000" spc="-1" strike="noStrike">
                <a:solidFill>
                  <a:srgbClr val="333399"/>
                </a:solidFill>
                <a:latin typeface="黑体"/>
                <a:ea typeface="黑体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2120" y="5486400"/>
            <a:ext cx="8153280" cy="15562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宋体"/>
              </a:rPr>
              <a:t>yūn y</a:t>
            </a:r>
            <a:r>
              <a:rPr b="1" lang="en-US" sz="8000" spc="-1" strike="noStrike">
                <a:solidFill>
                  <a:srgbClr val="333399"/>
                </a:solidFill>
                <a:latin typeface="楷体"/>
              </a:rPr>
              <a:t>ú</a:t>
            </a:r>
            <a:r>
              <a:rPr b="1" lang="en-US" sz="8000" spc="-1" strike="noStrike">
                <a:solidFill>
                  <a:srgbClr val="333399"/>
                </a:solidFill>
                <a:latin typeface="宋体"/>
              </a:rPr>
              <a:t>n yǔn y</a:t>
            </a:r>
            <a:r>
              <a:rPr b="1" lang="en-US" sz="8000" spc="-1" strike="noStrike">
                <a:solidFill>
                  <a:srgbClr val="333399"/>
                </a:solidFill>
                <a:latin typeface="楷体"/>
              </a:rPr>
              <a:t>ù</a:t>
            </a:r>
            <a:r>
              <a:rPr b="1" lang="en-US" sz="8000" spc="-1" strike="noStrike">
                <a:solidFill>
                  <a:srgbClr val="333399"/>
                </a:solidFill>
                <a:latin typeface="宋体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651640" y="620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楷体"/>
              </a:rPr>
              <a:t>ü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332000" y="249228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楷体"/>
              </a:rPr>
              <a:t>ǖn  ǘn  ǚn  ǜ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136800" y="24620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楷体"/>
              </a:rPr>
              <a:t>ü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859280" y="145908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"/>
                <a:ea typeface="黑体"/>
              </a:rPr>
              <a:t>(</a:t>
            </a: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黑体"/>
              </a:rPr>
              <a:t>羊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黑体"/>
              </a:rPr>
              <a:t>群   </a:t>
            </a: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黑体"/>
              </a:rPr>
              <a:t>人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黑体"/>
              </a:rPr>
              <a:t>群</a:t>
            </a:r>
            <a:r>
              <a:rPr b="1" lang="en-US" sz="5400" spc="-1" strike="noStrike">
                <a:solidFill>
                  <a:srgbClr val="333399"/>
                </a:solidFill>
                <a:latin typeface="楷体"/>
                <a:ea typeface="黑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547640" y="1700280"/>
            <a:ext cx="576360" cy="3168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781880" y="4078440"/>
            <a:ext cx="42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"/>
                <a:ea typeface="黑体"/>
              </a:rPr>
              <a:t>(</a:t>
            </a: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黑体"/>
              </a:rPr>
              <a:t>白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黑体"/>
              </a:rPr>
              <a:t>云</a:t>
            </a: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黑体"/>
              </a:rPr>
              <a:t>云</a:t>
            </a: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黑体"/>
              </a:rPr>
              <a:t>朵</a:t>
            </a:r>
            <a:r>
              <a:rPr b="1" lang="en-US" sz="5400" spc="-1" strike="noStrike">
                <a:solidFill>
                  <a:srgbClr val="333399"/>
                </a:solidFill>
                <a:latin typeface="楷体"/>
                <a:ea typeface="黑体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2121480" y="1322280"/>
            <a:ext cx="2441520" cy="1099440"/>
            <a:chOff x="2121480" y="1322280"/>
            <a:chExt cx="2441520" cy="1099440"/>
          </a:xfrm>
        </p:grpSpPr>
        <p:sp>
          <p:nvSpPr>
            <p:cNvPr id="106" name="Text Box 8"/>
            <p:cNvSpPr/>
            <p:nvPr/>
          </p:nvSpPr>
          <p:spPr>
            <a:xfrm>
              <a:off x="2121480" y="136224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9933"/>
                  </a:solidFill>
                  <a:latin typeface="楷体"/>
                </a:rPr>
                <a:t>q</a:t>
              </a:r>
              <a:r>
                <a:rPr b="1" lang="en-US" sz="5400" spc="-1" strike="noStrike">
                  <a:solidFill>
                    <a:srgbClr val="ff3399"/>
                  </a:solidFill>
                  <a:latin typeface="楷体"/>
                </a:rPr>
                <a:t>ú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3879360" y="1322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楷体"/>
                  <a:ea typeface="黑体"/>
                </a:rPr>
                <a:t>群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0"/>
          <p:cNvGrpSpPr/>
          <p:nvPr/>
        </p:nvGrpSpPr>
        <p:grpSpPr>
          <a:xfrm>
            <a:off x="2124000" y="4006800"/>
            <a:ext cx="1541160" cy="1006560"/>
            <a:chOff x="2124000" y="4006800"/>
            <a:chExt cx="1541160" cy="1006560"/>
          </a:xfrm>
        </p:grpSpPr>
        <p:sp>
          <p:nvSpPr>
            <p:cNvPr id="109" name="Rectangle 11"/>
            <p:cNvSpPr/>
            <p:nvPr/>
          </p:nvSpPr>
          <p:spPr>
            <a:xfrm>
              <a:off x="2124000" y="4006800"/>
              <a:ext cx="1513080" cy="1006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2"/>
            <p:cNvSpPr/>
            <p:nvPr/>
          </p:nvSpPr>
          <p:spPr>
            <a:xfrm>
              <a:off x="2250000" y="402264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楷体"/>
                </a:rPr>
                <a:t>y</a:t>
              </a:r>
              <a:r>
                <a:rPr b="1" lang="en-US" sz="5400" spc="-1" strike="noStrike">
                  <a:solidFill>
                    <a:srgbClr val="ff3399"/>
                  </a:solidFill>
                  <a:latin typeface="楷体"/>
                </a:rPr>
                <a:t>u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13"/>
          <p:cNvSpPr/>
          <p:nvPr/>
        </p:nvSpPr>
        <p:spPr>
          <a:xfrm>
            <a:off x="4022280" y="3986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黑体"/>
              </a:rPr>
              <a:t>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H="1">
            <a:off x="2916000" y="4222800"/>
            <a:ext cx="142920" cy="14292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0"/>
          <p:cNvSpPr/>
          <p:nvPr/>
        </p:nvSpPr>
        <p:spPr>
          <a:xfrm>
            <a:off x="250920" y="692280"/>
            <a:ext cx="1655640" cy="1295280"/>
          </a:xfrm>
          <a:prstGeom prst="cloudCallout">
            <a:avLst>
              <a:gd name="adj1" fmla="val -18263"/>
              <a:gd name="adj2" fmla="val 351226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2340000" y="333360"/>
            <a:ext cx="1655640" cy="1224000"/>
          </a:xfrm>
          <a:prstGeom prst="cloudCallout">
            <a:avLst>
              <a:gd name="adj1" fmla="val 142138"/>
              <a:gd name="adj2" fmla="val -60893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9"/>
          <p:cNvSpPr/>
          <p:nvPr/>
        </p:nvSpPr>
        <p:spPr>
          <a:xfrm>
            <a:off x="7020000" y="765000"/>
            <a:ext cx="1655640" cy="1224000"/>
          </a:xfrm>
          <a:prstGeom prst="cloudCallout">
            <a:avLst>
              <a:gd name="adj1" fmla="val -96500"/>
              <a:gd name="adj2" fmla="val -110828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/>
          <p:cNvSpPr/>
          <p:nvPr/>
        </p:nvSpPr>
        <p:spPr>
          <a:xfrm>
            <a:off x="7164360" y="2349360"/>
            <a:ext cx="1655640" cy="1224000"/>
          </a:xfrm>
          <a:prstGeom prst="cloudCallout">
            <a:avLst>
              <a:gd name="adj1" fmla="val -137152"/>
              <a:gd name="adj2" fmla="val -105384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5003640" y="333360"/>
            <a:ext cx="1656000" cy="1224000"/>
          </a:xfrm>
          <a:prstGeom prst="cloudCallout">
            <a:avLst>
              <a:gd name="adj1" fmla="val -101388"/>
              <a:gd name="adj2" fmla="val 119907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6588000" y="3860640"/>
            <a:ext cx="1656000" cy="1224000"/>
          </a:xfrm>
          <a:prstGeom prst="cloudCallout">
            <a:avLst>
              <a:gd name="adj1" fmla="val -112319"/>
              <a:gd name="adj2" fmla="val -21208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3132000" y="4005360"/>
            <a:ext cx="1656000" cy="1224000"/>
          </a:xfrm>
          <a:prstGeom prst="cloudCallout">
            <a:avLst>
              <a:gd name="adj1" fmla="val -62175"/>
              <a:gd name="adj2" fmla="val 138717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4"/>
          <p:cNvSpPr/>
          <p:nvPr/>
        </p:nvSpPr>
        <p:spPr>
          <a:xfrm>
            <a:off x="7236000" y="5445000"/>
            <a:ext cx="1655640" cy="1224000"/>
          </a:xfrm>
          <a:prstGeom prst="cloudCallout">
            <a:avLst>
              <a:gd name="adj1" fmla="val -170708"/>
              <a:gd name="adj2" fmla="val -128208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5"/>
          <p:cNvSpPr/>
          <p:nvPr/>
        </p:nvSpPr>
        <p:spPr>
          <a:xfrm>
            <a:off x="1042920" y="4797360"/>
            <a:ext cx="1656000" cy="1224000"/>
          </a:xfrm>
          <a:prstGeom prst="cloudCallout">
            <a:avLst>
              <a:gd name="adj1" fmla="val 85092"/>
              <a:gd name="adj2" fmla="val -150777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179280" y="3141720"/>
            <a:ext cx="1656000" cy="1224000"/>
          </a:xfrm>
          <a:prstGeom prst="cloudCallout">
            <a:avLst>
              <a:gd name="adj1" fmla="val 250768"/>
              <a:gd name="adj2" fmla="val -21337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2124000" y="2205000"/>
            <a:ext cx="1656000" cy="1224000"/>
          </a:xfrm>
          <a:prstGeom prst="cloudCallout">
            <a:avLst>
              <a:gd name="adj1" fmla="val 341754"/>
              <a:gd name="adj2" fmla="val 100064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5003640" y="2133720"/>
            <a:ext cx="1656000" cy="1224000"/>
          </a:xfrm>
          <a:prstGeom prst="cloudCallout">
            <a:avLst>
              <a:gd name="adj1" fmla="val -127564"/>
              <a:gd name="adj2" fmla="val -62449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4284720" y="5157720"/>
            <a:ext cx="1655640" cy="1224000"/>
          </a:xfrm>
          <a:prstGeom prst="cloudCallout">
            <a:avLst>
              <a:gd name="adj1" fmla="val -34180"/>
              <a:gd name="adj2" fmla="val -311995"/>
            </a:avLst>
          </a:prstGeom>
          <a:solidFill>
            <a:srgbClr val="ffffff"/>
          </a:solidFill>
          <a:ln w="255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20968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Comic Sans MS"/>
                <a:ea typeface="Comic Sans MS"/>
              </a:rPr>
              <a:t>24</a:t>
            </a:r>
            <a:r>
              <a:rPr b="1" lang="zh-CN" sz="3600" spc="-1" strike="noStrike">
                <a:solidFill>
                  <a:srgbClr val="010000"/>
                </a:solidFill>
                <a:latin typeface="Comic Sans MS"/>
                <a:ea typeface="Comic Sans MS"/>
              </a:rPr>
              <a:t>、天上一群小白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819520" y="1295280"/>
            <a:ext cx="4416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黑体"/>
                <a:ea typeface="黑体"/>
              </a:rPr>
              <a:t>天上一群小白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黑体"/>
                <a:ea typeface="黑体"/>
              </a:rPr>
              <a:t>有的蹲着有的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黑体"/>
                <a:ea typeface="黑体"/>
              </a:rPr>
              <a:t>小白羊啊下来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黑体"/>
                <a:ea typeface="黑体"/>
              </a:rPr>
              <a:t>别在天上着了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黑体"/>
                <a:ea typeface="黑体"/>
              </a:rPr>
              <a:t>地上河水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黑体"/>
                <a:ea typeface="黑体"/>
              </a:rPr>
              <a:t>地上草儿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黑体"/>
                <a:ea typeface="黑体"/>
              </a:rPr>
              <a:t>地上才是你家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rId2" action="ppaction://hlinksldjump"/>
          </p:cNvPr>
          <p:cNvSpPr/>
          <p:nvPr/>
        </p:nvSpPr>
        <p:spPr>
          <a:xfrm flipV="1">
            <a:off x="3886200" y="2590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704040" y="422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741480" y="566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959720" y="566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5257800" y="5668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>
            <a:hlinkClick r:id="rId3" action="ppaction://hlinksldjump"/>
          </p:cNvPr>
          <p:cNvSpPr/>
          <p:nvPr/>
        </p:nvSpPr>
        <p:spPr>
          <a:xfrm flipV="1">
            <a:off x="5486400" y="2590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11" descr=""/>
          <p:cNvPicPr/>
          <p:nvPr/>
        </p:nvPicPr>
        <p:blipFill>
          <a:blip r:embed="rId4"/>
          <a:stretch/>
        </p:blipFill>
        <p:spPr>
          <a:xfrm>
            <a:off x="8229600" y="6094440"/>
            <a:ext cx="6858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仿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000"/>
                </a:solidFill>
                <a:latin typeface="Arial"/>
              </a:rPr>
              <a:t>天上一群小白羊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000"/>
                </a:solidFill>
                <a:latin typeface="Arial"/>
              </a:rPr>
              <a:t>有的 （</a:t>
            </a:r>
            <a:r>
              <a:rPr b="1" lang="zh-CN" sz="4400" spc="-1" strike="noStrike" u="sng">
                <a:solidFill>
                  <a:srgbClr val="010000"/>
                </a:solidFill>
                <a:uFillTx/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010000"/>
                </a:solidFill>
                <a:latin typeface="Arial"/>
              </a:rPr>
              <a:t>)   </a:t>
            </a:r>
            <a:r>
              <a:rPr b="1" lang="zh-CN" sz="4400" spc="-1" strike="noStrike">
                <a:solidFill>
                  <a:srgbClr val="01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0000"/>
                </a:solidFill>
                <a:latin typeface="Arial"/>
              </a:rPr>
              <a:t>有的 （</a:t>
            </a:r>
            <a:r>
              <a:rPr b="1" lang="zh-CN" sz="4400" spc="-1" strike="noStrike" u="sng">
                <a:solidFill>
                  <a:srgbClr val="010000"/>
                </a:solidFill>
                <a:uFillTx/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1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10000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010000"/>
                </a:solidFill>
                <a:uFillTx/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20110517075615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036600" y="0"/>
            <a:ext cx="29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天上的小白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763640" y="1413000"/>
            <a:ext cx="640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上一群小白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有的站着有的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水儿美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才是你们的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228it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2195640" y="906480"/>
            <a:ext cx="5257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黑体"/>
              </a:rPr>
              <a:t>地上河水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黑体"/>
              </a:rPr>
              <a:t>地上草儿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黑体"/>
              </a:rPr>
              <a:t>地上才是你家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eaa4c6ef49861c3cacafd5c7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5003e2c67e9a6d3e6136ed1276498043"/>
          <p:cNvPicPr/>
          <p:nvPr/>
        </p:nvPicPr>
        <p:blipFill>
          <a:blip r:embed="rId2"/>
          <a:stretch/>
        </p:blipFill>
        <p:spPr>
          <a:xfrm>
            <a:off x="0" y="28440"/>
            <a:ext cx="9105840" cy="682956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"/>
          <p:cNvSpPr txBox="1"/>
          <p:nvPr/>
        </p:nvSpPr>
        <p:spPr>
          <a:xfrm>
            <a:off x="324000" y="3573360"/>
            <a:ext cx="8208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我们也去看看天上的云吧！</a:t>
            </a:r>
            <a:endParaRPr b="0" lang="en-US" sz="4000" spc="1" strike="noStrike">
              <a:ln w="12600">
                <a:solidFill>
                  <a:srgbClr val="ffcc00"/>
                </a:solidFill>
                <a:round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6" name="Picture 4" descr="RT_009"/>
          <p:cNvPicPr/>
          <p:nvPr/>
        </p:nvPicPr>
        <p:blipFill>
          <a:blip r:embed="rId3"/>
          <a:stretch/>
        </p:blipFill>
        <p:spPr>
          <a:xfrm>
            <a:off x="7432560" y="620640"/>
            <a:ext cx="1711440" cy="252108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"/>
          <p:cNvSpPr/>
          <p:nvPr/>
        </p:nvSpPr>
        <p:spPr>
          <a:xfrm>
            <a:off x="1201680" y="6197760"/>
            <a:ext cx="49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03200"/>
            <a:ext cx="807552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读一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9280" y="62028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云彩和风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天上的云彩真有趣，天上的风儿真能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吹呀吹，云彩变成了小白船，竖起桅杆</a:t>
            </a:r>
            <a:r>
              <a:rPr b="1" lang="en-US" sz="2800" spc="-1" strike="noStrike">
                <a:solidFill>
                  <a:srgbClr val="cc00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扬起风帆，飘呀飘，飘到远处不见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吹呀吹，云彩变成了大狮子，躬起身子，张开大口。狮子吼呀，吓得羊群都逃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吹呀吹，云彩变成了胖娃娃，头戴金帽子，身穿白裙子，跑来跑去，跟太阳公公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cc00cc"/>
                </a:solidFill>
                <a:latin typeface="黑体"/>
                <a:ea typeface="黑体"/>
              </a:rPr>
              <a:t>天上的云彩真有趣，天上的风儿真能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5759-D104-47D1-8825-073F8D295E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82911_09185305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4525429_13463103638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92-1101020J23675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(yangqyun)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391634_15514101169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036600" y="0"/>
            <a:ext cx="290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天上的小白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835280" y="1052640"/>
            <a:ext cx="6335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上一群小白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有的站着有的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白羊啊下来吧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别在天上着了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草儿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水儿美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上才是你们的家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080709090981941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1116000" y="1557360"/>
            <a:ext cx="7559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羊群   躺下    正在        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没有   下来    别人    站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来回    肥胖   美丽    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619280" y="33336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8989"/>
                </a:solidFill>
                <a:latin typeface="Arial"/>
                <a:ea typeface="楷体_GB2312"/>
              </a:rPr>
              <a:t>我会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6783120" y="1484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359480" y="29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34800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116000" y="2421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m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yang"/>
          <p:cNvPicPr/>
          <p:nvPr/>
        </p:nvPicPr>
        <p:blipFill>
          <a:blip r:embed="rId2"/>
          <a:stretch/>
        </p:blipFill>
        <p:spPr>
          <a:xfrm>
            <a:off x="4859280" y="2421000"/>
            <a:ext cx="3673440" cy="32716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Comic Sans MS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0" y="1989000"/>
          <a:ext cx="4038480" cy="4048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0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16" descr="yang"/>
          <p:cNvPicPr/>
          <p:nvPr/>
        </p:nvPicPr>
        <p:blipFill>
          <a:blip r:embed="rId3"/>
          <a:stretch/>
        </p:blipFill>
        <p:spPr>
          <a:xfrm>
            <a:off x="1547640" y="4005360"/>
            <a:ext cx="1897200" cy="201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羊g"/>
          <p:cNvPicPr/>
          <p:nvPr/>
        </p:nvPicPr>
        <p:blipFill>
          <a:blip r:embed="rId4"/>
          <a:stretch/>
        </p:blipFill>
        <p:spPr>
          <a:xfrm>
            <a:off x="1619280" y="1484280"/>
            <a:ext cx="1647720" cy="2160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8"/>
          <p:cNvSpPr/>
          <p:nvPr/>
        </p:nvSpPr>
        <p:spPr>
          <a:xfrm>
            <a:off x="5546880" y="1700280"/>
            <a:ext cx="2238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0" spc="-1" strike="noStrike">
                <a:solidFill>
                  <a:srgbClr val="000000"/>
                </a:solidFill>
                <a:latin typeface="Arial"/>
              </a:rPr>
              <a:t>羊</a:t>
            </a:r>
            <a:endParaRPr b="0" lang="en-US" sz="2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7:10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8:53Z</dcterms:modified>
  <cp:revision>4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