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1BD8-F03E-477C-8A92-DEB6FABE6D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616-E307-496D-9086-534C20BFAB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1BD-F2F5-4B1C-B6C1-8C07EEB7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C37-0D16-4EEE-8335-7F863AF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399-633C-4F6C-AB8F-65632493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25A-BEA7-416B-8A17-23D9F1D0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A12-D4F1-48FB-82B6-392C342F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02C-3C95-4F82-8779-CEE5DC0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622-4D44-4C85-9541-EE5C58C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F3F-0173-4893-BBAA-E435884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9C4-076C-4922-B526-DB00313C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A41-4624-4B69-93DC-9DC20A3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7EA-AD7C-4A1D-9906-9ED7306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390-D67F-46BA-A5AF-249330D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9689-6F74-42EF-88E1-5E810C8A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narts.net/cweb/news/readnews.asp?id=139004&amp;kind=&#28378;&#21160;&amp;topic=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people.com.cn/GB/paper1787/14937/1325188.html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chyh.com/showtopic-57598-3.aspx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chinasq.com/shop/photo90040_90050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太阳的香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185220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图片32.jpg"/>
          <p:cNvPicPr/>
          <p:nvPr/>
        </p:nvPicPr>
        <p:blipFill>
          <a:blip r:embed="rId2"/>
          <a:stretch/>
        </p:blipFill>
        <p:spPr>
          <a:xfrm>
            <a:off x="0" y="-304920"/>
            <a:ext cx="9134640" cy="716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752480" y="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洗干净的衣服，早晨一穿上，就有一股浓浓的太阳的香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藏在甜甜的果子里，藏在香喷喷的稻米中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0290652_6686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3" descr="3952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129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152280" y="457200"/>
            <a:ext cx="4419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连迎着夕阳回到家的妈妈，身上也有太阳的香气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20070618_9a04fc78576ffc652031BybjuKIPrms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的香气藏在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609480" y="16765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填一填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动动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儿喜欢太阳，它可以在天空中自由地飞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儿喜欢太阳，它可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儿喜欢太阳，它可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太阳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77616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闻到过太阳的香气吗？你喜欢这样的香气吗？请谈一谈你的感想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880920" y="5780160"/>
            <a:ext cx="65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/>
          <p:cNvSpPr/>
          <p:nvPr/>
        </p:nvSpPr>
        <p:spPr>
          <a:xfrm>
            <a:off x="1981080" y="21337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5CF-721B-4039-B1D9-BEE2564A35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太阳-落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太阳-云层中的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</a:t>
            </a:r>
            <a:r>
              <a:rPr b="0" lang="en-US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</a:t>
            </a:r>
            <a:r>
              <a:rPr b="0" lang="en-US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0" lang="zh-CN" sz="1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3429000" y="3276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 香气  闻到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处</a:t>
            </a:r>
            <a:br>
              <a:rPr sz="48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br>
              <a:rPr sz="2000"/>
            </a:b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  浓香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净  早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9320" y="2438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tài yáng  xiāng qì  wén dào   dào ch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90720" y="4038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wǎn shàng nóng xiāng  gān jìng zǎo ch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676520" y="114300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认一认 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28600" y="2286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万物生长靠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太阳的香气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thumb_1193906717_19254505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妈妈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晒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过的被子，晚上一打开，就有一股浓浓的太阳的香气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137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被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352680" y="609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B Pinyinok-C"/>
                <a:ea typeface="GB Pinyinok-C"/>
              </a:rPr>
              <a:t>sh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3:12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26Z</dcterms:modified>
  <cp:revision>7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