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37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76EB-7C5B-4FAE-A5EC-6B61F90D36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EF4-ABD7-420F-9592-51007361E0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783-A0DD-44DA-A68C-D23568BA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675-77CE-461A-8EDE-BF5B54A0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348-8A76-450B-BA3A-62B27BC3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7CD-7F33-414C-8E0A-0C826ED3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F151-541A-435A-90CA-CAD32108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542A-9175-4C80-9037-B177028D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306A-D4B9-46A6-9BF8-C92FDF2E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D875-212C-4022-9060-640C82C1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CF48-1BFE-495B-9E43-80389746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7DBF-2E0C-4A3C-9511-01BFA795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A456-247E-49BD-BC6E-064B9BAB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2B6-D0D2-4041-BCDC-39C47F2C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22CC-E399-4421-98FD-1A925164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3CCF-A270-4144-A3ED-120500A9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02BE-34EC-4339-B63F-49490E85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0360-C7E0-40AB-A117-1D3B2E25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8D5B-1A64-4E14-9F5B-104F261C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BAD-B788-4DEA-80BB-781910BD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88C-35D0-4A5B-88C9-5BBB9A06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E67-DF49-432A-AFA0-786D77D4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00D-9A67-4704-8F53-82F07F75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FBF-ECA0-49A3-A3E8-2163FFD8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E1E-7F76-4CF6-818A-F3D96F4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342-6E5C-4223-B06D-0F328046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18E7-4BD4-43B6-A5D5-1B15659DFE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A216-095B-4762-9EFA-B151B8B14C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16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图片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30120" y="10987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田</a:t>
            </a:r>
            <a:r>
              <a:rPr b="1" lang="en-US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园</a:t>
            </a:r>
            <a:r>
              <a:rPr b="1" lang="en-US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诗</a:t>
            </a:r>
            <a:r>
              <a:rPr b="1" lang="en-US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809880" y="57150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1448640" y="54482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042920" y="1341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绿意盎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村野乡间，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大片大片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鲜艳的郁金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图片22"/>
          <p:cNvPicPr/>
          <p:nvPr/>
        </p:nvPicPr>
        <p:blipFill>
          <a:blip r:embed="rId2"/>
          <a:stretch/>
        </p:blipFill>
        <p:spPr>
          <a:xfrm>
            <a:off x="4800600" y="1600200"/>
            <a:ext cx="4343400" cy="525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图片16"/>
          <p:cNvPicPr/>
          <p:nvPr/>
        </p:nvPicPr>
        <p:blipFill>
          <a:blip r:embed="rId3"/>
          <a:stretch/>
        </p:blipFill>
        <p:spPr>
          <a:xfrm>
            <a:off x="0" y="1600200"/>
            <a:ext cx="502920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>
            <a:hlinkClick r:id="rId4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00609060938209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983960" y="3841920"/>
            <a:ext cx="562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群的骏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骠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piào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悍强壮，腿粗如桩，鬃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随风飞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除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深的野草遮掩着的运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能够阻挡它们自由驰骋。辽阔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垠的原野似乎归它们所有，它们是这个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王国的主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19320" y="609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爱尔兰风笛 - 漫步神秘园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图片2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图片3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1371600" y="54864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骏马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piào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悍强壮，腿粗如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鬃毛随风飞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56386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碧绿色的低地镶嵌在一条条运河之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80880" y="5715000"/>
            <a:ext cx="835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图片5"/>
          <p:cNvPicPr/>
          <p:nvPr/>
        </p:nvPicPr>
        <p:blipFill>
          <a:blip r:embed="rId2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3" descr="图片6"/>
          <p:cNvPicPr/>
          <p:nvPr/>
        </p:nvPicPr>
        <p:blipFill>
          <a:blip r:embed="rId1"/>
          <a:stretch/>
        </p:blipFill>
        <p:spPr>
          <a:xfrm>
            <a:off x="-914400" y="-228600"/>
            <a:ext cx="11506320" cy="7315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4724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一条条运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碧绿色的低地之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514600" y="4724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镶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160020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碧绿色的低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镶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在一条条运河之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4"/>
          <p:cNvCxnSpPr/>
          <p:nvPr/>
        </p:nvCxnSpPr>
        <p:spPr>
          <a:xfrm>
            <a:off x="-91440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图片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0" y="404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天堂般的绿色草原上，白色的绵羊悠然自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图片1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黑色的猪群不停地呼噜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200622114272435"/>
          <p:cNvPicPr/>
          <p:nvPr/>
        </p:nvPicPr>
        <p:blipFill>
          <a:blip r:embed="rId2"/>
          <a:stretch/>
        </p:blipFill>
        <p:spPr>
          <a:xfrm>
            <a:off x="4114800" y="1600200"/>
            <a:ext cx="5334120" cy="5257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yezhu2_003"/>
          <p:cNvPicPr/>
          <p:nvPr/>
        </p:nvPicPr>
        <p:blipFill>
          <a:blip r:embed="rId3"/>
          <a:stretch/>
        </p:blipFill>
        <p:spPr>
          <a:xfrm>
            <a:off x="152280" y="1600200"/>
            <a:ext cx="3886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图片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14400" y="494136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200939164952135_2"/>
          <p:cNvPicPr/>
          <p:nvPr/>
        </p:nvPicPr>
        <p:blipFill>
          <a:blip r:embed="rId2"/>
          <a:stretch/>
        </p:blipFill>
        <p:spPr>
          <a:xfrm>
            <a:off x="0" y="0"/>
            <a:ext cx="5005440" cy="6400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6400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成千上万的小鸡、成群结队的长毛山羊，安闲地欣赏着这属于它们的自由王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图片10"/>
          <p:cNvPicPr/>
          <p:nvPr/>
        </p:nvPicPr>
        <p:blipFill>
          <a:blip r:embed="rId1"/>
          <a:stretch/>
        </p:blipFill>
        <p:spPr>
          <a:xfrm>
            <a:off x="-1066680" y="0"/>
            <a:ext cx="10134360" cy="7315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838080" y="198108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些动物们过的怎么样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你能用本段的词语来概括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0" y="685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动脑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14144450-1-92T8"/>
          <p:cNvPicPr/>
          <p:nvPr/>
        </p:nvPicPr>
        <p:blipFill>
          <a:blip r:embed="rId2"/>
          <a:stretch/>
        </p:blipFill>
        <p:spPr>
          <a:xfrm>
            <a:off x="2514600" y="-76320"/>
            <a:ext cx="1676520" cy="1905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2514600" y="39625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华文行楷"/>
                <a:ea typeface="华文行楷"/>
              </a:rPr>
              <a:t>安 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1473120" y="5502240"/>
            <a:ext cx="57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Windows XP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09480" y="91440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顽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皮　  严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肃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偶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汽笛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平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稳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  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毛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毡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牲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镶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527280" y="324792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9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295280" y="762120"/>
            <a:ext cx="5791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天堂般的绿色草原上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的绵羊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悠然自得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的猪群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停地呼噜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千上万的小鸡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群结队的长毛山羊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闲地欣赏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属于它们自己的王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5939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14094" y="3794"/>
                </a:lnTo>
                <a:lnTo>
                  <a:pt x="14094" y="17806"/>
                </a:lnTo>
                <a:lnTo>
                  <a:pt x="124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图片1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7467480" y="9907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8439840" y="0"/>
            <a:ext cx="6678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到了傍晚，才看见有人驾着小船过来，坐上小板凳，给严肃沉默的奶牛挤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12"/>
          <p:cNvPicPr/>
          <p:nvPr/>
        </p:nvPicPr>
        <p:blipFill>
          <a:blip r:embed="rId2"/>
          <a:stretch/>
        </p:blipFill>
        <p:spPr>
          <a:xfrm>
            <a:off x="-228600" y="-19080"/>
            <a:ext cx="7467480" cy="6324480"/>
          </a:xfrm>
          <a:prstGeom prst="rect">
            <a:avLst/>
          </a:prstGeom>
          <a:ln w="0">
            <a:noFill/>
          </a:ln>
        </p:spPr>
      </p:pic>
      <p:pic>
        <p:nvPicPr>
          <p:cNvPr id="167" name="春风.mp3" descr=""/>
          <p:cNvPicPr/>
          <p:nvPr/>
        </p:nvPicPr>
        <p:blipFill>
          <a:blip r:embed="rId3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762120" y="1460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宋体"/>
              </a:rPr>
              <a:t>金色的晚霞铺在西天，远处偶尔传来汽笛声，接着又是一片寂静。在这里，谁都不叫喊吆喝，牛脖子上的铃铛也没有响声，挤奶的人更是默默无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468360" y="260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运河之中，装满奶桶的船只舒缓平稳地行驶着。满载着一罐一罐的牛奶的汽车火车，不停地开往城市。车船过后，一切又归于平静。最后一抹晚霞也渐渐地消失了。狗不叫，圈里的牛不发出哞哞声，马蹄也忘记了踢马房的挡板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沉睡的牲畜，无声的低地，漆黑的夜晚，只有远处的几座灯塔闪烁着微弱的光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1143000" y="9144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这就是真正的荷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未命名1"/>
          <p:cNvPicPr/>
          <p:nvPr/>
        </p:nvPicPr>
        <p:blipFill>
          <a:blip r:embed="rId1"/>
          <a:stretch/>
        </p:blipFill>
        <p:spPr>
          <a:xfrm>
            <a:off x="0" y="-28440"/>
            <a:ext cx="9296280" cy="7030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图片2"/>
          <p:cNvPicPr/>
          <p:nvPr/>
        </p:nvPicPr>
        <p:blipFill>
          <a:blip r:embed="rId2"/>
          <a:stretch/>
        </p:blipFill>
        <p:spPr>
          <a:xfrm>
            <a:off x="606600" y="284040"/>
            <a:ext cx="7930800" cy="5964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0" y="6354720"/>
            <a:ext cx="929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荷兰，是水之国，花之国，也是牧场之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90720" y="68580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田</a:t>
            </a:r>
            <a:r>
              <a:rPr b="1" lang="en-US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园</a:t>
            </a:r>
            <a:r>
              <a:rPr b="1" lang="en-US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诗</a:t>
            </a:r>
            <a:r>
              <a:rPr b="1" lang="en-US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124945L1E0-915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5909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8439-59EE-4FE7-A1AC-CB8290FC42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未命名1"/>
          <p:cNvPicPr/>
          <p:nvPr/>
        </p:nvPicPr>
        <p:blipFill>
          <a:blip r:embed="rId1"/>
          <a:stretch/>
        </p:blipFill>
        <p:spPr>
          <a:xfrm>
            <a:off x="0" y="-57240"/>
            <a:ext cx="9296280" cy="6915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04920" y="1066680"/>
            <a:ext cx="883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极目远眺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  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仪态端庄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意盎然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骠悍强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辽阔无垠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  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悠然自得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 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默无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舒缓平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图片1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图片25"/>
          <p:cNvPicPr/>
          <p:nvPr/>
        </p:nvPicPr>
        <p:blipFill>
          <a:blip r:embed="rId2"/>
          <a:stretch/>
        </p:blipFill>
        <p:spPr>
          <a:xfrm>
            <a:off x="1447920" y="2833560"/>
            <a:ext cx="6172200" cy="279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5865043"/>
          <p:cNvPicPr/>
          <p:nvPr/>
        </p:nvPicPr>
        <p:blipFill>
          <a:blip r:embed="rId3"/>
          <a:stretch/>
        </p:blipFill>
        <p:spPr>
          <a:xfrm>
            <a:off x="76320" y="0"/>
            <a:ext cx="4343400" cy="2828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200610722565441637"/>
          <p:cNvPicPr/>
          <p:nvPr/>
        </p:nvPicPr>
        <p:blipFill>
          <a:blip r:embed="rId4"/>
          <a:stretch/>
        </p:blipFill>
        <p:spPr>
          <a:xfrm>
            <a:off x="4495680" y="0"/>
            <a:ext cx="4419720" cy="28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04920" y="5562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荷兰，是水之国，花之国，也是牧场之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7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809880" y="57150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5800" y="106668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这就是真正的荷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5865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68360" y="2602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荷兰的田园风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一首首清新的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一幅幅优美的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喜欢荷兰田园的哪一处美丽的风光（哪幅图）？把你喜欢的地方读给同学听，并说说为什么喜欢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685800"/>
            <a:ext cx="24382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奶牛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286000" y="685800"/>
            <a:ext cx="27432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骏马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52880" y="685800"/>
            <a:ext cx="39625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家畜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590920" y="2133720"/>
            <a:ext cx="24382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夜幕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28600" y="12193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极目远眺，碧绿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般的草原上，是一头头黑白两色的奶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733920" y="1219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丝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457200" y="838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有的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牛背上盖着防潮的毛毡，正在低头吃草；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有的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站立不动，仿佛正在思考什么。牛犊跑前跑后，活像顽皮的孩子；老牛仪态端庄，好似牛群的家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3:56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1:24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