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2748-3747-45E2-B949-07A46D9CCF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04DF-12C1-434D-8A84-9B967ABCC1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AFD9-EA9C-42A1-A2A3-86992064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CDB5-673A-49E8-AE55-2ED54E1E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4608-263B-47B4-A253-587F314E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8E79-8D5F-481B-878D-7025DFDF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5B31-DD5C-488D-A44C-34751B78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5F9-B8DB-4516-BF14-1DDEF74A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27B9-7697-4DDA-8716-676C33B7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BC9-03C9-4D63-960C-BC4FAD48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DE1-1F77-4385-A5C5-8E2543BB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22B-D161-4C95-9704-2433A555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120C-C82C-4022-8476-B7B409F4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8843-40B0-4FB3-8210-3086F3DA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D7ED-5621-4B26-8E6A-A18D198F0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a0511bb3307515f2[1]"/>
          <p:cNvPicPr/>
          <p:nvPr/>
        </p:nvPicPr>
        <p:blipFill>
          <a:blip r:embed="rId1"/>
          <a:stretch/>
        </p:blipFill>
        <p:spPr>
          <a:xfrm>
            <a:off x="5133960" y="228600"/>
            <a:ext cx="2736720" cy="2359080"/>
          </a:xfrm>
          <a:prstGeom prst="rect">
            <a:avLst/>
          </a:prstGeom>
          <a:ln w="0">
            <a:noFill/>
          </a:ln>
        </p:spPr>
      </p:pic>
      <p:sp>
        <p:nvSpPr>
          <p:cNvPr id="49" name="WordArt 9"/>
          <p:cNvSpPr txBox="1"/>
          <p:nvPr/>
        </p:nvSpPr>
        <p:spPr>
          <a:xfrm>
            <a:off x="1601640" y="2781360"/>
            <a:ext cx="6051600" cy="10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</a:rPr>
              <a:t>我的动物朋友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50" name="Picture 11" descr="ecef187f91443e58"/>
          <p:cNvPicPr/>
          <p:nvPr/>
        </p:nvPicPr>
        <p:blipFill>
          <a:blip r:embed="rId2"/>
          <a:stretch/>
        </p:blipFill>
        <p:spPr>
          <a:xfrm>
            <a:off x="947880" y="228600"/>
            <a:ext cx="2976480" cy="235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03bbc601a4274db7"/>
          <p:cNvPicPr/>
          <p:nvPr/>
        </p:nvPicPr>
        <p:blipFill>
          <a:blip r:embed="rId3"/>
          <a:stretch/>
        </p:blipFill>
        <p:spPr>
          <a:xfrm>
            <a:off x="239760" y="4005360"/>
            <a:ext cx="2808360" cy="2100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522ba782ab462659"/>
          <p:cNvPicPr/>
          <p:nvPr/>
        </p:nvPicPr>
        <p:blipFill>
          <a:blip r:embed="rId4"/>
          <a:stretch/>
        </p:blipFill>
        <p:spPr>
          <a:xfrm>
            <a:off x="3382920" y="4005360"/>
            <a:ext cx="2735280" cy="2133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a5930f5eab17a223"/>
          <p:cNvPicPr/>
          <p:nvPr/>
        </p:nvPicPr>
        <p:blipFill>
          <a:blip r:embed="rId5"/>
          <a:stretch/>
        </p:blipFill>
        <p:spPr>
          <a:xfrm>
            <a:off x="6361200" y="4005360"/>
            <a:ext cx="2520720" cy="2133360"/>
          </a:xfrm>
          <a:prstGeom prst="rect">
            <a:avLst/>
          </a:prstGeom>
          <a:ln w="0">
            <a:noFill/>
          </a:ln>
        </p:spPr>
      </p:pic>
      <p:sp>
        <p:nvSpPr>
          <p:cNvPr id="54" name="矩形 9"/>
          <p:cNvSpPr/>
          <p:nvPr/>
        </p:nvSpPr>
        <p:spPr>
          <a:xfrm>
            <a:off x="1931760" y="6165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68360" y="189000"/>
            <a:ext cx="82090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11280" y="40464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狗有一张宽而大的嘴巴，嘴里有一排洁白而又锋利的牙齿，它一口就可以将一只大老鼠咬死！ 小狗有着矫健的四肢，它跑得速度非常快，一分钟可以跑二、三里路呢！ 小狗的眼睛不很好，大约只能看一里的距离。那么，它为什么能看准东西呢？它主要靠得是它的鼻子。 小狗的爪子很锋利，不用多长时间，它就可以挖一个很大的圆形的坑。 小狗刚生下来的时候，毛是棕色的，可是它长大以后就不再是棕色的了，而变成了深黄色。 小狗的性格非常温和。如果你对它好，它就会用头顶你的腿，好像是在向你撒娇；可是如果是陌生人来到它的家里，它仍会“汪汪”地叫个不停，甚至会扑到你身上咬伤你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"/>
          <p:cNvPicPr/>
          <p:nvPr/>
        </p:nvPicPr>
        <p:blipFill>
          <a:blip r:embed="rId1"/>
          <a:stretch/>
        </p:blipFill>
        <p:spPr>
          <a:xfrm>
            <a:off x="1728720" y="3079800"/>
            <a:ext cx="5688000" cy="3778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468360" y="189000"/>
            <a:ext cx="82090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蛙的身体胖胖的，有的身体足有七八厘米长。它们披着黄绿色或深绿色的衣裳，露着雪白的肚皮。它们的头又宽又扁，像一个三角形。它的头上鼓着一双圆溜溜的大眼睛，长着大嘴巴、小鼻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982688_162005032737_2"/>
          <p:cNvPicPr/>
          <p:nvPr/>
        </p:nvPicPr>
        <p:blipFill>
          <a:blip r:embed="rId1"/>
          <a:stretch/>
        </p:blipFill>
        <p:spPr>
          <a:xfrm>
            <a:off x="6889680" y="3112920"/>
            <a:ext cx="2254320" cy="374508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1"/>
          <p:cNvSpPr/>
          <p:nvPr/>
        </p:nvSpPr>
        <p:spPr>
          <a:xfrm>
            <a:off x="816120" y="4654440"/>
            <a:ext cx="50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468360" y="260280"/>
            <a:ext cx="82072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它一身的白毛像雪似的，中间夹着数块墨色的细毛，黑白相间，白的显得越白，而黑的越发显得黑了。脸一半儿白，一半儿黑，两颗小电灯泡似的眼睛在脸中间闪呀闪，见我低下头看它，它也一个劲地盯着我。一条全黑的尾巴躺在地上，悠然自得地摇摆着。嘴张得很大，露出几颗嫩白的小齿，咪咪地叫着，那几根细鱼骨头似的白胡须，傲傲地动着。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11"/>
          <p:cNvPicPr/>
          <p:nvPr/>
        </p:nvPicPr>
        <p:blipFill>
          <a:blip r:embed="rId1"/>
          <a:stretch/>
        </p:blipFill>
        <p:spPr>
          <a:xfrm>
            <a:off x="468360" y="26370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3"/>
          <p:cNvPicPr/>
          <p:nvPr/>
        </p:nvPicPr>
        <p:blipFill>
          <a:blip r:embed="rId2"/>
          <a:stretch/>
        </p:blipFill>
        <p:spPr>
          <a:xfrm>
            <a:off x="5508720" y="2708280"/>
            <a:ext cx="342108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7"/>
          <p:cNvSpPr txBox="1"/>
          <p:nvPr/>
        </p:nvSpPr>
        <p:spPr>
          <a:xfrm rot="5400000">
            <a:off x="4116960" y="2946960"/>
            <a:ext cx="5975640" cy="890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round/>
                </a:ln>
                <a:gradFill rotWithShape="0">
                  <a:gsLst>
                    <a:gs pos="0">
                      <a:srgbClr val="ccff66"/>
                    </a:gs>
                    <a:gs pos="100000">
                      <a:srgbClr val="ff33cc"/>
                    </a:gs>
                  </a:gsLst>
                  <a:lin ang="0"/>
                </a:gradFill>
                <a:latin typeface="宋体"/>
              </a:rPr>
              <a:t>说一说  听一听  评一评</a:t>
            </a:r>
            <a:endParaRPr b="0" lang="en-US" sz="1800" spc="1" strike="noStrike">
              <a:ln w="19080">
                <a:solidFill>
                  <a:srgbClr val="0000ff"/>
                </a:solidFill>
                <a:round/>
              </a:ln>
              <a:gradFill rotWithShape="0">
                <a:gsLst>
                  <a:gs pos="0">
                    <a:srgbClr val="ccff66"/>
                  </a:gs>
                  <a:gs pos="100000">
                    <a:srgbClr val="ff33cc"/>
                  </a:gs>
                </a:gsLst>
                <a:lin ang="0"/>
              </a:gradFill>
              <a:latin typeface="宋体"/>
              <a:ea typeface="宋体"/>
            </a:endParaRPr>
          </a:p>
        </p:txBody>
      </p:sp>
    </p:spTree>
  </p:cSld>
  <p:transition spd="slow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B130-469E-4BC3-85AA-EBD521403E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1"/>
          <p:cNvSpPr/>
          <p:nvPr/>
        </p:nvSpPr>
        <p:spPr>
          <a:xfrm>
            <a:off x="1036800" y="396252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522ba782ab462659"/>
          <p:cNvPicPr/>
          <p:nvPr/>
        </p:nvPicPr>
        <p:blipFill>
          <a:blip r:embed="rId1"/>
          <a:stretch/>
        </p:blipFill>
        <p:spPr>
          <a:xfrm>
            <a:off x="7020000" y="1916280"/>
            <a:ext cx="1655640" cy="12920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468360" y="1916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头小颈长四脚短，硬壳壳里把身安，别看胆小又怕事，要论寿命大无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9"/>
          <p:cNvSpPr txBox="1"/>
          <p:nvPr/>
        </p:nvSpPr>
        <p:spPr>
          <a:xfrm>
            <a:off x="1908000" y="404640"/>
            <a:ext cx="431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猜谜语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835280" y="3429000"/>
            <a:ext cx="67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物长来真奇怪，肚皮下面长口袋，孩子袋里吃和睡，跑得不快跳得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1403280" y="5013360"/>
            <a:ext cx="35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耳朵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尾巴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吃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吃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get?name=T1dKdYB7bK1RCvBVdK"/>
          <p:cNvPicPr/>
          <p:nvPr/>
        </p:nvPicPr>
        <p:blipFill>
          <a:blip r:embed="rId2"/>
          <a:stretch/>
        </p:blipFill>
        <p:spPr>
          <a:xfrm>
            <a:off x="468360" y="335772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get?name=T1WksjBKYK1RCvBVdK"/>
          <p:cNvPicPr/>
          <p:nvPr/>
        </p:nvPicPr>
        <p:blipFill>
          <a:blip r:embed="rId3"/>
          <a:stretch/>
        </p:blipFill>
        <p:spPr>
          <a:xfrm>
            <a:off x="4788000" y="4941720"/>
            <a:ext cx="1333440" cy="13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3f06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可爱的狗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家的小狗是只贵妇犬。他浑身的毛是雪白色的，一张瓜子儿脸，眼睛滴溜溜的四处张望，嫩嫩的小鼻子，嘴巴向上一翘，牙齿特别干净，耳朵染成了火焰色，尾巴在地上拖来拖去。我常常给她穿上一条粉红色的纱裙，看她四条细长的腿走来走去，像是在炫耀它漂亮的新外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848720" cy="547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只要我和狗狗在一起，我就特别快乐。看电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就把它抱在沙发上靠着自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写作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坐一条椅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旁边也放一条椅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弄个沙发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让它与我排排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还时常和它亲昵地说些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睡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常把它的“被窝”搬到我的床边。早上起床之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就把它带出小区“放松”。放学回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门铃一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就飞快地蹿出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我们脚边亲热地呜呜直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边努力地探起身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渴望我们能把它抱入怀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9528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有不测风云，我的小狗病了。妈妈到处为它求医，可是病魔还是夺走了它脆弱的生命，它离开的那一刻，我抱着它，眼泪不禁夺眶而出。它的眼睛一闪一闪的，好像在说：“主人，虽然我走了，但我带不走你往日的欢乐，再见了。”慢慢地，它那闪着生存的渴望之光的眼睛闭上了。那装满狗粮的小碗从我手上滑落，掉到了地上。我一直晃着它，可它再也醒不过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6"/>
          <p:cNvSpPr/>
          <p:nvPr/>
        </p:nvSpPr>
        <p:spPr>
          <a:xfrm>
            <a:off x="3995640" y="19209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文回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Organization Chart 29"/>
          <p:cNvGrpSpPr/>
          <p:nvPr/>
        </p:nvGrpSpPr>
        <p:grpSpPr>
          <a:xfrm>
            <a:off x="431640" y="1585800"/>
            <a:ext cx="8208720" cy="4462920"/>
            <a:chOff x="431640" y="1585800"/>
            <a:chExt cx="8208720" cy="4462920"/>
          </a:xfrm>
        </p:grpSpPr>
        <p:sp>
          <p:nvSpPr>
            <p:cNvPr id="70" name="AutoShape 28"/>
            <p:cNvSpPr/>
            <p:nvPr/>
          </p:nvSpPr>
          <p:spPr>
            <a:xfrm>
              <a:off x="431640" y="1585800"/>
              <a:ext cx="8208720" cy="44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_s1028"/>
            <p:cNvCxnSpPr>
              <a:stCxn id="72" idx="0"/>
              <a:endCxn id="73" idx="2"/>
            </p:cNvCxnSpPr>
            <p:nvPr/>
          </p:nvCxnSpPr>
          <p:spPr>
            <a:xfrm flipH="1" flipV="1">
              <a:off x="4535640" y="3369960"/>
              <a:ext cx="2873520" cy="89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29"/>
            <p:cNvCxnSpPr>
              <a:stCxn id="75" idx="0"/>
              <a:endCxn id="73" idx="2"/>
            </p:cNvCxnSpPr>
            <p:nvPr/>
          </p:nvCxnSpPr>
          <p:spPr>
            <a:xfrm flipV="1">
              <a:off x="4532760" y="3364560"/>
              <a:ext cx="3240" cy="893160"/>
            </a:xfrm>
            <a:prstGeom prst="straightConnector1">
              <a:avLst/>
            </a:prstGeom>
            <a:ln w="28440">
              <a:solidFill>
                <a:srgbClr val="000000"/>
              </a:solidFill>
              <a:round/>
            </a:ln>
          </p:spPr>
        </p:cxnSp>
        <p:cxnSp>
          <p:nvCxnSpPr>
            <p:cNvPr id="76" name="_s1030"/>
            <p:cNvCxnSpPr>
              <a:stCxn id="77" idx="0"/>
              <a:endCxn id="73" idx="2"/>
            </p:cNvCxnSpPr>
            <p:nvPr/>
          </p:nvCxnSpPr>
          <p:spPr>
            <a:xfrm flipV="1">
              <a:off x="1662840" y="3369960"/>
              <a:ext cx="2873520" cy="89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3" name="_s1031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写小动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2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外形，脾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3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99"/>
                  </a:solidFill>
                  <a:latin typeface="Arial"/>
                </a:rPr>
                <a:t>嬉戏的欢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4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感人的事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064"/>
            </a:gs>
            <a:gs pos="100000">
              <a:srgbClr val="cc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你喜爱的小动物以及发生在你们身上的故事，在小组内自由说说，要注意说清你们是怎样相遇的？在你们接触的过程中，都发生了哪些让你难忘的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u=251432840,1413181298&amp;fm=0&amp;gp=0[1]"/>
          <p:cNvPicPr/>
          <p:nvPr/>
        </p:nvPicPr>
        <p:blipFill>
          <a:blip r:embed="rId1"/>
          <a:stretch/>
        </p:blipFill>
        <p:spPr>
          <a:xfrm>
            <a:off x="395280" y="18900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6"/>
          <p:cNvSpPr txBox="1"/>
          <p:nvPr/>
        </p:nvSpPr>
        <p:spPr>
          <a:xfrm>
            <a:off x="1476360" y="33336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写一写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900000" y="1773360"/>
            <a:ext cx="676908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给文章确立一个好的题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：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可爱的“大眼睛”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猫咪带给我的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一份“狗狗”说明书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嘿，这个淘气的小家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2"/>
          <p:cNvSpPr/>
          <p:nvPr/>
        </p:nvSpPr>
        <p:spPr>
          <a:xfrm>
            <a:off x="468360" y="189000"/>
            <a:ext cx="8209080" cy="18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一自然段就让读者爱上你的“朋友”，因此在写作时要按一定的顺序写出你的动物朋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特别之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自然段要写出你和“朋友”的故事，一定要能集中表现你们之间的浓浓情意，可以用动作、神态、语言和心理描写来突出重点。如 “有一天，小狗的主人来了，要把它领走。我很伤心，眼泪不由自主地掉下来。小狗跑到我身边，不停地用舌头舔我的手，还‘呜呜’地叫，好像在说：‘别伤心，我还会回来的’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09:15:2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1:09Z</dcterms:modified>
  <cp:revision>4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