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3F46-DBC8-406A-8E85-9593F402C2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23A-A00D-4F2D-B1C2-077D4A065C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0FF-B926-42BE-B94F-55F8FB4D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9F9-08E7-48DC-802E-45CAA9D4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F8357-A128-455E-A48C-D560911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F6FB2-D7C9-43E5-950E-F15E15F1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E010F-EC0D-413B-98AB-C3416AD1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B56CF-B34C-4C5C-A398-09EF117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144E2-9BEF-4FD7-913F-3E9745E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B5FFA-0E6E-46EF-8D56-B5C24FF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783A8-9767-473C-8675-FEF8642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19DE9-C4FD-4345-B11A-0D7FC9D5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7A73-43B3-4C26-A686-3C65B227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C677-F524-45EF-9DE1-B340A2B3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9D0-57AD-4EE3-9078-BF102986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93443-4B55-472E-BDAC-B6805F19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FC74-1465-40F1-82D5-154FAE5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81A88-872E-455F-BDF9-7D5CA67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15CC6-FD8D-4627-994C-125EF23F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B7CB4-64FF-4229-8B77-B7230DB6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67A46-E514-43EE-8E34-1436F9A6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1C3D8-BD5E-4EE9-9F0A-AC3B63C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A95A0-7234-4702-A433-617A23F1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FA192-37F3-4BFA-873E-7BA1E6C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83D2C-F6A6-4FB1-AE3F-A032CB18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431-4672-4B65-86A7-50E74F23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33CAB-0DBE-4FFF-978F-8BE629FF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D4FF3-D8AD-46D0-A0CD-12800D6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BAE60-840A-439C-90D3-6AD706B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3D96-D69D-4986-9FC9-5C87EF9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E34E-A244-499B-B7AE-55A12AE3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B2D2-78A9-4D77-A54E-2AA59204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3769-EBA0-4A72-968A-B2108C5E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A6B20-8E5A-45AB-B479-2E6E2330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FAF2C-809F-4C1E-BCF2-2199D10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C55E4-BDDA-4C25-9BAF-6D4EDB8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CECA-DFED-4512-BF7B-3ECB573F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C910-1D00-40E6-A932-5A5A6414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7BFA-1EFE-4E7A-BD27-EDB1F1B6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2AEEA-13B0-42A1-8CA0-13EE9F15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4326F-E78F-406E-ADCD-3A39A965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E533-11AF-4262-964B-394CAAEB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5307E-BA26-4B38-86E6-1D89187E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EB3D8-8C5F-444F-B209-AB5B7EE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1F28E-E028-4D10-9292-DA12CC3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9DFFD-B0AE-4DC0-8C8D-587595C1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531A-24EE-4478-A9AA-E769C050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A484-44FF-49FF-9A53-AF90D75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0D2B4-0FF5-484B-BDAE-1800B20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9DDAE-51C8-4575-AFEB-AC750411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8F5A7-D863-4347-9B22-DB12CC4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52FD0-A4B9-455B-B814-DC6574A8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66C93-800A-4A22-8C3C-F625DBA1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3F998-D425-4566-9B24-C7DD068D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FBC19-8A07-4B53-8CE1-94B9325D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C54E6-3AE3-46D6-B21A-23090E8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7B8DE-E4EA-4A1B-8B5E-6233E327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4ED41-05C9-4FD0-AAC9-83B3CB0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4FC6-4552-4DD1-A089-FD2139B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12C7F-F528-474E-96F4-19A88D4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2056C-3ABB-40C7-9B36-4CA98CC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9BDF3-3989-4119-9F41-9AE860C6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1B9F-676B-4015-BF31-097527C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B11E6-5967-4F32-BE35-B4C03120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4567F-B67E-4E17-8A38-6D60F169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4EF2B-AB93-4727-9A6D-55A4FF0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4061-3E6E-446C-92CF-6AED217D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B33E-A607-4B45-AAA2-3C74DA9C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18C-942D-4987-9067-90D40A70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5F4A-71E8-4E7F-A019-6EDF4B9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1DF-125A-4710-B81C-7B878052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8822-1BBB-4D33-BF44-A3BF003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2A42-781C-4A24-85C0-ED4BB86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D39-6AF3-45BC-9765-F302B85B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47C-744B-4663-879A-01CF36AD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2FD8-3625-4A58-A172-4FAA7D6F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725C-8E74-4913-A7AB-34E8E311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1393-E0A6-468D-B1F3-976AEAD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441E-79D8-4CAD-AEDC-ED11780F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B1B8-F827-4739-9410-C2C0EE5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317F9-25BF-4868-85B1-E1D024E5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392-F442-41C9-97E0-E8FCEA54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AC2A-13EC-4AD4-A77E-B49996D4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67BA-01F3-4500-9844-51A0829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9728-333B-4D4D-9349-BD77B58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6685-83C2-4F3E-B90F-284777D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00A3-5C9D-4942-B742-4364BCF6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DA74-9E08-4BCF-A68A-993E0133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83D1-FD54-4BF2-9C5D-8E5033FE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3519-1B8E-4A97-AA20-B8413C4B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5324-5740-4031-8935-6D89858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0734-D0E4-42D3-914C-15ADE93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E24-E9DD-4DDD-ADAD-2A3CEA6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629D-9C02-4B91-90E3-8CA7D72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B202-12FC-46D1-8EC4-BF59466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B587-221E-4A1E-B39F-FEF9E64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394E-094F-406D-8C63-F23399E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B7C9-0DF1-4DFB-9A36-6E8B3C8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10F4-CEA1-4C4F-BF8E-FD275A2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15E3-376E-4E99-817C-1AF45B4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CEF2-2F5D-4643-A767-FF3EDBF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D3A4-0D91-4A1A-9BE5-503108CE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A9A3-5CF4-4CBF-B530-EE5A0311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5A4-61E6-4F9C-9757-FDBB15D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BB0C-4B64-4D0C-970E-D1E2F51C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DC67-FE25-44D1-82B4-45FE2C7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5FD8-F745-4688-AF33-96EB480E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9249-8F2F-474E-9ADF-FD4D479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445F-353D-4615-9A71-38C662B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477BB-FBF8-4DE9-8726-F7C8054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3FC1-EC9B-4970-86E3-089B101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FEAE-B8F0-4037-818D-95795D8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3F86-3D39-452A-BC5F-71EF9CD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CF975-54EF-41BE-AD4D-592E8E36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C3A-F413-4800-9A7A-EDADC52D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4E75-DD67-49C2-BD77-969280B3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32D1-5B07-4740-93B1-BFB59E2D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E09EF-11E4-4077-A6D9-27A157D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121F-ABB6-4A8B-A188-B5E29E06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12EE-BA0E-4BB7-AC55-F40C27A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3341-1788-4718-ACE2-86472EDC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546C-8C05-43FB-A062-B663CCB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ED9C-2F4E-4535-A03C-FAC2484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A185-DC89-44B1-8E70-06D48F4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4827-1E04-43EA-B109-AA59A18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90E-B1A7-4460-8D49-AF72702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CA7C-6A68-4C37-81D1-CB56F68C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60AC-BF47-4312-A022-D2EE1528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69D7-0D03-46D5-8446-735E4AB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B5C0E-733D-4FAB-95F2-AC22D9B9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19D3C-262E-45E2-967E-D198E5E1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7909-7FE6-46A2-A60C-F1394C02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B0DD8-1001-4E21-9F23-3E8D202A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B8D60-AD73-4E27-BEC1-76C93D0A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88452-E5A7-4FE3-A713-2178ACEC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3BEB3-9ACE-4AED-805B-89FEF05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115-7D08-491A-AB28-5E036CF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2BDEE-2829-4AC8-A901-77A7BE2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5D5A-A686-4BD4-90E8-5539760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B99D-382C-4056-BD0C-9801A15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4498-0B73-497C-BD8D-49665200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42B0-343E-45E9-85D6-62DF4AB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CB3D-8F26-464F-A3D5-8F768CFB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F6962-7E26-485B-B649-754E901F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6EA3-552C-4A1D-8D4B-ABE1432A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A486-D266-4057-A0CF-E51D473D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3E057-445C-4A4C-8EA2-E0969CD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A21-14C9-422E-97D1-A09D7EE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610D0-64A2-4B18-9C8A-7FFD3E8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2443E-3078-4891-927A-AD529A4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B25B3-9C5E-4687-B0DF-D7DF7D1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8AC0-0725-4BA5-BCCE-C4CAA7E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A4CD-A627-4386-B8CA-30325DB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927C-E320-43A4-B6AE-D3241AE6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42937-1326-4863-9485-B6EE602A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3931-BD4A-4F9C-BAA8-E380833B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3AE76-C77C-4124-977C-FA7788B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C855B-9594-4AA5-AFF1-8810DF4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F72-8880-4E6F-8D54-6E649BF9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2EF-ED63-44AB-839D-30D022339D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5D0F-3217-4CE4-87E1-B5B6F20B45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E0C8-85A1-4CE7-A35E-475BAB201E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376-DACE-4E43-8765-CF17A987E4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529-01C6-4DD9-BD0C-CE755511A2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EB07-B7F6-4CE8-B42D-D6AB0914B0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D46-A787-4831-BAAB-462D1083A0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2FEA-78B9-4055-85A2-591E0B817A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E965-3F4E-4C64-992A-751587D863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E04-FF41-4E39-B1F9-1CB7841B79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7F3-B84B-4C5E-8EEC-0E78609215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EF0-9A2E-487B-B08A-89BE0F4A22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3"/>
          <p:cNvSpPr/>
          <p:nvPr/>
        </p:nvSpPr>
        <p:spPr>
          <a:xfrm>
            <a:off x="2595240" y="76212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 和 春 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648320" cy="3100320"/>
          </a:xfrm>
          <a:prstGeom prst="rect">
            <a:avLst/>
          </a:prstGeom>
          <a:ln w="0">
            <a:noFill/>
          </a:ln>
        </p:spPr>
      </p:pic>
      <p:sp>
        <p:nvSpPr>
          <p:cNvPr id="542" name="矩形 5"/>
          <p:cNvSpPr/>
          <p:nvPr/>
        </p:nvSpPr>
        <p:spPr>
          <a:xfrm>
            <a:off x="2053800" y="601992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是怎样给我讲解的呢？ 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老师表扬了我的勤学好问，并且给我讲了很多关于春联的学问，让我从小对春联孕育发生了浓重喜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在老师的鼓励、表扬下，春联第一次深深的吸收了我。它又是怎样融进了我的童年生活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——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12193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第二年，当我在学校门口品读新的对联时，我明白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我感悟到了学习务必勤奋刻苦的道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老师又从另一副春联中给我讲解了关于春联的什么学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对仗的学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—1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者由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认春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到正在老师的指示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品春联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后来正在父亲的鼓励下开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写春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那么我在给邻居们写春联时，有什么有趣的事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福如东海长流水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寿比南山不老松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福气和东海的水一样，天天流不断，形容福气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寿命和南山上老松树一样，永远存在，形容寿命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在抄录对联时，琢磨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微软雅黑"/>
              </a:rPr>
              <a:t>向 阳 门 第 春 常 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微软雅黑"/>
              </a:rPr>
              <a:t>积 善 人 家 庆 有 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向阳的门第一年四季都像春天一样充满生机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积善积德的人家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年四季都会有喜庆的事情不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怎样理解作者最喜欢的对联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32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风摇竹影有声画，雨打梅花无字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清风轻轻摇曳竹子，竹影晃动，声音轻盈，犹如一幅有声的图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雨轻轻拍打在娇美的梅花上，有如一曲无字之诗，别有意境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什么地方看出，我喜欢对联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最后一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开篇简洁明了，证实本人的瞧法，结尾回应开篇，证实“儿时对春联的喜爱和收集，与我后来从事文学创作是大有关系的。”开头结尾相呼应，使主题越发鲜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1209240" y="38088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如逆水行舟，不进则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心似平原跑马，易放难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367320" y="3808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书山有路勤为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海无涯苦作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779480" y="184320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意兴隆通四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财源茂盛达三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5715000" y="174456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福如东海长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寿比南山不老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262160" y="342900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弯流水斜阳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缕炊烟老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5376960" y="350532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又是一年芳草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依然十里杏花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1033560" y="51814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向阳门第春常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积善人家庆有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4919760" y="533412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风摇竹影有声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雨打梅花无字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fde30b25bc924e548b82a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1736640" y="1317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1025640" y="228600"/>
            <a:ext cx="37285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对联的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上下联的字数相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对仗工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词性相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152280" y="304920"/>
            <a:ext cx="8763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鞭炮  踩高跷 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磨  抒发 寓意 勤奋  颠倒  咳呛不止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穷乡僻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壤 锣鼓咚咚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逆水行舟  平原跑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聚精会神  漫不经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进则退  易放难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书山有路  学海无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福如东海  寿比南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1328040" y="15228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尊师爱生风尚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勤学苦练气象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5257800" y="152280"/>
            <a:ext cx="379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色香味形多雅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烹调蒸煮俱新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279440" y="21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0" y="15238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悲声难挽流云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泣声相随野鹤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4826160" y="152388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手起刃落，三千烦丝尽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剪吹梳卷，十万秀发开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54440" y="4572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4802760" y="533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839520" y="2895480"/>
            <a:ext cx="67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943600" y="2743200"/>
            <a:ext cx="5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2133000" y="4191120"/>
            <a:ext cx="370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理发店（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饭店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学校（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灵堂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3429000" y="3809880"/>
            <a:ext cx="3049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629400" y="4191120"/>
            <a:ext cx="304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048120" y="4495680"/>
            <a:ext cx="304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943600" y="4876920"/>
            <a:ext cx="533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1393200" y="609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联，对对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973080" y="170352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载歌载舞庆新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1338120" y="25210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碧波跳红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897120" y="330372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山美水美风光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414440" y="396864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春光洒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897120" y="4751280"/>
            <a:ext cx="24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红梅点点风日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181120" y="3968640"/>
            <a:ext cx="29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春意融融人杰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088960" y="1703520"/>
            <a:ext cx="29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新事新时代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5165640" y="24447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心同德干四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4996440" y="320508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瑞雪映千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015520" y="473076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绿水跃白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5"/>
          <p:cNvSpPr/>
          <p:nvPr/>
        </p:nvSpPr>
        <p:spPr>
          <a:xfrm>
            <a:off x="3809880" y="2133720"/>
            <a:ext cx="144792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6"/>
          <p:cNvSpPr/>
          <p:nvPr/>
        </p:nvSpPr>
        <p:spPr>
          <a:xfrm>
            <a:off x="3581280" y="2895480"/>
            <a:ext cx="1600200" cy="2133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7"/>
          <p:cNvSpPr/>
          <p:nvPr/>
        </p:nvSpPr>
        <p:spPr>
          <a:xfrm flipV="1">
            <a:off x="3809880" y="2286000"/>
            <a:ext cx="1295640" cy="1447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 flipV="1">
            <a:off x="3429000" y="36572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9"/>
          <p:cNvSpPr/>
          <p:nvPr/>
        </p:nvSpPr>
        <p:spPr>
          <a:xfrm flipV="1">
            <a:off x="3809880" y="44193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977-F6E6-498B-AF1A-858A6C0C7E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0492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据说五代的后蜀国国君孟昶是个喜欢别开生面的国君，正在雄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6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岁尾的除夕，他突发奇想，让他手下的一个学士，在桃木板上写了两句话，作为桃符挂正在他们的门框上，这两句话是“新年纳余庆，嘉节号长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352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由此开端，桃符的方式和内容都发生了改变，不止是辟邪驱灾，还添加了祈福、祝福的内容。这就成了我国最早的春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春节快要到了，让我们一同来感觉春联的魅力，瞧一瞧春联和作者有怎样的渊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200812917525133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330560" y="762120"/>
            <a:ext cx="54745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       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宋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]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王安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爆 竹 声 中 一 岁 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春 风 送 暖 入 屠 苏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千 门 万 户 曈 曈 日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总 把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新 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换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旧 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黎汝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，作家。山东博兴人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参加八路军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加进中国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加进中国作家协会。长篇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皖南事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华东文艺图书奖一等奖及全国第二届图书奖金钥匙奖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洋界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获全军第三届文艺新作品一等奖，电影文学剧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华表奖、第二十一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百花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朗读课文，谈一谈春联是怎样一步一步融进“我”的童年生活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是怎样对春联产生兴趣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那是二年级寒假过完的时候，校门口两侧的 一副春联，第一次深深吸收引了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如逆水行舟，不进则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心似平原跑马，易放难收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怎样理解这副春联的含义呢？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这副春联使用了比喻的修辞手法，学习如同船在逆水中行使，如果你不往前进的话就会顺着水往后退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"/>
              </a:rPr>
              <a:t>心就像是马在平原上跑，如果你不懂的收放自如，那把马放开它就会很快跑的没影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从而劝诫人们，学习要有恒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06:26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07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