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move the slid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E9FC4-3593-4BAA-8043-F390B4A8E77B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88B74-2A7B-4CB4-B71B-11576A49EBCF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DE0BB-F5C6-46DD-B1BE-A03CDAF36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5B908-A2DB-4D42-8269-8BAEA7AB3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0BDF0-5D64-44C5-B26D-6FF642364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5D2F0-6AC6-4E52-B1DF-710329FCE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BA45D-7579-49EB-B6AE-D98A9C6E2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CBEBB-A188-461C-9814-EEFD71784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4E668-0D70-4565-B890-AE2A590F0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43FEA-5A6C-46EF-9699-95CCA949C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E7A89-9CD9-4D1F-8559-958454732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D835D-D97B-40C7-8A93-A32B88583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7541D-E50B-4704-9A35-1DD25F913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64EB8-C5B3-423C-A737-2C6943770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C914A-178C-428A-A6E7-114192DB2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B34A9-8E7B-403C-979D-C0EF920FA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49A89-FD8D-4451-9699-92C38880B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2BE6D-A62C-4797-AD93-6CCCE89FF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CEBC0-F44D-4B15-892F-E29ABDBA4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033F2-5015-4117-B8D6-0AA6FBE7F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58B11-380C-4B2F-8B5F-0CE8BABE3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F6060-3913-4EE5-8318-C8C4692CF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059DD-CEDA-41B3-831C-018D94D35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AB66E-6370-4A30-9808-3919A79E9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2CD3F-4251-4614-B6C0-7FC9A60A0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A5315-DE0D-4478-B41E-0F93D360C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5311C-86AD-4B60-9E9C-0385A43888A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40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520" y="152280"/>
              <a:ext cx="11700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400" y="320040"/>
              <a:ext cx="118440" cy="116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520" y="320040"/>
              <a:ext cx="117000" cy="116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640" y="320040"/>
              <a:ext cx="117000" cy="1166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400" y="488160"/>
              <a:ext cx="118440" cy="116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520" y="488160"/>
              <a:ext cx="117000" cy="1166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640" y="488160"/>
              <a:ext cx="117000" cy="1166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760" y="488160"/>
              <a:ext cx="119520" cy="1166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5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400" y="655920"/>
              <a:ext cx="118440" cy="1195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520" y="655920"/>
              <a:ext cx="117000" cy="1195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640" y="655920"/>
              <a:ext cx="11700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5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400" y="824040"/>
              <a:ext cx="118440" cy="1195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520" y="824040"/>
              <a:ext cx="11700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640" y="824040"/>
              <a:ext cx="11700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760" y="824040"/>
              <a:ext cx="11952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1800"/>
              <a:ext cx="119880" cy="118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400" y="991800"/>
              <a:ext cx="118440" cy="1184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520" y="991800"/>
              <a:ext cx="117000" cy="1184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640" y="991800"/>
              <a:ext cx="117000" cy="11844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560"/>
              <a:ext cx="119880" cy="1166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400" y="1159560"/>
              <a:ext cx="118440" cy="1166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520" y="1159560"/>
              <a:ext cx="117000" cy="11664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640" y="1159560"/>
              <a:ext cx="117000" cy="11664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400" y="1327680"/>
              <a:ext cx="11844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640" y="1327680"/>
              <a:ext cx="11700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8120" cy="2189160"/>
            <a:chOff x="7493040" y="2992320"/>
            <a:chExt cx="133812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60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60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480" y="2992320"/>
              <a:ext cx="20160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360"/>
              <a:ext cx="20160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360"/>
              <a:ext cx="20160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480" y="3276360"/>
              <a:ext cx="20160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520" y="3276360"/>
              <a:ext cx="20160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60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60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480" y="3560760"/>
              <a:ext cx="20160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520" y="3560760"/>
              <a:ext cx="20160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60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60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60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480" y="3843360"/>
              <a:ext cx="20160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520" y="3843360"/>
              <a:ext cx="20160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60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60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480" y="4127400"/>
              <a:ext cx="20160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520" y="4127400"/>
              <a:ext cx="20160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600" cy="20304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440"/>
              <a:ext cx="20160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440"/>
              <a:ext cx="20160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480" y="4411440"/>
              <a:ext cx="20160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520" y="4411440"/>
              <a:ext cx="20160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60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60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480" y="4695840"/>
              <a:ext cx="20160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520" y="4695840"/>
              <a:ext cx="20160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60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520" y="4979880"/>
              <a:ext cx="20160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03E85-22CD-40A3-9AA5-B51D212BB3F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86920" y="1412640"/>
            <a:ext cx="6782040" cy="1197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0066"/>
                </a:solidFill>
                <a:latin typeface="微软雅黑"/>
                <a:ea typeface="微软雅黑"/>
              </a:rPr>
              <a:t>我和大猩猩握了手</a:t>
            </a:r>
            <a:endParaRPr b="1" lang="en-US" sz="6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692360" y="3357360"/>
            <a:ext cx="5672160" cy="7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【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美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】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戴安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·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福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矩形 3"/>
          <p:cNvSpPr/>
          <p:nvPr/>
        </p:nvSpPr>
        <p:spPr>
          <a:xfrm>
            <a:off x="1896840" y="580536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6004d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26004d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5" descr="SC20090119144857531"/>
          <p:cNvPicPr/>
          <p:nvPr/>
        </p:nvPicPr>
        <p:blipFill>
          <a:blip r:embed="rId1"/>
          <a:stretch/>
        </p:blipFill>
        <p:spPr>
          <a:xfrm>
            <a:off x="3714840" y="500040"/>
            <a:ext cx="4786200" cy="5929200"/>
          </a:xfrm>
          <a:prstGeom prst="rect">
            <a:avLst/>
          </a:prstGeom>
          <a:ln w="0">
            <a:noFill/>
          </a:ln>
        </p:spPr>
      </p:pic>
      <p:sp>
        <p:nvSpPr>
          <p:cNvPr id="173" name="TextBox 2"/>
          <p:cNvSpPr/>
          <p:nvPr/>
        </p:nvSpPr>
        <p:spPr>
          <a:xfrm>
            <a:off x="357120" y="2143080"/>
            <a:ext cx="3214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戴安</a:t>
            </a: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·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福茜与大猩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10920" y="47628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Arial"/>
                <a:ea typeface="黑体"/>
              </a:rPr>
              <a:t>自读课文，小组思考并讨论问题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95280" y="1989000"/>
            <a:ext cx="81439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作者是怎样和大猩猩进行交流的？你有什么感受？提示：在文中画出相关语句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我和“皮纳茨”握手的过程是怎样的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68000" y="40428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0066"/>
                </a:solidFill>
                <a:latin typeface="楷体"/>
                <a:ea typeface="楷体"/>
              </a:rPr>
              <a:t>作者是怎样和大猩猩进行交流的？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7" name="Rectangle 3"/>
          <p:cNvSpPr/>
          <p:nvPr/>
        </p:nvSpPr>
        <p:spPr>
          <a:xfrm>
            <a:off x="642960" y="1785960"/>
            <a:ext cx="7429320" cy="40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学它们进食时的声音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学它们吃东西的样子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学它们搔头皮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在细雨蒙蒙的山林里，独自坐在那里，学着大猩猩的样子做着各种动作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10920" y="11592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330066"/>
                </a:solidFill>
                <a:latin typeface="Arial"/>
                <a:ea typeface="黑体"/>
              </a:rPr>
              <a:t>你感受到了什么？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39280" y="1916280"/>
            <a:ext cx="775836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作者为能和大猩猩握手而付出了常人无法想象的努力，感受到作者“我”</a:t>
            </a:r>
            <a:r>
              <a:rPr b="1" lang="zh-CN" sz="3200" spc="-1" strike="noStrike">
                <a:solidFill>
                  <a:srgbClr val="008000"/>
                </a:solidFill>
                <a:latin typeface="楷体"/>
                <a:ea typeface="楷体"/>
              </a:rPr>
              <a:t>对自己所从事的研究工作的热爱，对大猩猩的热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只要人类付出真情，就会赢得动物的信任，与他们和谐共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23640" y="10584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0066"/>
                </a:solidFill>
                <a:latin typeface="黑体"/>
                <a:ea typeface="黑体"/>
              </a:rPr>
              <a:t>“</a:t>
            </a:r>
            <a:r>
              <a:rPr b="1" lang="zh-CN" sz="4000" spc="-1" strike="noStrike">
                <a:solidFill>
                  <a:srgbClr val="330066"/>
                </a:solidFill>
                <a:latin typeface="黑体"/>
                <a:ea typeface="黑体"/>
              </a:rPr>
              <a:t>我”与“皮纳茨”成功握手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24000" y="148392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从作者对“皮纳茨”的外貌、动作描写，我们可以体会到皮纳茨的（</a:t>
            </a:r>
            <a:r>
              <a:rPr b="1" lang="zh-CN" sz="3600" spc="-1" strike="noStrike">
                <a:solidFill>
                  <a:srgbClr val="008000"/>
                </a:solidFill>
                <a:latin typeface="楷体"/>
                <a:ea typeface="楷体"/>
              </a:rPr>
              <a:t>聪明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）、（</a:t>
            </a:r>
            <a:r>
              <a:rPr b="1" lang="zh-CN" sz="3600" spc="-1" strike="noStrike">
                <a:solidFill>
                  <a:srgbClr val="008000"/>
                </a:solidFill>
                <a:latin typeface="楷体"/>
                <a:ea typeface="楷体"/>
              </a:rPr>
              <a:t>可爱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），以及作者对大猩猩的（</a:t>
            </a:r>
            <a:r>
              <a:rPr b="1" lang="zh-CN" sz="3600" spc="-1" strike="noStrike">
                <a:solidFill>
                  <a:srgbClr val="008000"/>
                </a:solidFill>
                <a:latin typeface="楷体"/>
                <a:ea typeface="楷体"/>
              </a:rPr>
              <a:t>喜爱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）之情，感受到“我和大猩猩握手”的那一刹那的（</a:t>
            </a:r>
            <a:r>
              <a:rPr b="1" lang="zh-CN" sz="3600" spc="-1" strike="noStrike">
                <a:solidFill>
                  <a:srgbClr val="008000"/>
                </a:solidFill>
                <a:latin typeface="楷体"/>
                <a:ea typeface="楷体"/>
              </a:rPr>
              <a:t>和谐而美好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）的情感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-36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0066"/>
                </a:solidFill>
                <a:latin typeface="Arial"/>
                <a:ea typeface="黑体"/>
              </a:rPr>
              <a:t>全班交流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2987280" y="1989000"/>
            <a:ext cx="5543640" cy="20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请大家找一找：描写“我”为接近大猩猩所做的努力的重点段落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图片 3" descr="图片2.png"/>
          <p:cNvPicPr/>
          <p:nvPr/>
        </p:nvPicPr>
        <p:blipFill>
          <a:blip r:embed="rId1"/>
          <a:stretch/>
        </p:blipFill>
        <p:spPr>
          <a:xfrm>
            <a:off x="928800" y="2214720"/>
            <a:ext cx="1698480" cy="28144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-36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0066"/>
                </a:solidFill>
                <a:latin typeface="Arial"/>
              </a:rPr>
              <a:t>悲惨的结局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戴安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·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福茜和大猩猩的握手，让我们感觉多么温暖，多么和谐，多么美好。可是，就这样一位优秀的女科学家，却在一次拯救大猩猩的行动中惨遭偷猎者的杀害，文中她亲密的大猩猩朋友也被偷猎者杀害了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" dur="5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2771640" y="2500200"/>
            <a:ext cx="5214960" cy="250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这让你有什么想法？你想对偷猎者说些什么？你想对全人类说些什么？</a:t>
            </a: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图片 3" descr="图片3.png"/>
          <p:cNvPicPr/>
          <p:nvPr/>
        </p:nvPicPr>
        <p:blipFill>
          <a:blip r:embed="rId1"/>
          <a:stretch/>
        </p:blipFill>
        <p:spPr>
          <a:xfrm>
            <a:off x="1071720" y="2500200"/>
            <a:ext cx="1390320" cy="3048120"/>
          </a:xfrm>
          <a:prstGeom prst="rect">
            <a:avLst/>
          </a:prstGeom>
          <a:ln w="0">
            <a:noFill/>
          </a:ln>
        </p:spPr>
      </p:pic>
      <p:sp>
        <p:nvSpPr>
          <p:cNvPr id="189" name="文本框 1"/>
          <p:cNvSpPr/>
          <p:nvPr/>
        </p:nvSpPr>
        <p:spPr>
          <a:xfrm>
            <a:off x="1314360" y="1003320"/>
            <a:ext cx="522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330066"/>
                </a:solidFill>
                <a:latin typeface="Arial"/>
              </a:rPr>
              <a:t>使用规范说明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3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3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3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3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3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3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3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3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3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3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3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3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3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3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3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3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3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3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300" spc="-1" strike="noStrike" u="sng">
                <a:solidFill>
                  <a:srgbClr val="7e9ce8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300" spc="-1" strike="noStrike" u="sng">
                <a:solidFill>
                  <a:srgbClr val="7e9ce8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3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3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 u="sng">
                <a:solidFill>
                  <a:srgbClr val="7e9ce8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100" spc="-1" strike="noStrike" u="sng">
                <a:solidFill>
                  <a:srgbClr val="7e9ce8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 u="sng">
                <a:solidFill>
                  <a:srgbClr val="7e9ce8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100" spc="-1" strike="noStrike" u="sng">
                <a:solidFill>
                  <a:srgbClr val="7e9ce8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 u="sng">
                <a:solidFill>
                  <a:srgbClr val="7e9ce8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100" spc="-1" strike="noStrike" u="sng">
                <a:solidFill>
                  <a:srgbClr val="7e9ce8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 u="sng">
                <a:solidFill>
                  <a:srgbClr val="7e9ce8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100" spc="-1" strike="noStrike" u="sng">
                <a:solidFill>
                  <a:srgbClr val="7e9ce8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1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 u="sng">
                <a:solidFill>
                  <a:srgbClr val="7e9ce8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100" spc="-1" strike="noStrike" u="sng">
                <a:solidFill>
                  <a:srgbClr val="7e9ce8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 u="sng">
                <a:solidFill>
                  <a:srgbClr val="7e9ce8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100" spc="-1" strike="noStrike" u="sng">
                <a:solidFill>
                  <a:srgbClr val="7e9ce8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 u="sng">
                <a:solidFill>
                  <a:srgbClr val="7e9ce8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自然风景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5F695-9EA3-4EC6-9466-C32713C08CDB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94920" y="11592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0066"/>
                </a:solidFill>
                <a:latin typeface="黑体"/>
                <a:ea typeface="黑体"/>
              </a:rPr>
              <a:t>读一读  联系上下文说一说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4360" y="184428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晨曦    山巅    弥漫    妖娆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擅长    捶打    恶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搔  衔  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虎背熊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1" lang="zh-CN" sz="3600" spc="-1" strike="noStrike">
                <a:solidFill>
                  <a:srgbClr val="0000cc"/>
                </a:solidFill>
                <a:latin typeface="楷体"/>
                <a:ea typeface="楷体"/>
              </a:rPr>
              <a:t>你还发现其他的不理解的词语了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39280" y="2349360"/>
            <a:ext cx="7543800" cy="2143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0066"/>
                </a:solidFill>
                <a:latin typeface="楷体"/>
                <a:ea typeface="楷体"/>
              </a:rPr>
              <a:t>    </a:t>
            </a:r>
            <a:r>
              <a:rPr b="1" lang="zh-CN" sz="3600" spc="-1" strike="noStrike">
                <a:solidFill>
                  <a:srgbClr val="330066"/>
                </a:solidFill>
                <a:latin typeface="楷体"/>
                <a:ea typeface="楷体"/>
              </a:rPr>
              <a:t>你们见过大猩猩吗？在你的心目中大猩猩是什么样的动物？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2" name="TextBox 4"/>
          <p:cNvSpPr/>
          <p:nvPr/>
        </p:nvSpPr>
        <p:spPr>
          <a:xfrm>
            <a:off x="714240" y="1071720"/>
            <a:ext cx="3286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Arial"/>
              </a:rPr>
              <a:t>问题导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3"/>
          <p:cNvSpPr/>
          <p:nvPr/>
        </p:nvSpPr>
        <p:spPr>
          <a:xfrm>
            <a:off x="500040" y="1571760"/>
            <a:ext cx="8229600" cy="357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大猩猩是和我们人类最相像的动物，跟我们是亲戚哩！大猩猩</a:t>
            </a:r>
            <a:r>
              <a:rPr b="1" lang="zh-CN" sz="3600" spc="-1" strike="noStrike">
                <a:solidFill>
                  <a:srgbClr val="ff3300"/>
                </a:solidFill>
                <a:latin typeface="楷体"/>
                <a:ea typeface="楷体"/>
              </a:rPr>
              <a:t>面孔粗鲁，身材巨大，看起来非常吓人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，让人不敢接近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矩形 3"/>
          <p:cNvSpPr/>
          <p:nvPr/>
        </p:nvSpPr>
        <p:spPr>
          <a:xfrm>
            <a:off x="3780000" y="2852640"/>
            <a:ext cx="7347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5" descr="get?name=T1PUYjBjYj1RCvBVdK"/>
          <p:cNvPicPr/>
          <p:nvPr/>
        </p:nvPicPr>
        <p:blipFill>
          <a:blip r:embed="rId1"/>
          <a:stretch/>
        </p:blipFill>
        <p:spPr>
          <a:xfrm>
            <a:off x="1500120" y="1143000"/>
            <a:ext cx="6381720" cy="47862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7" descr="4874879_1282007272858_1024x1024"/>
          <p:cNvPicPr/>
          <p:nvPr/>
        </p:nvPicPr>
        <p:blipFill>
          <a:blip r:embed="rId1"/>
          <a:stretch/>
        </p:blipFill>
        <p:spPr>
          <a:xfrm>
            <a:off x="2195640" y="476280"/>
            <a:ext cx="4597200" cy="60483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5" descr="SC20090212111257828"/>
          <p:cNvPicPr/>
          <p:nvPr/>
        </p:nvPicPr>
        <p:blipFill>
          <a:blip r:embed="rId1"/>
          <a:stretch/>
        </p:blipFill>
        <p:spPr>
          <a:xfrm>
            <a:off x="1643040" y="1285920"/>
            <a:ext cx="6195960" cy="465300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-360" y="-211320"/>
            <a:ext cx="7543800" cy="1292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【</a:t>
            </a:r>
            <a:r>
              <a:rPr b="1" lang="zh-CN" sz="3900" spc="-1" strike="noStrike">
                <a:solidFill>
                  <a:srgbClr val="330066"/>
                </a:solidFill>
                <a:latin typeface="Arial"/>
              </a:rPr>
              <a:t>美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】</a:t>
            </a:r>
            <a:r>
              <a:rPr b="1" lang="zh-CN" sz="3900" spc="-1" strike="noStrike">
                <a:solidFill>
                  <a:srgbClr val="330066"/>
                </a:solidFill>
                <a:latin typeface="Arial"/>
              </a:rPr>
              <a:t>戴安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·</a:t>
            </a:r>
            <a:r>
              <a:rPr b="1" lang="zh-CN" sz="3900" spc="-1" strike="noStrike">
                <a:solidFill>
                  <a:srgbClr val="330066"/>
                </a:solidFill>
                <a:latin typeface="Arial"/>
              </a:rPr>
              <a:t>福茜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8229600" cy="45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她是一位传奇般的女性，放弃了令人羡慕的医生职业，孤身到非洲的原始森林中从事了近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20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年的大猩猩的研究工作，和近百只大猩猩建立了深厚的感情，为人类解开了许多有关大猩猩的谜团，她也成为了世界上第一位在野外和大猩猩握手的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5" descr="SC20090119144857718"/>
          <p:cNvPicPr/>
          <p:nvPr/>
        </p:nvPicPr>
        <p:blipFill>
          <a:blip r:embed="rId1"/>
          <a:stretch/>
        </p:blipFill>
        <p:spPr>
          <a:xfrm>
            <a:off x="3214800" y="1000080"/>
            <a:ext cx="5143320" cy="5072040"/>
          </a:xfrm>
          <a:prstGeom prst="rect">
            <a:avLst/>
          </a:prstGeom>
          <a:ln w="0">
            <a:noFill/>
          </a:ln>
        </p:spPr>
      </p:pic>
      <p:sp>
        <p:nvSpPr>
          <p:cNvPr id="171" name="TextBox 2"/>
          <p:cNvSpPr/>
          <p:nvPr/>
        </p:nvSpPr>
        <p:spPr>
          <a:xfrm>
            <a:off x="357120" y="1571760"/>
            <a:ext cx="2500560" cy="68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330066"/>
                </a:solidFill>
                <a:latin typeface="Arial"/>
              </a:rPr>
              <a:t>戴安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·</a:t>
            </a:r>
            <a:r>
              <a:rPr b="1" lang="zh-CN" sz="3900" spc="-1" strike="noStrike">
                <a:solidFill>
                  <a:srgbClr val="330066"/>
                </a:solidFill>
                <a:latin typeface="Arial"/>
              </a:rPr>
              <a:t>福茜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5T06:01:18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0:17:49Z</dcterms:modified>
  <cp:revision>31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</Properties>
</file>