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9518-FA6B-4EBC-A5CB-ECE874C71F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721E-92D1-4CDB-A936-DD478F6907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367-1A37-4E12-8BEF-A86D6C8B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8E2-97EB-40E1-8758-ACFE9705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73A-42CB-4B20-A826-19985221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73B-B93D-4ACE-89B2-DBF98E37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EA2-0B0C-43A8-9797-E2DC35DB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95A-803E-453F-AA2F-88560EC6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DE2-60E6-4413-BCFC-6E666BB8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A6F-55A6-44C2-BAA6-1D3CA430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CC6-79B1-4408-8B03-3B16E6C5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F17-0A53-4965-9BB7-FFE67587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C14-DECE-4A15-A6BA-E096BBBA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A79-1BC6-4D2C-B66C-77509B2E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0298-E10D-4AE7-9F18-C92A2C3EC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2590920"/>
            <a:ext cx="7176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外婆家的小屋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83312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66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47920" y="13716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来到春天的小院落里，你看到了什么？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066680" y="28954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屋子前面是一个小院。春天来了，大丽花开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屋子后面，是一个大竹园。一竿竿翠竹不时发出飒飒的声音，仿佛在亲切地交谈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990720" y="7621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夏天来了，作者首先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371600" y="2514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夏天，我们常常弹下一张席子，带着一壶凉茶，躺在那里读故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复件 24"/>
          <p:cNvPicPr/>
          <p:nvPr/>
        </p:nvPicPr>
        <p:blipFill>
          <a:blip r:embed="rId1"/>
          <a:stretch/>
        </p:blipFill>
        <p:spPr>
          <a:xfrm>
            <a:off x="1600200" y="685800"/>
            <a:ext cx="5943600" cy="559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828800" y="2819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秋天和冬天的小屋还有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371600" y="40384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秋天到了，晚上月光如水，棚架上的绿叶丛中，不断送来虫子的歌声，很容易地把我带进了甜蜜的梦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57200" y="17524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冬天是最寂寞的，但是，在这屋里的火炉边，我常和表姐妹们烤山芋吃；在屋外的雪地上，我们曾经张起一个竹罩，捉麻雀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752480" y="23623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你最喜欢哪个季节的小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联系家乡的一处景物，仿照书上说的写一段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1649520" y="5221440"/>
            <a:ext cx="68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小屋"/>
          <p:cNvPicPr/>
          <p:nvPr/>
        </p:nvPicPr>
        <p:blipFill>
          <a:blip r:embed="rId1"/>
          <a:stretch/>
        </p:blipFill>
        <p:spPr>
          <a:xfrm>
            <a:off x="1219320" y="9144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小屋2"/>
          <p:cNvPicPr/>
          <p:nvPr/>
        </p:nvPicPr>
        <p:blipFill>
          <a:blip r:embed="rId2"/>
          <a:stretch/>
        </p:blipFill>
        <p:spPr>
          <a:xfrm>
            <a:off x="5170320" y="914400"/>
            <a:ext cx="2610000" cy="3733920"/>
          </a:xfrm>
          <a:prstGeom prst="rect">
            <a:avLst/>
          </a:prstGeom>
          <a:ln w="0">
            <a:noFill/>
          </a:ln>
        </p:spPr>
      </p:pic>
      <p:sp>
        <p:nvSpPr>
          <p:cNvPr id="82" name="WordArt 6"/>
          <p:cNvSpPr txBox="1"/>
          <p:nvPr/>
        </p:nvSpPr>
        <p:spPr>
          <a:xfrm>
            <a:off x="3505320" y="2590920"/>
            <a:ext cx="2361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再见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3EDF-7C63-47A3-BD32-23FEABA8A6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286000" y="17524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Arial"/>
                <a:ea typeface="楷体_GB2312"/>
              </a:rPr>
              <a:t>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410080" y="182880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Arial"/>
                <a:ea typeface="楷体_GB2312"/>
              </a:rPr>
              <a:t>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80880" y="3808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看清楚，认真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371600" y="2286000"/>
            <a:ext cx="655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ff"/>
                </a:solidFill>
                <a:latin typeface="Arial"/>
                <a:ea typeface="楷体_GB2312"/>
              </a:rPr>
              <a:t>座           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600200" y="10666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zu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324480" y="10666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xu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09680" y="10666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词语积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62120" y="327672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蜜蜂  盘旋  亲切  舒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小院  外婆  山芋  雪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4"/>
          <p:cNvSpPr/>
          <p:nvPr/>
        </p:nvSpPr>
        <p:spPr>
          <a:xfrm>
            <a:off x="1371600" y="3809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一比：看谁填得快又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80880" y="243828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（      ）花坛      （      ）大丽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（      ）席子      （      ）翠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（      ）凉茶      （       ）蜜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447920" y="213372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们觉得外婆家的小屋神奇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们最喜欢哪几个自然段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3808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读课文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523880" y="2438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昨天晚上我做了一个梦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梦见到了外婆家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不由得勾起了我对那座小屋的回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828800" y="1600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开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1905120" y="21337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好美的一个梦啊</a:t>
            </a:r>
            <a:r>
              <a:rPr b="1" lang="en-US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让我又一次回到了外婆家</a:t>
            </a:r>
            <a:r>
              <a:rPr b="1" lang="en-US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回到了那座伴我度过童年的小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133720" y="1371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371600" y="30481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课文开头和结尾的内容相似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是不是重复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说你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1143000" y="220968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讨论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strips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4:09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6:11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