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7.gif" ContentType="image/gif"/>
  <Override PartName="/ppt/media/image2.jpeg" ContentType="image/jpeg"/>
  <Override PartName="/ppt/media/image3.png" ContentType="image/png"/>
  <Override PartName="/ppt/media/image15.jpeg" ContentType="image/jpeg"/>
  <Override PartName="/ppt/media/image1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425F-6698-4E5B-A122-4D46672F2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A00C-1BA7-4A30-8B71-2BD7389C3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B29B-9971-4379-B880-9F212D3D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BD4B-202A-4ED6-9E88-DC049CDC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B0EA-5A9C-45C6-967C-F9224613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BBD-7B33-409D-B196-6B5DCD29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78B7-5709-4D6D-8EFD-8A977649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7DA-0F5D-4C7E-A027-3EC7C759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40F5-940D-4E49-8387-EFA06EB6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5AD-9DD1-4A6B-AF86-FC0CCBF0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8FFB-C63F-4F00-B1B7-459E37FB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50E1-C2AE-4C70-B510-4D04C46A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9C03-4273-47D0-A6C4-7C84FBAB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851-A675-45B6-BBA0-DEB2277D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C7DF-B1F4-4A8D-B083-766027A58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9课我想知道b"/>
          <p:cNvPicPr/>
          <p:nvPr/>
        </p:nvPicPr>
        <p:blipFill>
          <a:blip r:embed="rId1"/>
          <a:srcRect l="0" t="3376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447920" y="1635120"/>
            <a:ext cx="58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我想知道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827000" y="6021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5252423_18192711827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914400" y="144792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想知道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哪里是云儿的家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为什么不管在什么地方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都能看到它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>
            <a:hlinkClick r:id="rId2" action="ppaction://hlinksldjump"/>
          </p:cNvPr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9304" y="3794"/>
                </a:moveTo>
                <a:lnTo>
                  <a:pt x="23317" y="10800"/>
                </a:lnTo>
                <a:lnTo>
                  <a:pt x="930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200710632321386_2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>
            <a:off x="5394240" y="2441520"/>
            <a:ext cx="1843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62960" y="1292400"/>
            <a:ext cx="4707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我想知道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鸟儿的力量有多大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为什么凭着一双翅膀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就能追赶云霞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>
            <a:hlinkClick r:id="rId2" action="ppaction://hlinksldjump"/>
          </p:cNvPr>
          <p:cNvSpPr/>
          <p:nvPr/>
        </p:nvSpPr>
        <p:spPr>
          <a:xfrm>
            <a:off x="8604360" y="645336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0920" y="3660480"/>
            <a:ext cx="763416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想知道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太阳妈妈用了怎样奇妙的办法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在同样的阳光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会开出五颜六色的鲜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五彩的花"/>
          <p:cNvPicPr/>
          <p:nvPr/>
        </p:nvPicPr>
        <p:blipFill>
          <a:blip r:embed="rId2"/>
          <a:stretch/>
        </p:blipFill>
        <p:spPr>
          <a:xfrm>
            <a:off x="3475080" y="260280"/>
            <a:ext cx="5668920" cy="367344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5">
            <a:hlinkClick r:id="rId3" action="ppaction://hlinksldjump"/>
          </p:cNvPr>
          <p:cNvSpPr/>
          <p:nvPr/>
        </p:nvSpPr>
        <p:spPr>
          <a:xfrm>
            <a:off x="8532720" y="6453360"/>
            <a:ext cx="611280" cy="404640"/>
          </a:xfrm>
          <a:custGeom>
            <a:avLst/>
            <a:gdLst>
              <a:gd name="textAreaLeft" fmla="*/ 25920 w 611280"/>
              <a:gd name="textAreaRight" fmla="*/ 585360 w 61128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2621" h="21600">
                <a:moveTo>
                  <a:pt x="0" y="0"/>
                </a:moveTo>
                <a:lnTo>
                  <a:pt x="32621" y="0"/>
                </a:lnTo>
                <a:lnTo>
                  <a:pt x="32621" y="21600"/>
                </a:lnTo>
                <a:lnTo>
                  <a:pt x="0" y="21600"/>
                </a:lnTo>
                <a:close/>
              </a:path>
              <a:path fill="lightenLess" w="32621" h="21600">
                <a:moveTo>
                  <a:pt x="0" y="0"/>
                </a:moveTo>
                <a:lnTo>
                  <a:pt x="32621" y="0"/>
                </a:lnTo>
                <a:lnTo>
                  <a:pt x="31221" y="1400"/>
                </a:lnTo>
                <a:lnTo>
                  <a:pt x="1400" y="1400"/>
                </a:lnTo>
                <a:close/>
              </a:path>
              <a:path fill="darken" w="32621" h="21600">
                <a:moveTo>
                  <a:pt x="32621" y="0"/>
                </a:moveTo>
                <a:lnTo>
                  <a:pt x="32621" y="21600"/>
                </a:lnTo>
                <a:lnTo>
                  <a:pt x="31221" y="20200"/>
                </a:lnTo>
                <a:lnTo>
                  <a:pt x="31221" y="1400"/>
                </a:lnTo>
                <a:close/>
              </a:path>
              <a:path fill="darkenLess" w="32621" h="21600">
                <a:moveTo>
                  <a:pt x="326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221" y="20200"/>
                </a:lnTo>
                <a:close/>
              </a:path>
              <a:path fill="lighten" w="326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621" h="21600">
                <a:moveTo>
                  <a:pt x="9304" y="3794"/>
                </a:moveTo>
                <a:lnTo>
                  <a:pt x="23317" y="10800"/>
                </a:lnTo>
                <a:lnTo>
                  <a:pt x="930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19课我想知道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2987280" y="188640"/>
            <a:ext cx="4724280" cy="66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想知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想知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哪里是云儿的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什么不管在什么地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都能看到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想知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鸟儿的力量有多大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什么凭着一双翅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就能追赶云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想知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太阳妈妈用了怎样奇妙的办法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什么在同样的阳光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会开出五颜六色的鲜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"/>
          <p:cNvSpPr/>
          <p:nvPr/>
        </p:nvSpPr>
        <p:spPr>
          <a:xfrm>
            <a:off x="0" y="6461280"/>
            <a:ext cx="58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141569~1"/>
          <p:cNvPicPr/>
          <p:nvPr/>
        </p:nvPicPr>
        <p:blipFill>
          <a:blip r:embed="rId1"/>
          <a:stretch/>
        </p:blipFill>
        <p:spPr>
          <a:xfrm>
            <a:off x="755640" y="1341360"/>
            <a:ext cx="777564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8955-467D-4126-A036-C2A0CFF8EA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19课我想知道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771640" y="-28440"/>
            <a:ext cx="4724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想知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想知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哪里是云儿的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什么不管在什么地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都能看到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想知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鸟儿的力量有多大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什么凭着一双翅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就能追赶云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想知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太阳妈妈用了怎样奇妙的办法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什么在同样的阳光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会开出五颜六色的鲜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初雪1.mp3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初雪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86874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93326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539640" y="83664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、朗读课文遇到不认识的生字，用铅笔注上标记，对照拼音多读几遍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9640" y="4149720"/>
            <a:ext cx="77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、自己朗读课文，把字音读正确，句子读通顺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39640" y="98100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要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和生字宝宝交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hī dào            bù  guǎ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éng       yú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知 道        不 管         能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ì bǎng           zhuī gǎn           qí  mià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翅 膀         追 赶       奇 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óng yàng         hu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s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同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样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会         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对话2g"/>
          <p:cNvPicPr/>
          <p:nvPr/>
        </p:nvPicPr>
        <p:blipFill>
          <a:blip r:embed="rId1"/>
          <a:stretch/>
        </p:blipFill>
        <p:spPr>
          <a:xfrm>
            <a:off x="7093080" y="5437080"/>
            <a:ext cx="2050920" cy="1420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还认识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知道      不管     能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云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翅膀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追赶     奇妙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样 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会         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29"/>
          <p:cNvSpPr/>
          <p:nvPr/>
        </p:nvSpPr>
        <p:spPr>
          <a:xfrm>
            <a:off x="4751280" y="24512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山水做低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大树"/>
          <p:cNvPicPr/>
          <p:nvPr/>
        </p:nvPicPr>
        <p:blipFill>
          <a:blip r:embed="rId2"/>
          <a:stretch/>
        </p:blipFill>
        <p:spPr>
          <a:xfrm rot="238800">
            <a:off x="3352680" y="457200"/>
            <a:ext cx="8421840" cy="70675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533520" y="135576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知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33520" y="227016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609480" y="32608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奇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286000" y="135576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838080" y="41752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2514600" y="41752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286000" y="227016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追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286000" y="326088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翅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12"/>
          <p:cNvSpPr txBox="1"/>
          <p:nvPr/>
        </p:nvSpPr>
        <p:spPr>
          <a:xfrm rot="21327000">
            <a:off x="380880" y="304920"/>
            <a:ext cx="2286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91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摘苹果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91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75" name="Picture 13" descr="未命名"/>
          <p:cNvPicPr/>
          <p:nvPr/>
        </p:nvPicPr>
        <p:blipFill>
          <a:blip r:embed="rId3"/>
          <a:stretch/>
        </p:blipFill>
        <p:spPr>
          <a:xfrm rot="427200">
            <a:off x="5562720" y="1219320"/>
            <a:ext cx="1447560" cy="1022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未命名"/>
          <p:cNvPicPr/>
          <p:nvPr/>
        </p:nvPicPr>
        <p:blipFill>
          <a:blip r:embed="rId4"/>
          <a:stretch/>
        </p:blipFill>
        <p:spPr>
          <a:xfrm rot="190800">
            <a:off x="6858000" y="1523880"/>
            <a:ext cx="1447920" cy="1022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未命名"/>
          <p:cNvPicPr/>
          <p:nvPr/>
        </p:nvPicPr>
        <p:blipFill>
          <a:blip r:embed="rId5"/>
          <a:stretch/>
        </p:blipFill>
        <p:spPr>
          <a:xfrm>
            <a:off x="4572000" y="1981080"/>
            <a:ext cx="1447920" cy="1022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未命名"/>
          <p:cNvPicPr/>
          <p:nvPr/>
        </p:nvPicPr>
        <p:blipFill>
          <a:blip r:embed="rId6"/>
          <a:stretch/>
        </p:blipFill>
        <p:spPr>
          <a:xfrm rot="427200">
            <a:off x="5915160" y="2085840"/>
            <a:ext cx="1447560" cy="1022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未命名"/>
          <p:cNvPicPr/>
          <p:nvPr/>
        </p:nvPicPr>
        <p:blipFill>
          <a:blip r:embed="rId7"/>
          <a:stretch/>
        </p:blipFill>
        <p:spPr>
          <a:xfrm rot="427200">
            <a:off x="3986280" y="3014640"/>
            <a:ext cx="1447560" cy="1022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未命名"/>
          <p:cNvPicPr/>
          <p:nvPr/>
        </p:nvPicPr>
        <p:blipFill>
          <a:blip r:embed="rId8"/>
          <a:stretch/>
        </p:blipFill>
        <p:spPr>
          <a:xfrm rot="427200">
            <a:off x="6705720" y="2819520"/>
            <a:ext cx="1447560" cy="10224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未命名"/>
          <p:cNvPicPr/>
          <p:nvPr/>
        </p:nvPicPr>
        <p:blipFill>
          <a:blip r:embed="rId9"/>
          <a:stretch/>
        </p:blipFill>
        <p:spPr>
          <a:xfrm rot="427200">
            <a:off x="5257800" y="3352680"/>
            <a:ext cx="1447920" cy="1022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未命名"/>
          <p:cNvPicPr/>
          <p:nvPr/>
        </p:nvPicPr>
        <p:blipFill>
          <a:blip r:embed="rId10"/>
          <a:stretch/>
        </p:blipFill>
        <p:spPr>
          <a:xfrm rot="427200">
            <a:off x="7093080" y="3573360"/>
            <a:ext cx="1447560" cy="10224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1"/>
          <p:cNvSpPr/>
          <p:nvPr/>
        </p:nvSpPr>
        <p:spPr>
          <a:xfrm>
            <a:off x="5435640" y="1197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6877080" y="1484280"/>
            <a:ext cx="2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5359680" y="2571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6786720" y="2286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5"/>
          <p:cNvSpPr/>
          <p:nvPr/>
        </p:nvSpPr>
        <p:spPr>
          <a:xfrm>
            <a:off x="4429080" y="40006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7"/>
          <p:cNvSpPr/>
          <p:nvPr/>
        </p:nvSpPr>
        <p:spPr>
          <a:xfrm>
            <a:off x="5143680" y="4000680"/>
            <a:ext cx="2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8"/>
          <p:cNvSpPr/>
          <p:nvPr/>
        </p:nvSpPr>
        <p:spPr>
          <a:xfrm>
            <a:off x="6588000" y="3141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7143840" y="42861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"/>
                            </p:stCondLst>
                            <p:childTnLst>
                              <p:par>
                                <p:cTn id="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evt="onNext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" dur="1" fill="hold"/>
                                  <p:tgtEl>
                                    <p:spTgt spid="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"/>
                            </p:stCondLst>
                            <p:childTnLst>
                              <p:par>
                                <p:cTn id="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"/>
                            </p:stCondLst>
                            <p:childTnLst>
                              <p:par>
                                <p:cTn id="6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"/>
                            </p:stCondLst>
                            <p:childTnLst>
                              <p:par>
                                <p:cTn id="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"/>
                            </p:stCondLst>
                            <p:childTnLst>
                              <p:par>
                                <p:cTn id="8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"/>
                            </p:stCondLst>
                            <p:childTnLst>
                              <p:par>
                                <p:cTn id="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"/>
                            </p:stCondLst>
                            <p:childTnLst>
                              <p:par>
                                <p:cTn id="1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"/>
                            </p:stCondLst>
                            <p:childTnLst>
                              <p:par>
                                <p:cTn id="10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k2"/>
          <p:cNvPicPr/>
          <p:nvPr/>
        </p:nvPicPr>
        <p:blipFill>
          <a:blip r:embed="rId1"/>
          <a:srcRect l="0" t="0" r="8399" b="0"/>
          <a:stretch/>
        </p:blipFill>
        <p:spPr>
          <a:xfrm>
            <a:off x="0" y="762120"/>
            <a:ext cx="9144000" cy="4495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217800" y="1676520"/>
            <a:ext cx="127764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Narrow"/>
                <a:ea typeface="楷体_GB2312"/>
              </a:rPr>
              <a:t>找 朋 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duihua1"/>
          <p:cNvPicPr/>
          <p:nvPr/>
        </p:nvPicPr>
        <p:blipFill>
          <a:blip r:embed="rId2"/>
          <a:stretch/>
        </p:blipFill>
        <p:spPr>
          <a:xfrm>
            <a:off x="304920" y="5029200"/>
            <a:ext cx="1160280" cy="1463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2286000" y="16765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505320" y="16765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867280" y="1676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7010280" y="16765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4724280" y="1676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001000" y="16606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724280" y="32004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2286000" y="32004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8001000" y="31845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5867280" y="32004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6934320" y="32004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3581280" y="326088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妙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AutoShape 17"/>
          <p:cNvCxnSpPr>
            <a:stCxn id="102" idx="2"/>
            <a:endCxn id="102" idx="2"/>
          </p:cNvCxnSpPr>
          <p:nvPr/>
        </p:nvCxnSpPr>
        <p:spPr>
          <a:xfrm>
            <a:off x="8457840" y="38858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107" name="Line 18"/>
          <p:cNvSpPr/>
          <p:nvPr/>
        </p:nvSpPr>
        <p:spPr>
          <a:xfrm>
            <a:off x="4038480" y="2286000"/>
            <a:ext cx="3200400" cy="10666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 flipH="1">
            <a:off x="2742840" y="2133720"/>
            <a:ext cx="2438280" cy="12189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 flipH="1">
            <a:off x="4114800" y="2209680"/>
            <a:ext cx="2209680" cy="1219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1"/>
          <p:cNvSpPr/>
          <p:nvPr/>
        </p:nvSpPr>
        <p:spPr>
          <a:xfrm>
            <a:off x="7315200" y="220968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2"/>
          <p:cNvSpPr/>
          <p:nvPr/>
        </p:nvSpPr>
        <p:spPr>
          <a:xfrm flipH="1">
            <a:off x="6172200" y="2209680"/>
            <a:ext cx="2209680" cy="1143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2590920" y="2286000"/>
            <a:ext cx="2361960" cy="99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19课我想知道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2971440" y="0"/>
            <a:ext cx="4724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想知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想知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哪里是云儿的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什么不管在什么地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都能看到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想知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鸟儿的力量有多大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什么凭着一双翅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就能追赶云霞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想知道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太阳妈妈用了怎样奇妙的办法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什么在同样的阳光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会开出五颜六色的鲜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4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duihua1"/>
          <p:cNvPicPr/>
          <p:nvPr/>
        </p:nvPicPr>
        <p:blipFill>
          <a:blip r:embed="rId2"/>
          <a:stretch/>
        </p:blipFill>
        <p:spPr>
          <a:xfrm>
            <a:off x="228600" y="4191120"/>
            <a:ext cx="1811160" cy="2286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kuang5"/>
          <p:cNvPicPr/>
          <p:nvPr/>
        </p:nvPicPr>
        <p:blipFill>
          <a:blip r:embed="rId3"/>
          <a:stretch/>
        </p:blipFill>
        <p:spPr>
          <a:xfrm>
            <a:off x="1219320" y="533520"/>
            <a:ext cx="7696080" cy="49449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2743200" y="1371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课文里的小朋友都想知道哪些问题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>
            <a:hlinkClick r:id="rId4" action="ppaction://hlinksldjump"/>
          </p:cNvPr>
          <p:cNvSpPr/>
          <p:nvPr/>
        </p:nvSpPr>
        <p:spPr>
          <a:xfrm>
            <a:off x="2340000" y="5734080"/>
            <a:ext cx="719280" cy="503280"/>
          </a:xfrm>
          <a:custGeom>
            <a:avLst/>
            <a:gdLst>
              <a:gd name="textAreaLeft" fmla="*/ 32400 w 719280"/>
              <a:gd name="textAreaRight" fmla="*/ 686880 w 719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864" h="21600">
                <a:moveTo>
                  <a:pt x="0" y="0"/>
                </a:moveTo>
                <a:lnTo>
                  <a:pt x="30864" y="0"/>
                </a:lnTo>
                <a:lnTo>
                  <a:pt x="30864" y="21600"/>
                </a:lnTo>
                <a:lnTo>
                  <a:pt x="0" y="21600"/>
                </a:lnTo>
                <a:close/>
              </a:path>
              <a:path fill="lightenLess" w="30864" h="21600">
                <a:moveTo>
                  <a:pt x="0" y="0"/>
                </a:moveTo>
                <a:lnTo>
                  <a:pt x="30864" y="0"/>
                </a:lnTo>
                <a:lnTo>
                  <a:pt x="29464" y="1400"/>
                </a:lnTo>
                <a:lnTo>
                  <a:pt x="1400" y="1400"/>
                </a:lnTo>
                <a:close/>
              </a:path>
              <a:path fill="darken" w="30864" h="21600">
                <a:moveTo>
                  <a:pt x="30864" y="0"/>
                </a:moveTo>
                <a:lnTo>
                  <a:pt x="30864" y="21600"/>
                </a:lnTo>
                <a:lnTo>
                  <a:pt x="29464" y="20200"/>
                </a:lnTo>
                <a:lnTo>
                  <a:pt x="29464" y="1400"/>
                </a:lnTo>
                <a:close/>
              </a:path>
              <a:path fill="darkenLess" w="30864" h="21600">
                <a:moveTo>
                  <a:pt x="30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4" y="20200"/>
                </a:lnTo>
                <a:close/>
              </a:path>
              <a:path fill="lighten" w="30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4" h="21600">
                <a:moveTo>
                  <a:pt x="8425" y="3794"/>
                </a:moveTo>
                <a:lnTo>
                  <a:pt x="22438" y="10800"/>
                </a:lnTo>
                <a:lnTo>
                  <a:pt x="842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>
            <a:hlinkClick r:id="rId5" action="ppaction://hlinksldjump"/>
          </p:cNvPr>
          <p:cNvSpPr/>
          <p:nvPr/>
        </p:nvSpPr>
        <p:spPr>
          <a:xfrm>
            <a:off x="4716360" y="573408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98" h="21600">
                <a:moveTo>
                  <a:pt x="9993" y="3794"/>
                </a:moveTo>
                <a:lnTo>
                  <a:pt x="24005" y="10800"/>
                </a:lnTo>
                <a:lnTo>
                  <a:pt x="999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>
            <a:hlinkClick r:id="rId6" action="ppaction://hlinksldjump"/>
          </p:cNvPr>
          <p:cNvSpPr/>
          <p:nvPr/>
        </p:nvSpPr>
        <p:spPr>
          <a:xfrm>
            <a:off x="7164360" y="5734080"/>
            <a:ext cx="720720" cy="50328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0926" h="21600">
                <a:moveTo>
                  <a:pt x="0" y="0"/>
                </a:moveTo>
                <a:lnTo>
                  <a:pt x="30926" y="0"/>
                </a:lnTo>
                <a:lnTo>
                  <a:pt x="30926" y="21600"/>
                </a:lnTo>
                <a:lnTo>
                  <a:pt x="0" y="21600"/>
                </a:lnTo>
                <a:close/>
              </a:path>
              <a:path fill="lightenLess" w="30926" h="21600">
                <a:moveTo>
                  <a:pt x="0" y="0"/>
                </a:moveTo>
                <a:lnTo>
                  <a:pt x="30926" y="0"/>
                </a:lnTo>
                <a:lnTo>
                  <a:pt x="29526" y="1400"/>
                </a:lnTo>
                <a:lnTo>
                  <a:pt x="1400" y="1400"/>
                </a:lnTo>
                <a:close/>
              </a:path>
              <a:path fill="darken" w="30926" h="21600">
                <a:moveTo>
                  <a:pt x="30926" y="0"/>
                </a:moveTo>
                <a:lnTo>
                  <a:pt x="30926" y="21600"/>
                </a:lnTo>
                <a:lnTo>
                  <a:pt x="29526" y="20200"/>
                </a:lnTo>
                <a:lnTo>
                  <a:pt x="29526" y="1400"/>
                </a:lnTo>
                <a:close/>
              </a:path>
              <a:path fill="darkenLess" w="30926" h="21600">
                <a:moveTo>
                  <a:pt x="309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26" y="20200"/>
                </a:lnTo>
                <a:close/>
              </a:path>
              <a:path fill="lighten" w="309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926" h="21600">
                <a:moveTo>
                  <a:pt x="8456" y="3794"/>
                </a:moveTo>
                <a:lnTo>
                  <a:pt x="22469" y="10800"/>
                </a:lnTo>
                <a:lnTo>
                  <a:pt x="845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1">
            <a:hlinkClick r:id="rId7" action="ppaction://hlinksldjump"/>
          </p:cNvPr>
          <p:cNvSpPr/>
          <p:nvPr/>
        </p:nvSpPr>
        <p:spPr>
          <a:xfrm>
            <a:off x="8964720" y="6597720"/>
            <a:ext cx="179280" cy="26028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260280"/>
              <a:gd name="textAreaBottom" fmla="*/ 248760 h 260280"/>
            </a:gdLst>
            <a:ahLst/>
            <a:rect l="textAreaLeft" t="textAreaTop" r="textAreaRight" b="textAreaBottom"/>
            <a:pathLst>
              <a:path w="21600" h="31339">
                <a:moveTo>
                  <a:pt x="0" y="0"/>
                </a:moveTo>
                <a:lnTo>
                  <a:pt x="21600" y="0"/>
                </a:lnTo>
                <a:lnTo>
                  <a:pt x="21600" y="31339"/>
                </a:lnTo>
                <a:lnTo>
                  <a:pt x="0" y="31339"/>
                </a:lnTo>
                <a:close/>
              </a:path>
              <a:path fill="lightenLess" w="21600" h="313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1339">
                <a:moveTo>
                  <a:pt x="21600" y="0"/>
                </a:moveTo>
                <a:lnTo>
                  <a:pt x="21600" y="31339"/>
                </a:lnTo>
                <a:lnTo>
                  <a:pt x="20200" y="29939"/>
                </a:lnTo>
                <a:lnTo>
                  <a:pt x="20200" y="1400"/>
                </a:lnTo>
                <a:close/>
              </a:path>
              <a:path fill="darkenLess" w="21600" h="31339">
                <a:moveTo>
                  <a:pt x="21600" y="31339"/>
                </a:moveTo>
                <a:lnTo>
                  <a:pt x="0" y="31339"/>
                </a:lnTo>
                <a:lnTo>
                  <a:pt x="1400" y="29939"/>
                </a:lnTo>
                <a:lnTo>
                  <a:pt x="20200" y="29939"/>
                </a:lnTo>
                <a:close/>
              </a:path>
              <a:path fill="lighten" w="21600" h="31339">
                <a:moveTo>
                  <a:pt x="0" y="313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9939"/>
                </a:lnTo>
                <a:close/>
              </a:path>
              <a:path fill="darken" w="21600" h="31339">
                <a:moveTo>
                  <a:pt x="3794" y="8663"/>
                </a:moveTo>
                <a:lnTo>
                  <a:pt x="17806" y="15670"/>
                </a:lnTo>
                <a:lnTo>
                  <a:pt x="3794" y="2267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10:02:0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9:01Z</dcterms:modified>
  <cp:revision>2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