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5.png" ContentType="image/png"/>
  <Override PartName="/ppt/media/image22.gif" ContentType="image/gif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4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B1F7-56E4-45C4-A38F-2D08576456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1DF6-2129-473A-9EB9-341386500C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58A-BFED-42DA-8E5C-06F42F3E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111-D2C5-42A9-9BD8-21E08286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B6338-F7FC-49D2-8340-D25A0C5B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B7298-120A-49CC-BDA3-28C5781C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4759E-DE41-4385-BE22-1EBF2C48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6B448-6D01-4585-B43D-4C8073B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239F0-89C9-4822-94B2-E07500E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AC10C-B310-4893-949C-AF63DD2D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FF40F-B002-46BC-AE5D-A0517788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C7D53-DD5A-48E8-9993-0A8A010E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02215-C57A-41E1-B7A2-4AA53211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F259B-42E4-4FF9-9400-31A648E2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496-2250-44E4-BD9F-8757CC61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1BEEC-A054-461F-8A9B-971B62CC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FEC41-2EC7-48C3-857B-A34092F2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EFA66-9F51-409D-AD84-C5D3D32F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3B432-66D2-45E1-83A3-12C8D08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4EC42-7DC2-4D8C-9435-DF53BEF8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381E6-D2D0-4628-AB70-A751195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4DEB8-8B76-4492-945F-D7879E6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708F3-E238-411B-98E3-051C46F9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321FC-11A1-40B4-A247-FE31BE36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64CA2-08AF-453F-97E0-643CFE84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7E0-6D97-40DC-A64E-E7BEFAC3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B3A32-CBD8-42A9-A8B0-4DC03565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87C73-6B60-4F21-B4AF-44515AB7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583A5-7B8F-4C0A-8205-FD62279D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60E6-2FB1-4CF2-A1D2-D042FA3F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0BF24-B2C5-4EB6-B530-E32E28E0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3DC84-D62E-4740-9052-DCE21E89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AEE00-716B-4DB6-8FB8-7FE1547A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F512C-189A-4163-8FAA-387076A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E7E1C-83C2-45EB-B05D-1F99487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3569E-7F5E-4990-B1C2-5B3164F2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70A7-DB17-44D9-948C-33118423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CE7F-9CA2-4578-9D70-C77B93B1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040AC-8EDC-4D33-8DF7-BCD9A60C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0291C-D9BE-4A9D-8558-39C79013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65A1C-D693-4432-A565-353C4335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5086C-EE68-4859-AEB6-6E34DF20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E7CB4-032E-4C96-811C-7AA6BF6D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581CB-7E98-4747-8765-999F9A47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93875-F7DC-431D-927F-76A1690C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E46A5-D8B1-4B29-9B25-38B5892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7AAD8-A8EF-4173-BE08-EA5F844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3BC4-2F16-405B-AD7F-9F73E03D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8CE29-A087-4A6C-BDD0-3E2C2CC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75BB4-2F20-4704-B911-8FF2BAE9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A393A-1C5C-494B-809A-151662D9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47636-8A5F-4E3A-8042-164C5AC3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45156-629E-4216-9805-2EE842CA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675DE-7FC8-4B34-9A45-C3703149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DCECC-8077-4E6A-91D7-5708C613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22040-64C8-46C0-8436-58369DDA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B8E00-6CA1-45FC-9E50-29A9B6C1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EABA1-C3A7-474F-8D9F-3FE360D0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BCC8-736E-4CEE-81E6-83C25575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51EF7-041E-4C40-ACFB-B37C8A5B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65EE6-A237-4F15-A571-6DBA7535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288E1-650B-4A07-B9C8-35B83A44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7F964-9E62-4502-801D-1937DCF4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C4F70-D178-49F0-9D13-4F5E4B1A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FCAF6-93BB-4E11-8C7E-C1ED9FE9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7E85F-730F-4694-8E74-5C617251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0938-6278-49B5-8669-97B6BEF1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C79A-3835-4E58-83EE-3E8868C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7B37-B2D5-491C-9B4E-851B3E16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7EE-108E-4740-B7EB-22BBCB75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782-8B7D-4961-804D-03AD6355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9960-73A8-468D-A0F7-65FA3E6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9C0D-8EA4-4DF5-9D59-25FC78B3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6CA4-54FC-4CA4-9865-5861813F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33DF-F72B-4427-9014-3F2D33FE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964E-2F69-4181-9BC7-AFC8F078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7F28-2CF6-4F71-84D5-AEA788D2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DE74-B6E6-4300-8F9A-E1AF03E9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1736-8104-4E61-A6B2-B1620335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FA58-0189-4A68-B4DE-C420CF1F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130A5-5004-400C-8052-06CB8252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8A4-813D-439B-BEE5-2AE4F739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9A12-8DF1-4D6D-BF5F-CA4F047E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354F5-8203-4610-95A0-C7DF7F6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EB16-9021-41BD-90FB-8CE2F5C6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C63A-CB92-45D8-BF39-47E243CE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A667-784C-4A9D-9BAD-9513CD49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78BE-FF90-40BA-8C21-FAD2AD0F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17F4-6130-4E46-85D0-B9FB40FD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7D2B0-F46E-4FF8-B16A-ECA54701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C6D5-E235-49B7-8DA1-C39E0C94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5F1B-DAD0-4F99-A96C-B6AC93E0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A8B-2033-42A8-BF02-265A22F1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4B4DC-8DC4-41FA-AB2D-F50965D6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5630-D3DD-4F03-B74C-D04B6B2E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F0FB5-0762-4A83-9CB4-7405B6F1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8BD5-4804-4FDC-947D-ACC77AA2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23E3-2E47-40F4-9E9E-AA3617D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348F-0631-4F62-9B95-AAF2597A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EE6F-48E7-4B41-88BB-13906FBC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3E9B3-C54B-4D3F-AFCD-12F0046A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2827-A34B-4261-9DD4-27B5C332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9E729-CA3A-4D65-85E2-98F10A75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F89-BBF8-499E-9E77-ADBE2A57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FE840-82E5-4B9C-A94D-DB89498F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258A-8055-4BD5-9223-139322B0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B5D9A-1EA2-4CC2-8E3F-0CF15BC5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22A0-4BFF-4D6A-85FC-F461A5A4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C6C6-656D-43D6-8A2F-B17CA3FB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16BD1-02D1-475C-8DE0-9A1D93E8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EB2AD-5E9C-4D7B-8BE7-92B0745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296C-48EA-477A-8446-44C9D550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A91C-D8AD-44CF-AD4D-0A21F97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D97C-0843-420C-8BE6-4EE8D9A1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624-867A-4399-9755-9943182E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C408-F87F-4BD5-A538-A6DD4B3D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D2995-DB97-432C-B4CA-02C16EB6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ED8E6-CA70-4F34-B4E5-936F8C37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81460-A96F-41E8-A53C-435D3C8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10A48-2700-4E29-B01B-2B9F71C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3325-A79A-4E20-B731-0AB97F1C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C761-0F0F-4E87-BEAE-185313D6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EE91-AA6E-4167-8CB8-599597A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E09B0-CE0C-4BFB-A70A-24F84156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FF2F6-CBB3-4E4B-A315-DFBAA66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CA6-24EE-4A1E-B559-E8884742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C5BC-CD89-4D45-BA56-B1E7EBD0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C15C-083A-4F61-8A45-12C04E3F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EBFDC-0F46-4BD9-A636-72177EA7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179C1-2745-437F-932C-EF00FEF9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095C-36ED-4974-B232-ECA56FB2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D3B6-03AD-4749-AE6D-16EBDEF5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7CE0F-61A6-421B-BFD7-2234C301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9882F-4B4B-4FDD-BE96-577D2815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AE95A-39A5-4639-9F89-DB9A9CCE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62F9A-799B-4637-BBEA-C1E31C0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108-6E1D-4E29-BA54-A180B7B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F1126-3581-4F48-A4E0-D169EDB9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AC8A1-9044-412F-89AF-C669CCBA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4639D-788F-4922-BE80-C561419C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F084-36E7-4923-9BA9-8D3255DA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AEAC6-77CD-47A4-A6AF-948C4F8D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E8402-E1CA-4219-A966-3B1B4245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E4FCA-CF8C-4462-A1A1-3E2E6231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BF68D-BC91-4805-997A-BB46A716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7E84F-28E7-4852-A65F-146EDDBE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460C9-9A26-4C63-AEE9-EC8F2756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864-CD6E-452F-BA26-7E28F36A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675D8-67C9-4853-97DE-F1A5F436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376C5-2149-447C-9308-E74125DC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2C9D0-52E3-4404-8B13-DFBFA3E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C2BE9-E940-4F48-A2C7-8804A90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61D26-7448-4352-9A6E-66403F56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CBC0B-E89C-4497-9DB7-DCA9E770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FBDE8-3BA5-4979-9A68-65B2DC48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B33B4-7A37-4B71-A09D-206F772F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0E778-CEB9-40D8-B583-DC0998B5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9B298-6223-4D90-AD40-565D1D59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F585-2EE6-4D42-A524-99A7CC9418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03B0-9DF6-43FB-8B69-D1FAF6CC17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735A-3E8B-4946-A137-E47B79479C3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9BC2-B37E-4E35-9928-16C7A28A04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63C9-B785-43B1-91AD-0624CA836A0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E9B9-4F0E-4023-9AF2-C1AE8137A3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60CF-1551-4707-8209-48A7A6CFED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922B-13BC-4A25-A838-9B4910CC31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8BAD-5A7B-49B6-94BA-A2D18F898F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1612-3BF1-4F2D-A00F-08B64A5478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312D-718C-4AE5-8630-1320C18A518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BB00-274F-4A61-BC3A-7E8D96DB9F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6746-AA9B-488F-A57E-DA23E98CEB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7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:\Users\Administrator\Desktop\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矩形 4"/>
          <p:cNvSpPr/>
          <p:nvPr/>
        </p:nvSpPr>
        <p:spPr>
          <a:xfrm>
            <a:off x="67140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矩形 6" descr=""/>
          <p:cNvPicPr/>
          <p:nvPr/>
        </p:nvPicPr>
        <p:blipFill>
          <a:blip r:embed="rId2"/>
          <a:stretch/>
        </p:blipFill>
        <p:spPr>
          <a:xfrm>
            <a:off x="1751040" y="1446120"/>
            <a:ext cx="5792760" cy="1617840"/>
          </a:xfrm>
          <a:prstGeom prst="rect">
            <a:avLst/>
          </a:prstGeom>
          <a:ln w="0">
            <a:noFill/>
          </a:ln>
        </p:spPr>
      </p:pic>
      <p:pic>
        <p:nvPicPr>
          <p:cNvPr id="543" name="矩形 7" descr=""/>
          <p:cNvPicPr/>
          <p:nvPr/>
        </p:nvPicPr>
        <p:blipFill>
          <a:blip r:embed="rId3"/>
          <a:stretch/>
        </p:blipFill>
        <p:spPr>
          <a:xfrm>
            <a:off x="1909800" y="600084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7" descr="20120503142004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矩形 1"/>
          <p:cNvSpPr/>
          <p:nvPr/>
        </p:nvSpPr>
        <p:spPr>
          <a:xfrm>
            <a:off x="380880" y="388620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我想，好的诗应该是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这样的地方才能产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片 1" descr="4412672_110724880000_2.jpg"/>
          <p:cNvPicPr/>
          <p:nvPr/>
        </p:nvPicPr>
        <p:blipFill>
          <a:blip r:embed="rId2"/>
          <a:stretch/>
        </p:blipFill>
        <p:spPr>
          <a:xfrm>
            <a:off x="6095880" y="1523880"/>
            <a:ext cx="3048120" cy="52135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7"/>
          <p:cNvSpPr/>
          <p:nvPr/>
        </p:nvSpPr>
        <p:spPr>
          <a:xfrm>
            <a:off x="0" y="1447920"/>
            <a:ext cx="3124080" cy="2133360"/>
          </a:xfrm>
          <a:prstGeom prst="cloudCallout">
            <a:avLst>
              <a:gd name="adj1" fmla="val 46949"/>
              <a:gd name="adj2" fmla="val 47694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为什么说“好的诗应该是从这样的地方才能产生的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对角圆角矩形 8">
            <a:hlinkClick r:id="rId3" action="ppaction://hlinksldjump"/>
          </p:cNvPr>
          <p:cNvSpPr/>
          <p:nvPr/>
        </p:nvSpPr>
        <p:spPr>
          <a:xfrm>
            <a:off x="7467480" y="6286680"/>
            <a:ext cx="1871640" cy="571320"/>
          </a:xfrm>
          <a:prstGeom prst="pie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4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1"/>
          <p:cNvSpPr/>
          <p:nvPr/>
        </p:nvSpPr>
        <p:spPr>
          <a:xfrm>
            <a:off x="838080" y="21337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不过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在天涯海角，我都为它而骄傲，它就应该是那么小，那么精致，那么结实。它也实在是太美了，以至以后的几十年里，我到哪里也觉得还是自己的故乡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0" y="0"/>
            <a:ext cx="3124080" cy="2133720"/>
          </a:xfrm>
          <a:prstGeom prst="cloudCallout">
            <a:avLst>
              <a:gd name="adj1" fmla="val 46949"/>
              <a:gd name="adj2" fmla="val 47694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中的“它”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1"/>
          <p:cNvSpPr/>
          <p:nvPr/>
        </p:nvSpPr>
        <p:spPr>
          <a:xfrm>
            <a:off x="533520" y="137160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我们那个小小山城，不知由于什么原因，常常令孩子们产生奔赴他乡的幻想。 我是十二三岁时背着小小包袱，顺着小河，穿过洞庭去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翻阅另一本大书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>
            <a:off x="6095880" y="3809880"/>
            <a:ext cx="2514600" cy="1600200"/>
          </a:xfrm>
          <a:prstGeom prst="cloudCallout">
            <a:avLst>
              <a:gd name="adj1" fmla="val -64708"/>
              <a:gd name="adj2" fmla="val 2995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“翻阅另一本大书”是指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2" descr="20120503142004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矩形 1"/>
          <p:cNvSpPr/>
          <p:nvPr/>
        </p:nvSpPr>
        <p:spPr>
          <a:xfrm>
            <a:off x="685800" y="243828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近代中国历史中，从凤凰城中走出了一大批政治家 、军事家、 学者、 文化大师，如一品大臣田兴恕，民族英雄郑国鸿，民国第一任民选内阁总理熊希龄，文坛巨匠沈从文，著名画家黄永玉等，他们都是走到外面世界干出一番大事业来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2" descr="http://r3.sinaimg.cn/10001/2011/0323/93/f/9836651/170x170x75x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4" descr="01"/>
          <p:cNvPicPr/>
          <p:nvPr/>
        </p:nvPicPr>
        <p:blipFill>
          <a:blip r:embed="rId2"/>
          <a:stretch/>
        </p:blipFill>
        <p:spPr>
          <a:xfrm>
            <a:off x="380880" y="685800"/>
            <a:ext cx="3353040" cy="533412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6"/>
          <p:cNvSpPr/>
          <p:nvPr/>
        </p:nvSpPr>
        <p:spPr>
          <a:xfrm>
            <a:off x="4572000" y="990720"/>
            <a:ext cx="3657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黄永玉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著名的画家、作家，湘西凤凰县人。十二岁外出谋生，在困难的环境里，他自学了美术、文学，被称为一代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鬼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才，设计的猴票和酒鬼酒包装家喻户晓。诗书画俱佳，是诗、杂文、散文、小说、剧本的大家，出版多种画册，作品闻名中外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19836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8"/>
          <p:cNvSpPr/>
          <p:nvPr/>
        </p:nvSpPr>
        <p:spPr>
          <a:xfrm>
            <a:off x="19836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0"/>
          <p:cNvSpPr/>
          <p:nvPr/>
        </p:nvSpPr>
        <p:spPr>
          <a:xfrm>
            <a:off x="19836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"/>
          <p:cNvSpPr/>
          <p:nvPr/>
        </p:nvSpPr>
        <p:spPr>
          <a:xfrm>
            <a:off x="3267000" y="2445120"/>
            <a:ext cx="272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你能否也像作者一样，写写自己的家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写写我们美丽的便江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2"/>
          <p:cNvSpPr/>
          <p:nvPr/>
        </p:nvSpPr>
        <p:spPr>
          <a:xfrm>
            <a:off x="1016280" y="914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练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" descr="3756283564203939634.gif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  <p:pic>
        <p:nvPicPr>
          <p:cNvPr id="604" name="经典钢琴曲 - 星空.mp3" descr=""/>
          <p:cNvPicPr/>
          <p:nvPr/>
        </p:nvPicPr>
        <p:blipFill>
          <a:blip r:embed="rId2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83959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0DBF-200B-41BF-9D58-3F55333756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5"/>
          <p:cNvSpPr/>
          <p:nvPr/>
        </p:nvSpPr>
        <p:spPr>
          <a:xfrm>
            <a:off x="2057400" y="18892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896760" y="1447920"/>
            <a:ext cx="735876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初识凤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走进凤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布局        景色     风情      人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了解作者，体会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练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"/>
          <p:cNvSpPr/>
          <p:nvPr/>
        </p:nvSpPr>
        <p:spPr>
          <a:xfrm>
            <a:off x="352440" y="5156280"/>
            <a:ext cx="896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5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6"/>
          <p:cNvSpPr/>
          <p:nvPr/>
        </p:nvSpPr>
        <p:spPr>
          <a:xfrm>
            <a:off x="4100040" y="6172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城凤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520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[女子十二乐坊]女子十二乐坊 - 高山流水.wma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0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03"/>
          <p:cNvPicPr/>
          <p:nvPr/>
        </p:nvPicPr>
        <p:blipFill>
          <a:blip r:embed="rId4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2" descr="4469837_113037086884_2.jpg"/>
          <p:cNvPicPr/>
          <p:nvPr/>
        </p:nvPicPr>
        <p:blipFill>
          <a:blip r:embed="rId5"/>
          <a:stretch/>
        </p:blipFill>
        <p:spPr>
          <a:xfrm>
            <a:off x="0" y="-152280"/>
            <a:ext cx="9524880" cy="731520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1" descr="2707401_203137815000_2.jpg"/>
          <p:cNvPicPr/>
          <p:nvPr/>
        </p:nvPicPr>
        <p:blipFill>
          <a:blip r:embed="rId6"/>
          <a:stretch/>
        </p:blipFill>
        <p:spPr>
          <a:xfrm>
            <a:off x="0" y="0"/>
            <a:ext cx="9524880" cy="72388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1" descr="3195386_164207089694_2.jpg"/>
          <p:cNvPicPr/>
          <p:nvPr/>
        </p:nvPicPr>
        <p:blipFill>
          <a:blip r:embed="rId7"/>
          <a:stretch/>
        </p:blipFill>
        <p:spPr>
          <a:xfrm>
            <a:off x="-304920" y="0"/>
            <a:ext cx="10058400" cy="746748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1" descr="2707401_232207711000_2.jpg"/>
          <p:cNvPicPr/>
          <p:nvPr/>
        </p:nvPicPr>
        <p:blipFill>
          <a:blip r:embed="rId8"/>
          <a:stretch/>
        </p:blipFill>
        <p:spPr>
          <a:xfrm>
            <a:off x="-304920" y="0"/>
            <a:ext cx="10134720" cy="701028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2" descr="4587110_092939087628_2.jpg"/>
          <p:cNvPicPr/>
          <p:nvPr/>
        </p:nvPicPr>
        <p:blipFill>
          <a:blip r:embed="rId9"/>
          <a:stretch/>
        </p:blipFill>
        <p:spPr>
          <a:xfrm>
            <a:off x="-304920" y="0"/>
            <a:ext cx="10211040" cy="73915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1" descr="4412672_112055166000_2.jpg"/>
          <p:cNvPicPr/>
          <p:nvPr/>
        </p:nvPicPr>
        <p:blipFill>
          <a:blip r:embed="rId10"/>
          <a:stretch/>
        </p:blipFill>
        <p:spPr>
          <a:xfrm>
            <a:off x="-380880" y="0"/>
            <a:ext cx="10515600" cy="71629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" descr="7402061_102511177000_2.jpg"/>
          <p:cNvPicPr/>
          <p:nvPr/>
        </p:nvPicPr>
        <p:blipFill>
          <a:blip r:embed="rId11"/>
          <a:stretch/>
        </p:blipFill>
        <p:spPr>
          <a:xfrm>
            <a:off x="-685800" y="-228600"/>
            <a:ext cx="1066788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9"/>
          <p:cNvSpPr/>
          <p:nvPr/>
        </p:nvSpPr>
        <p:spPr>
          <a:xfrm>
            <a:off x="-199800" y="0"/>
            <a:ext cx="21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2f2f2"/>
                </a:solidFill>
                <a:latin typeface="Arial"/>
                <a:ea typeface="楷体_GB2312"/>
              </a:rPr>
              <a:t>初识凤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xit" presetID="2" presetSubtype="2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1"/>
                            </p:stCondLst>
                            <p:childTnLst>
                              <p:par>
                                <p:cTn id="17" dur="indefinite" nodeType="afterEffect" fill="hold" presetClass="exit" presetID="4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001"/>
                            </p:stCondLst>
                            <p:childTnLst>
                              <p:par>
                                <p:cTn id="24" dur="indefinite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001"/>
                            </p:stCondLst>
                            <p:childTnLst>
                              <p:par>
                                <p:cTn id="31" dur="indefinite" nodeType="afterEffect" fill="hold" presetClass="exit" presetID="20">
                                  <p:stCondLst>
                                    <p:cond delay="50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6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1001"/>
                            </p:stCondLst>
                            <p:childTnLst>
                              <p:par>
                                <p:cTn id="38" dur="indefinite" nodeType="afterEffect" fill="hold" presetClass="exit" presetID="21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9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8001"/>
                            </p:stCondLst>
                            <p:childTnLst>
                              <p:par>
                                <p:cTn id="45" dur="indefinite" nodeType="afterEffect" fill="hold" presetClass="exit" presetID="14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4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1"/>
                            </p:stCondLst>
                            <p:childTnLst>
                              <p:par>
                                <p:cTn id="52" dur="indefinite" nodeType="afterEffect" fill="hold" presetClass="exit" presetID="3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1"/>
                            </p:stCondLst>
                            <p:childTnLst>
                              <p:par>
                                <p:cTn id="65" dur="indefinite" nodeType="afterEffect" fill="hold" presetClass="exit" presetID="3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6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9001"/>
                            </p:stCondLst>
                            <p:childTnLst>
                              <p:par>
                                <p:cTn id="82" dur="indefinite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1112760" y="3154320"/>
            <a:ext cx="1095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小城凤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>
            <a:hlinkClick r:id="rId2" action="ppaction://hlinksldjump"/>
          </p:cNvPr>
          <p:cNvSpPr/>
          <p:nvPr/>
        </p:nvSpPr>
        <p:spPr>
          <a:xfrm>
            <a:off x="4040280" y="1600200"/>
            <a:ext cx="866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布局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116600" y="2666880"/>
            <a:ext cx="866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景色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4192560" y="3733920"/>
            <a:ext cx="866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风情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4116600" y="4876920"/>
            <a:ext cx="866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人文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8"/>
          <p:cNvSpPr/>
          <p:nvPr/>
        </p:nvSpPr>
        <p:spPr>
          <a:xfrm>
            <a:off x="3276720" y="167652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33520" y="20574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城／在／起伏的／小山坡，在／一些／古老的／森林和草地，用／石头城墙／上上下下地／    起一个圈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5731200" y="327672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>
            <a:hlinkClick r:id="rId1" action="ppaction://hlinksldjump"/>
          </p:cNvPr>
          <p:cNvSpPr/>
          <p:nvPr/>
        </p:nvSpPr>
        <p:spPr>
          <a:xfrm>
            <a:off x="8839080" y="6477120"/>
            <a:ext cx="30492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3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图片 1" descr="4469837_113037086884_2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图片 4" descr="mxcpu=371884461,51155877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对角圆角矩形 2">
            <a:hlinkClick r:id="rId2" action="ppaction://hlinksldjump"/>
          </p:cNvPr>
          <p:cNvSpPr/>
          <p:nvPr/>
        </p:nvSpPr>
        <p:spPr>
          <a:xfrm>
            <a:off x="7215120" y="6215040"/>
            <a:ext cx="1871640" cy="571680"/>
          </a:xfrm>
          <a:prstGeom prst="pie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3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1"/>
          <p:cNvSpPr/>
          <p:nvPr/>
        </p:nvSpPr>
        <p:spPr>
          <a:xfrm>
            <a:off x="838080" y="160020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关起门，下雨的时候，能听到穿牛皮鞋的过路人，     地从门口走过。还能听到大庙四角的风铃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的声音。下雪的时候，尤其动人，因为经常一落即有二尺来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"/>
          <p:cNvSpPr/>
          <p:nvPr/>
        </p:nvSpPr>
        <p:spPr>
          <a:xfrm>
            <a:off x="6005520" y="222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叮叮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2057400" y="34574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叮叮当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5">
            <a:hlinkClick r:id="rId1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对角圆角矩形 6">
            <a:hlinkClick r:id="rId2" action="ppaction://hlinksldjump"/>
          </p:cNvPr>
          <p:cNvSpPr/>
          <p:nvPr/>
        </p:nvSpPr>
        <p:spPr>
          <a:xfrm>
            <a:off x="7215120" y="6215040"/>
            <a:ext cx="1871640" cy="571680"/>
          </a:xfrm>
          <a:prstGeom prst="pie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3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矩形 1"/>
          <p:cNvSpPr/>
          <p:nvPr/>
        </p:nvSpPr>
        <p:spPr>
          <a:xfrm>
            <a:off x="838080" y="16002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　在家乡常听到苗族老人说，打从县城对面的半山下来，就能听到小城里传来的叫卖声，闻到油炸粑粑的香味。实际上，那距离还在六七里之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3915360" y="4038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">
            <a:hlinkClick r:id="rId1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对角圆角矩形 5">
            <a:hlinkClick r:id="rId2" action="ppaction://hlinksldjump"/>
          </p:cNvPr>
          <p:cNvSpPr/>
          <p:nvPr/>
        </p:nvSpPr>
        <p:spPr>
          <a:xfrm>
            <a:off x="7215120" y="6215040"/>
            <a:ext cx="1871640" cy="571680"/>
          </a:xfrm>
          <a:prstGeom prst="pie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3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35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5:38Z</dcterms:modified>
  <cp:revision>2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