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4.gif" ContentType="image/gif"/>
  <Override PartName="/ppt/media/image31.jpeg" ContentType="image/jpeg"/>
  <Override PartName="/ppt/media/image22.jpeg" ContentType="image/jpeg"/>
  <Override PartName="/ppt/media/image9.png" ContentType="image/pn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11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0.jpeg" ContentType="image/jpeg"/>
  <Override PartName="/ppt/media/image13.gif" ContentType="image/gif"/>
  <Override PartName="/ppt/media/image16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26C2-EED2-4106-8C85-0FA47B31277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7603-3197-401C-83F8-7FE7389D426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B0E0-A99E-44CA-94B9-22A6653E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9DBE-0FCA-4C3C-B563-313FFB7B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8AE3-5CED-4057-84A8-99DFDD5B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30E0-2BA6-4527-9FE1-C9267776B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607F-20EB-4F86-A482-AD8CEC40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D273-2E9C-4594-80F0-FC96BEAD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2AEE-DD25-43DE-8CFF-E6A66AA1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C292-49D6-4B71-A183-4E000041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B969-5FC7-4A40-A297-5706AC92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1D4D-5A82-425E-BF71-6594181B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378F-FC76-4351-9BF6-0BEE273D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023E-86C5-4794-91DD-8D00F293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581A-B48B-4D3E-88EE-809C061451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2.xml"/><Relationship Id="rId3" Type="http://schemas.openxmlformats.org/officeDocument/2006/relationships/image" Target="../media/image13.gif"/><Relationship Id="rId4" Type="http://schemas.openxmlformats.org/officeDocument/2006/relationships/slide" Target="slide10.xml"/><Relationship Id="rId5" Type="http://schemas.openxmlformats.org/officeDocument/2006/relationships/image" Target="../media/image14.gif"/><Relationship Id="rId6" Type="http://schemas.openxmlformats.org/officeDocument/2006/relationships/slide" Target="slide14.xml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" Target="slide26.xml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 rot="5400000">
            <a:off x="5506920" y="2058840"/>
            <a:ext cx="403236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808080"/>
                  </a:solidFill>
                  <a:round/>
                </a:ln>
                <a:solidFill>
                  <a:srgbClr val="00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微软雅黑"/>
              </a:rPr>
              <a:t>小露珠</a:t>
            </a:r>
            <a:endParaRPr b="1" lang="en-US" sz="8000" spc="1" strike="noStrike">
              <a:ln w="9360">
                <a:solidFill>
                  <a:srgbClr val="808080"/>
                </a:solidFill>
                <a:round/>
              </a:ln>
              <a:solidFill>
                <a:srgbClr val="00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896840" y="6093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50920" y="1197000"/>
            <a:ext cx="871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5000" spc="-1" strike="noStrike" u="sng">
                <a:solidFill>
                  <a:srgbClr val="ffffff"/>
                </a:solidFill>
                <a:uFillTx/>
                <a:latin typeface="Arial"/>
              </a:rPr>
              <a:t>               </a:t>
            </a:r>
            <a:r>
              <a:rPr b="1" lang="zh-CN" sz="5000" spc="-1" strike="noStrike" u="sng">
                <a:solidFill>
                  <a:srgbClr val="ffffff"/>
                </a:solidFill>
                <a:uFillTx/>
                <a:latin typeface="Arial"/>
              </a:rPr>
              <a:t>，         、        、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 u="sng">
                <a:solidFill>
                  <a:srgbClr val="ffffff"/>
                </a:solidFill>
                <a:uFillTx/>
                <a:latin typeface="Arial"/>
              </a:rPr>
              <a:t>            </a:t>
            </a:r>
            <a:r>
              <a:rPr b="1" lang="zh-CN" sz="5000" spc="-1" strike="noStrike">
                <a:solidFill>
                  <a:srgbClr val="ffffff"/>
                </a:solidFill>
                <a:latin typeface="Arial"/>
              </a:rPr>
              <a:t>出现了一颗颗小露珠。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7"/>
          <p:cNvSpPr/>
          <p:nvPr/>
        </p:nvSpPr>
        <p:spPr>
          <a:xfrm>
            <a:off x="3635280" y="5013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1260360" y="1557360"/>
            <a:ext cx="7488360" cy="4464000"/>
          </a:xfrm>
          <a:prstGeom prst="roundRect">
            <a:avLst>
              <a:gd name="adj" fmla="val 16667"/>
            </a:avLst>
          </a:prstGeom>
          <a:solidFill>
            <a:srgbClr val="bbe0e3">
              <a:alpha val="6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1028160" y="476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99"/>
                </a:solidFill>
                <a:latin typeface="Arial"/>
                <a:ea typeface="楷体_GB2312"/>
              </a:rPr>
              <a:t>科学家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14600" y="1917720"/>
            <a:ext cx="667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空气中的水蒸气以尘埃为核心凝结成细小的水滴，这些细小的水滴凝结在一起就变成了露珠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纯音乐 - 橘色温度.mp3" descr=""/>
          <p:cNvPicPr/>
          <p:nvPr/>
        </p:nvPicPr>
        <p:blipFill>
          <a:blip r:embed="rId2"/>
          <a:stretch/>
        </p:blipFill>
        <p:spPr>
          <a:xfrm>
            <a:off x="8748720" y="6453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0"/>
            <a:ext cx="87138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500" spc="-1" strike="noStrike">
                <a:solidFill>
                  <a:srgbClr val="ffff00"/>
                </a:solidFill>
                <a:latin typeface="Arial"/>
              </a:rPr>
              <a:t>小露珠爬呀，滚呀，越来越大，越来越亮，到黎明的时候，已经有黄豆粒那么大了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2556000" y="1701720"/>
            <a:ext cx="2085840" cy="146160"/>
            <a:chOff x="2556000" y="1701720"/>
            <a:chExt cx="2085840" cy="146160"/>
          </a:xfrm>
        </p:grpSpPr>
        <p:sp>
          <p:nvSpPr>
            <p:cNvPr id="96" name="AutoShape 4"/>
            <p:cNvSpPr/>
            <p:nvPr/>
          </p:nvSpPr>
          <p:spPr>
            <a:xfrm>
              <a:off x="3203640" y="1701720"/>
              <a:ext cx="142920" cy="146160"/>
            </a:xfrm>
            <a:prstGeom prst="flowChartConnector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5"/>
            <p:cNvSpPr/>
            <p:nvPr/>
          </p:nvSpPr>
          <p:spPr>
            <a:xfrm>
              <a:off x="2556000" y="1701720"/>
              <a:ext cx="142920" cy="146160"/>
            </a:xfrm>
            <a:prstGeom prst="flowChartConnector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6"/>
            <p:cNvSpPr/>
            <p:nvPr/>
          </p:nvSpPr>
          <p:spPr>
            <a:xfrm>
              <a:off x="3851280" y="1701720"/>
              <a:ext cx="142920" cy="146160"/>
            </a:xfrm>
            <a:prstGeom prst="flowChartConnector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7"/>
            <p:cNvSpPr/>
            <p:nvPr/>
          </p:nvSpPr>
          <p:spPr>
            <a:xfrm>
              <a:off x="4499280" y="1701720"/>
              <a:ext cx="142560" cy="146160"/>
            </a:xfrm>
            <a:prstGeom prst="flowChartConnector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14200" y="236520"/>
            <a:ext cx="8713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夜幕降临了，草叶上、花朵上、禾苗上出现了一颗颗小露珠。小露珠爬呀，滚呀，越来越大，越来越亮，到黎明的时候，已经有黄豆粒那么大了</a:t>
            </a:r>
            <a:r>
              <a:rPr b="0" lang="zh-CN" sz="5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324000" y="4508640"/>
            <a:ext cx="8496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79000"/>
                    </a:srgbClr>
                  </a:outerShdw>
                </a:effectLst>
                <a:latin typeface="宋体"/>
              </a:rPr>
              <a:t>思考：小露珠是怎么形成的</a:t>
            </a:r>
            <a:r>
              <a:rPr b="1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79000"/>
                    </a:srgbClr>
                  </a:outerShdw>
                </a:effectLst>
                <a:latin typeface="宋体"/>
              </a:rPr>
              <a:t>?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u=1500680845,586271848&amp;fm=15&amp;gp=0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1071600">
            <a:off x="355680" y="298440"/>
            <a:ext cx="1655640" cy="1563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20100609193738143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4549680"/>
            <a:ext cx="2411280" cy="2308320"/>
          </a:xfrm>
          <a:prstGeom prst="rect">
            <a:avLst/>
          </a:prstGeom>
          <a:ln w="0">
            <a:noFill/>
          </a:ln>
        </p:spPr>
      </p:pic>
      <p:sp>
        <p:nvSpPr>
          <p:cNvPr id="104" name="WordArt 4"/>
          <p:cNvSpPr txBox="1"/>
          <p:nvPr/>
        </p:nvSpPr>
        <p:spPr>
          <a:xfrm>
            <a:off x="2556000" y="620640"/>
            <a:ext cx="273672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小蝴蝶</a:t>
            </a:r>
            <a:endParaRPr b="1" lang="en-US" sz="6000" spc="-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2987640" y="5589720"/>
            <a:ext cx="287964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005cbf"/>
                    </a:gs>
                    <a:gs pos="50000">
                      <a:srgbClr val="03d4a8"/>
                    </a:gs>
                    <a:gs pos="100000">
                      <a:srgbClr val="005cb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小青蛙</a:t>
            </a:r>
            <a:endParaRPr b="1" lang="en-US" sz="6000" spc="-1" strike="noStrike">
              <a:ln w="0">
                <a:noFill/>
              </a:ln>
              <a:gradFill rotWithShape="0">
                <a:gsLst>
                  <a:gs pos="0">
                    <a:srgbClr val="005cbf"/>
                  </a:gs>
                  <a:gs pos="50000">
                    <a:srgbClr val="03d4a8"/>
                  </a:gs>
                  <a:gs pos="100000">
                    <a:srgbClr val="005cbf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6" name="Picture 6" descr="zhame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 rot="20790000">
            <a:off x="324000" y="2349360"/>
            <a:ext cx="2520720" cy="1711440"/>
          </a:xfrm>
          <a:prstGeom prst="rect">
            <a:avLst/>
          </a:prstGeom>
          <a:ln w="0">
            <a:noFill/>
          </a:ln>
        </p:spPr>
      </p:pic>
      <p:sp>
        <p:nvSpPr>
          <p:cNvPr id="107" name="WordArt 7"/>
          <p:cNvSpPr txBox="1"/>
          <p:nvPr/>
        </p:nvSpPr>
        <p:spPr>
          <a:xfrm>
            <a:off x="2916360" y="2852640"/>
            <a:ext cx="259236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小蟋蟀</a:t>
            </a:r>
            <a:endParaRPr b="1" lang="en-US" sz="6000" spc="-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" name="AutoShape 8">
            <a:hlinkClick r:id="rId10" action="ppaction://hlinksldjump"/>
          </p:cNvPr>
          <p:cNvSpPr/>
          <p:nvPr/>
        </p:nvSpPr>
        <p:spPr>
          <a:xfrm>
            <a:off x="8101080" y="0"/>
            <a:ext cx="1042920" cy="719280"/>
          </a:xfrm>
          <a:prstGeom prst="rightArrow">
            <a:avLst>
              <a:gd name="adj1" fmla="val 50000"/>
              <a:gd name="adj2" fmla="val 36235"/>
            </a:avLst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2"/>
          <p:cNvSpPr/>
          <p:nvPr/>
        </p:nvSpPr>
        <p:spPr>
          <a:xfrm>
            <a:off x="6588000" y="1125360"/>
            <a:ext cx="1368720" cy="0"/>
          </a:xfrm>
          <a:prstGeom prst="line">
            <a:avLst/>
          </a:prstGeom>
          <a:ln w="7632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492360" y="1125360"/>
            <a:ext cx="1511280" cy="1079640"/>
          </a:xfrm>
          <a:prstGeom prst="rect">
            <a:avLst/>
          </a:prstGeom>
          <a:noFill/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2008529162414939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68360" y="76464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黑体"/>
              </a:rPr>
              <a:t>千条线，万条线，落在河里看不见</a:t>
            </a:r>
            <a:r>
              <a:rPr b="0" lang="zh-CN" sz="6000" spc="-1" strike="noStrike">
                <a:solidFill>
                  <a:srgbClr val="333399"/>
                </a:solidFill>
                <a:latin typeface="Arial"/>
                <a:ea typeface="黑体"/>
              </a:rPr>
              <a:t>。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雨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2"/>
          <p:cNvSpPr/>
          <p:nvPr/>
        </p:nvSpPr>
        <p:spPr>
          <a:xfrm>
            <a:off x="4284720" y="1773360"/>
            <a:ext cx="1366920" cy="0"/>
          </a:xfrm>
          <a:prstGeom prst="line">
            <a:avLst/>
          </a:prstGeom>
          <a:ln w="7632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7308720" y="765000"/>
            <a:ext cx="1656000" cy="1079640"/>
          </a:xfrm>
          <a:prstGeom prst="rect">
            <a:avLst/>
          </a:prstGeom>
          <a:noFill/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>
            <a:hlinkClick r:id="rId2" action="ppaction://hlinksldjump"/>
          </p:cNvPr>
          <p:cNvSpPr/>
          <p:nvPr/>
        </p:nvSpPr>
        <p:spPr>
          <a:xfrm>
            <a:off x="7308720" y="5877000"/>
            <a:ext cx="1440000" cy="907920"/>
          </a:xfrm>
          <a:prstGeom prst="leftArrow">
            <a:avLst>
              <a:gd name="adj1" fmla="val 50000"/>
              <a:gd name="adj2" fmla="val 39636"/>
            </a:avLst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99ff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ine 2"/>
          <p:cNvSpPr/>
          <p:nvPr/>
        </p:nvSpPr>
        <p:spPr>
          <a:xfrm>
            <a:off x="4788000" y="1989000"/>
            <a:ext cx="1655640" cy="0"/>
          </a:xfrm>
          <a:prstGeom prst="line">
            <a:avLst/>
          </a:prstGeom>
          <a:ln w="7632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468360" y="1916280"/>
            <a:ext cx="1727280" cy="1225440"/>
          </a:xfrm>
          <a:prstGeom prst="rect">
            <a:avLst/>
          </a:prstGeom>
          <a:noFill/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纯音乐 - 橘色温度.mp3" descr=""/>
          <p:cNvPicPr/>
          <p:nvPr/>
        </p:nvPicPr>
        <p:blipFill>
          <a:blip r:embed="rId2"/>
          <a:stretch/>
        </p:blipFill>
        <p:spPr>
          <a:xfrm>
            <a:off x="87487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1" dur="indefinite" restart="never" nodeType="tmRoot">
          <p:childTnLst>
            <p:seq>
              <p:cTn id="20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37959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4716360" y="1773360"/>
            <a:ext cx="2016360" cy="0"/>
          </a:xfrm>
          <a:prstGeom prst="line">
            <a:avLst/>
          </a:prstGeom>
          <a:ln w="76320">
            <a:solidFill>
              <a:srgbClr val="ff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476360" y="2421000"/>
            <a:ext cx="1582920" cy="649080"/>
          </a:xfrm>
          <a:prstGeom prst="rect">
            <a:avLst/>
          </a:prstGeom>
          <a:noFill/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861080" y="2492280"/>
            <a:ext cx="1366560" cy="649440"/>
          </a:xfrm>
          <a:prstGeom prst="rect">
            <a:avLst/>
          </a:prstGeom>
          <a:noFill/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547640" y="3213000"/>
            <a:ext cx="1511640" cy="647640"/>
          </a:xfrm>
          <a:prstGeom prst="rect">
            <a:avLst/>
          </a:prstGeom>
          <a:noFill/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9926728"/>
          <p:cNvPicPr/>
          <p:nvPr/>
        </p:nvPicPr>
        <p:blipFill>
          <a:blip r:embed="rId1"/>
          <a:stretch/>
        </p:blipFill>
        <p:spPr>
          <a:xfrm>
            <a:off x="0" y="115920"/>
            <a:ext cx="4211640" cy="3341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d1775e69fcbb19b04216944e"/>
          <p:cNvPicPr/>
          <p:nvPr/>
        </p:nvPicPr>
        <p:blipFill>
          <a:blip r:embed="rId2"/>
          <a:stretch/>
        </p:blipFill>
        <p:spPr>
          <a:xfrm>
            <a:off x="4211640" y="1413000"/>
            <a:ext cx="4608360" cy="3489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xin_410204120957203153149"/>
          <p:cNvPicPr/>
          <p:nvPr/>
        </p:nvPicPr>
        <p:blipFill>
          <a:blip r:embed="rId3"/>
          <a:stretch/>
        </p:blipFill>
        <p:spPr>
          <a:xfrm>
            <a:off x="108000" y="3429000"/>
            <a:ext cx="3816360" cy="3151080"/>
          </a:xfrm>
          <a:prstGeom prst="rect">
            <a:avLst/>
          </a:prstGeom>
          <a:ln w="0">
            <a:noFill/>
          </a:ln>
        </p:spPr>
      </p:pic>
      <p:sp>
        <p:nvSpPr>
          <p:cNvPr id="126" name="WordArt 5"/>
          <p:cNvSpPr txBox="1"/>
          <p:nvPr/>
        </p:nvSpPr>
        <p:spPr>
          <a:xfrm>
            <a:off x="1116000" y="2781360"/>
            <a:ext cx="180036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向日葵</a:t>
            </a:r>
            <a:endParaRPr b="1" lang="en-US" sz="18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WordArt 6"/>
          <p:cNvSpPr txBox="1"/>
          <p:nvPr/>
        </p:nvSpPr>
        <p:spPr>
          <a:xfrm>
            <a:off x="4067280" y="5445000"/>
            <a:ext cx="2158920" cy="10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白杨树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6372360" y="692280"/>
            <a:ext cx="2016000" cy="674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喇叭花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2008529162414939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黑体"/>
              </a:rPr>
              <a:t>天上有面鼓，藏在云深处，响时先冒火，声音震山谷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雷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纯音乐 - 橘色温度.mp3" descr=""/>
          <p:cNvPicPr/>
          <p:nvPr/>
        </p:nvPicPr>
        <p:blipFill>
          <a:blip r:embed="rId2"/>
          <a:stretch/>
        </p:blipFill>
        <p:spPr>
          <a:xfrm>
            <a:off x="8748720" y="6453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3059280" y="620640"/>
            <a:ext cx="53989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9000"/>
                    </a:srgbClr>
                  </a:outerShdw>
                </a:effectLst>
                <a:latin typeface="黑体"/>
              </a:rPr>
              <a:t>雨露滋润禾苗壮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771640" y="357336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植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6300720" y="3573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姑娘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486160" y="4437000"/>
            <a:ext cx="280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露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299280" y="4383000"/>
            <a:ext cx="20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珠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>
            <a:off x="4284720" y="3933720"/>
            <a:ext cx="1800000" cy="0"/>
          </a:xfrm>
          <a:prstGeom prst="line">
            <a:avLst/>
          </a:prstGeom>
          <a:ln w="5724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4284720" y="4797360"/>
            <a:ext cx="1727280" cy="0"/>
          </a:xfrm>
          <a:prstGeom prst="line">
            <a:avLst/>
          </a:prstGeom>
          <a:ln w="5724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625840" y="189000"/>
            <a:ext cx="68421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一会儿，太阳公公披着云霞、爬上了东山，染红了天空，照亮了大地。霞光中，小露珠光彩熠熠，把所有的植物都装点得格外精神——金黄的向日葵，碧绿的白杨树，紫红的喇叭花，还有数不尽的鲜花嫩草，都像俊俏的小姑娘戴上了美丽的珠宝，显得更加生机勃勃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雨滴 肖邦钢琴曲.mp3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" dur="129803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6360" y="7776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小露珠爬着，滚着，笑着。她感到有一股热气袭来。渐渐地，太阳公公散发的热量越来越大，小露珠的身子也越来越轻了。她渐渐地变成了水蒸气，向空中飘去。向日葵向她点头，白杨树向她招手，喇叭花动情地吹奏着乐曲。大家多么想把小露珠留住呀！小露珠向大伙儿一一告别，她笑盈盈地说：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我明天还会来的。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0" y="77760"/>
            <a:ext cx="9144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小露珠爬着，滚着，笑着。她感到有一股热气袭来。</a:t>
            </a:r>
            <a:r>
              <a:rPr b="1" lang="zh-CN" sz="3500" spc="-1" strike="noStrike">
                <a:solidFill>
                  <a:srgbClr val="ff5050"/>
                </a:solidFill>
                <a:latin typeface="Arial"/>
              </a:rPr>
              <a:t>渐渐地，太阳公公散发的热量越来越大，小露珠的身子也越来越轻了。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她渐渐地变成了水蒸气，向空中飘去。向日葵向她点头，白杨树向她招手，喇叭花动情地吹奏着乐曲。大家多么想把小露珠留住呀！小露珠向大伙儿一一告别，她笑盈盈地说：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我明天还会来的。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95280" y="1413000"/>
            <a:ext cx="8136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小露珠爬呀，滚呀，越来越大，越来越亮，到黎明的时候，已经有黄豆粒那么大了。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684360" y="115920"/>
            <a:ext cx="7848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渐渐地，太阳公公散发的热量越来越大，小露珠的身子也越来越轻了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4"/>
          <p:cNvSpPr txBox="1"/>
          <p:nvPr/>
        </p:nvSpPr>
        <p:spPr>
          <a:xfrm>
            <a:off x="1763640" y="3213000"/>
            <a:ext cx="5473800" cy="5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越来越……越来越……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6360" y="7776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小露珠爬着，滚着，笑着。她感到有一股热气袭来。渐渐地，太阳公公散发的热量越来越大，小露珠的身子也越来越轻了。她渐渐地变成了水蒸气，向空中飘去。</a:t>
            </a:r>
            <a:r>
              <a:rPr b="1" lang="zh-CN" sz="3500" spc="-1" strike="noStrike">
                <a:solidFill>
                  <a:srgbClr val="ff5050"/>
                </a:solidFill>
                <a:latin typeface="Arial"/>
              </a:rPr>
              <a:t>向日葵向她点头，白杨树向她招手，喇叭花动情地吹奏着乐曲。大家多么想把小露珠留住呀！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小露珠向大伙儿一一告别，她笑盈盈地说：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我明天还会来的。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小提琴独奏 爱的致意.mp3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7" dur="indefinite" restart="never" nodeType="tmRoot">
          <p:childTnLst>
            <p:seq>
              <p:cTn id="33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2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2916360" y="2349360"/>
            <a:ext cx="340524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无私奉献</a:t>
            </a:r>
            <a:endParaRPr b="1" lang="en-US" sz="40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7" name="文本框 1"/>
          <p:cNvSpPr/>
          <p:nvPr/>
        </p:nvSpPr>
        <p:spPr>
          <a:xfrm>
            <a:off x="1216080" y="615636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77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770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2008529162414939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539280" y="260280"/>
            <a:ext cx="82803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6000" spc="-1" strike="noStrike">
                <a:solidFill>
                  <a:srgbClr val="333399"/>
                </a:solidFill>
                <a:latin typeface="Arial"/>
                <a:ea typeface="黑体"/>
              </a:rPr>
              <a:t>闪亮透明小圆球，不大不小像豆豆。花草、树叶作摇篮，摇来摇去真自在。太阳出来去无踪，那是自然一奇观。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露珠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900000" y="907920"/>
            <a:ext cx="7272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如果你是小露珠，你愿意这样无私奉献，装点别人么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3"/>
          <p:cNvSpPr txBox="1"/>
          <p:nvPr/>
        </p:nvSpPr>
        <p:spPr>
          <a:xfrm>
            <a:off x="1042920" y="2637000"/>
            <a:ext cx="5545080" cy="10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《小露珠的一天》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08000" y="1125360"/>
            <a:ext cx="9036000" cy="703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cc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、背诵全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08000" y="2133720"/>
            <a:ext cx="8891640" cy="703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cc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、把课文中你喜欢的词句摘抄到你的阅读笔记中去，并写上自己的阅读感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08000" y="3933720"/>
            <a:ext cx="8856720" cy="703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cc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、在熟读课文的基础上，可以把课本编成童话剧进行表演。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5"/>
          <p:cNvSpPr txBox="1"/>
          <p:nvPr/>
        </p:nvSpPr>
        <p:spPr>
          <a:xfrm>
            <a:off x="684360" y="333360"/>
            <a:ext cx="15429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作业：</a:t>
            </a:r>
            <a:endParaRPr b="1" lang="en-US" sz="40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2C55-0649-4C50-9B5F-C27642E3D01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"/>
          <p:cNvSpPr/>
          <p:nvPr/>
        </p:nvSpPr>
        <p:spPr>
          <a:xfrm>
            <a:off x="466560" y="404640"/>
            <a:ext cx="8137800" cy="5977080"/>
          </a:xfrm>
          <a:prstGeom prst="roundRect">
            <a:avLst>
              <a:gd name="adj" fmla="val 16667"/>
            </a:avLst>
          </a:prstGeom>
          <a:solidFill>
            <a:srgbClr val="bbe0e3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425600" y="1428840"/>
            <a:ext cx="545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55640" y="692280"/>
            <a:ext cx="763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夜幕降</a:t>
            </a:r>
            <a:r>
              <a:rPr b="0" lang="zh-CN" sz="48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临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黄豆粒   珍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披着       植物    俊俏   感到   一股热气    </a:t>
            </a:r>
            <a:r>
              <a:rPr b="0" lang="zh-CN" sz="48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袭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     吹奏      草秆     喇叭   蒸发     笑盈盈    </a:t>
            </a:r>
            <a:r>
              <a:rPr b="0" lang="zh-CN" sz="48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戴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钻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  </a:t>
            </a:r>
            <a:r>
              <a:rPr b="0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 数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尽  </a:t>
            </a:r>
            <a:r>
              <a:rPr b="0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    乐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68360" y="1027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霞光中，小露珠光彩熠熠，把所有的植物都装点得格外精神——金黄的向日葵，碧绿的白杨树，紫红的喇叭花，还有数不尽的鲜花嫩草，都像俊俏的小姑娘戴上了美丽的珠宝，显得更加生机勃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222200" y="1027080"/>
            <a:ext cx="15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学提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260360" y="1557360"/>
            <a:ext cx="705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大声朗读课文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遍，要求：读准字音，读通句子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读完课文静下心来想一想课文的每一个自然段主要讲了什么？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0" y="0"/>
            <a:ext cx="871380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000" spc="-1" strike="noStrike">
                <a:solidFill>
                  <a:srgbClr val="ffffff"/>
                </a:solidFill>
                <a:latin typeface="Arial"/>
              </a:rPr>
              <a:t>夜幕降临了，草叶上、花朵上、禾苗上出现了一颗颗小露珠。</a:t>
            </a:r>
            <a:r>
              <a:rPr b="1" lang="zh-CN" sz="5500" spc="-1" strike="noStrike">
                <a:solidFill>
                  <a:srgbClr val="ffff00"/>
                </a:solidFill>
                <a:latin typeface="Arial"/>
              </a:rPr>
              <a:t>小露珠爬呀，滚呀，越来越大，越来越亮，到黎明的时候，已经有黄豆粒那么大了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"/>
          <p:cNvSpPr/>
          <p:nvPr/>
        </p:nvSpPr>
        <p:spPr>
          <a:xfrm>
            <a:off x="4427640" y="2421000"/>
            <a:ext cx="142920" cy="146160"/>
          </a:xfrm>
          <a:prstGeom prst="flowChartConnector">
            <a:avLst/>
          </a:prstGeom>
          <a:gradFill rotWithShape="0">
            <a:gsLst>
              <a:gs pos="0">
                <a:srgbClr val="ff99cc"/>
              </a:gs>
              <a:gs pos="100000">
                <a:srgbClr val="ff505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6012000" y="4149720"/>
            <a:ext cx="1511280" cy="146160"/>
            <a:chOff x="6012000" y="4149720"/>
            <a:chExt cx="1511280" cy="146160"/>
          </a:xfrm>
        </p:grpSpPr>
        <p:sp>
          <p:nvSpPr>
            <p:cNvPr id="66" name="AutoShape 5"/>
            <p:cNvSpPr/>
            <p:nvPr/>
          </p:nvSpPr>
          <p:spPr>
            <a:xfrm>
              <a:off x="6731280" y="4149720"/>
              <a:ext cx="142560" cy="146160"/>
            </a:xfrm>
            <a:prstGeom prst="flowChartConnector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6"/>
            <p:cNvSpPr/>
            <p:nvPr/>
          </p:nvSpPr>
          <p:spPr>
            <a:xfrm>
              <a:off x="7380360" y="4149720"/>
              <a:ext cx="142920" cy="146160"/>
            </a:xfrm>
            <a:prstGeom prst="flowChartConnector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7"/>
            <p:cNvSpPr/>
            <p:nvPr/>
          </p:nvSpPr>
          <p:spPr>
            <a:xfrm>
              <a:off x="6012000" y="4149720"/>
              <a:ext cx="142920" cy="146160"/>
            </a:xfrm>
            <a:prstGeom prst="flowChartConnector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8"/>
          <p:cNvGrpSpPr/>
          <p:nvPr/>
        </p:nvGrpSpPr>
        <p:grpSpPr>
          <a:xfrm>
            <a:off x="1692360" y="836640"/>
            <a:ext cx="2085840" cy="146160"/>
            <a:chOff x="1692360" y="836640"/>
            <a:chExt cx="2085840" cy="146160"/>
          </a:xfrm>
        </p:grpSpPr>
        <p:sp>
          <p:nvSpPr>
            <p:cNvPr id="70" name="AutoShape 9"/>
            <p:cNvSpPr/>
            <p:nvPr/>
          </p:nvSpPr>
          <p:spPr>
            <a:xfrm>
              <a:off x="2340000" y="836640"/>
              <a:ext cx="142920" cy="146160"/>
            </a:xfrm>
            <a:prstGeom prst="flowChartConnector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10"/>
            <p:cNvSpPr/>
            <p:nvPr/>
          </p:nvSpPr>
          <p:spPr>
            <a:xfrm>
              <a:off x="1692360" y="836640"/>
              <a:ext cx="142920" cy="146160"/>
            </a:xfrm>
            <a:prstGeom prst="flowChartConnector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11"/>
            <p:cNvSpPr/>
            <p:nvPr/>
          </p:nvSpPr>
          <p:spPr>
            <a:xfrm>
              <a:off x="2987640" y="836640"/>
              <a:ext cx="142920" cy="146160"/>
            </a:xfrm>
            <a:prstGeom prst="flowChartConnector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12"/>
            <p:cNvSpPr/>
            <p:nvPr/>
          </p:nvSpPr>
          <p:spPr>
            <a:xfrm>
              <a:off x="3635640" y="836640"/>
              <a:ext cx="142560" cy="146160"/>
            </a:xfrm>
            <a:prstGeom prst="flowChartConnector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3"/>
          <p:cNvGrpSpPr/>
          <p:nvPr/>
        </p:nvGrpSpPr>
        <p:grpSpPr>
          <a:xfrm>
            <a:off x="395280" y="3284640"/>
            <a:ext cx="7848720" cy="938160"/>
            <a:chOff x="395280" y="3284640"/>
            <a:chExt cx="7848720" cy="938160"/>
          </a:xfrm>
        </p:grpSpPr>
        <p:sp>
          <p:nvSpPr>
            <p:cNvPr id="75" name="AutoShape 14"/>
            <p:cNvSpPr/>
            <p:nvPr/>
          </p:nvSpPr>
          <p:spPr>
            <a:xfrm>
              <a:off x="395280" y="4076640"/>
              <a:ext cx="142920" cy="146160"/>
            </a:xfrm>
            <a:prstGeom prst="flowChartConnector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15"/>
            <p:cNvSpPr/>
            <p:nvPr/>
          </p:nvSpPr>
          <p:spPr>
            <a:xfrm>
              <a:off x="8101080" y="3284640"/>
              <a:ext cx="142920" cy="146160"/>
            </a:xfrm>
            <a:prstGeom prst="flowChartConnector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AutoShape 16"/>
          <p:cNvSpPr/>
          <p:nvPr/>
        </p:nvSpPr>
        <p:spPr>
          <a:xfrm>
            <a:off x="6588000" y="2421000"/>
            <a:ext cx="142920" cy="146160"/>
          </a:xfrm>
          <a:prstGeom prst="flowChartConnector">
            <a:avLst/>
          </a:prstGeom>
          <a:gradFill rotWithShape="0">
            <a:gsLst>
              <a:gs pos="0">
                <a:srgbClr val="ff99cc"/>
              </a:gs>
              <a:gs pos="100000">
                <a:srgbClr val="ff505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7"/>
          <p:cNvGrpSpPr/>
          <p:nvPr/>
        </p:nvGrpSpPr>
        <p:grpSpPr>
          <a:xfrm>
            <a:off x="395280" y="3284640"/>
            <a:ext cx="4967280" cy="145800"/>
            <a:chOff x="395280" y="3284640"/>
            <a:chExt cx="4967280" cy="145800"/>
          </a:xfrm>
        </p:grpSpPr>
        <p:grpSp>
          <p:nvGrpSpPr>
            <p:cNvPr id="79" name="Group 18"/>
            <p:cNvGrpSpPr/>
            <p:nvPr/>
          </p:nvGrpSpPr>
          <p:grpSpPr>
            <a:xfrm>
              <a:off x="3924360" y="3284640"/>
              <a:ext cx="1438200" cy="145800"/>
              <a:chOff x="3924360" y="3284640"/>
              <a:chExt cx="1438200" cy="145800"/>
            </a:xfrm>
          </p:grpSpPr>
          <p:sp>
            <p:nvSpPr>
              <p:cNvPr id="80" name="AutoShape 19"/>
              <p:cNvSpPr/>
              <p:nvPr/>
            </p:nvSpPr>
            <p:spPr>
              <a:xfrm>
                <a:off x="4572000" y="3284640"/>
                <a:ext cx="142920" cy="145800"/>
              </a:xfrm>
              <a:prstGeom prst="flowChartConnector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505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AutoShape 20"/>
              <p:cNvSpPr/>
              <p:nvPr/>
            </p:nvSpPr>
            <p:spPr>
              <a:xfrm>
                <a:off x="3924360" y="3284640"/>
                <a:ext cx="142920" cy="145800"/>
              </a:xfrm>
              <a:prstGeom prst="flowChartConnector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505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AutoShape 21"/>
              <p:cNvSpPr/>
              <p:nvPr/>
            </p:nvSpPr>
            <p:spPr>
              <a:xfrm>
                <a:off x="5219640" y="3284640"/>
                <a:ext cx="142920" cy="145800"/>
              </a:xfrm>
              <a:prstGeom prst="flowChartConnector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505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22"/>
            <p:cNvGrpSpPr/>
            <p:nvPr/>
          </p:nvGrpSpPr>
          <p:grpSpPr>
            <a:xfrm>
              <a:off x="395280" y="3284640"/>
              <a:ext cx="1438200" cy="145800"/>
              <a:chOff x="395280" y="3284640"/>
              <a:chExt cx="1438200" cy="145800"/>
            </a:xfrm>
          </p:grpSpPr>
          <p:sp>
            <p:nvSpPr>
              <p:cNvPr id="84" name="AutoShape 23"/>
              <p:cNvSpPr/>
              <p:nvPr/>
            </p:nvSpPr>
            <p:spPr>
              <a:xfrm>
                <a:off x="1042920" y="3284640"/>
                <a:ext cx="142920" cy="145800"/>
              </a:xfrm>
              <a:prstGeom prst="flowChartConnector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505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AutoShape 24"/>
              <p:cNvSpPr/>
              <p:nvPr/>
            </p:nvSpPr>
            <p:spPr>
              <a:xfrm>
                <a:off x="395280" y="3284640"/>
                <a:ext cx="142920" cy="145800"/>
              </a:xfrm>
              <a:prstGeom prst="flowChartConnector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505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AutoShape 25"/>
              <p:cNvSpPr/>
              <p:nvPr/>
            </p:nvSpPr>
            <p:spPr>
              <a:xfrm>
                <a:off x="1690560" y="3284640"/>
                <a:ext cx="142920" cy="145800"/>
              </a:xfrm>
              <a:prstGeom prst="flowChartConnector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505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0" y="0"/>
            <a:ext cx="8713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000" spc="-1" strike="noStrike">
                <a:solidFill>
                  <a:srgbClr val="ffffff"/>
                </a:solidFill>
                <a:latin typeface="Arial"/>
              </a:rPr>
              <a:t>夜幕降临了，草叶上、花朵上、禾苗上出现了一颗颗小露珠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8T06:52:5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6:07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