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6.png" ContentType="image/png"/>
  <Override PartName="/ppt/media/image14.gif" ContentType="image/gif"/>
  <Override PartName="/ppt/media/image1.jpeg" ContentType="image/jpeg"/>
  <Override PartName="/ppt/media/image3.jpeg" ContentType="image/jpeg"/>
  <Override PartName="/ppt/media/image15.gif" ContentType="image/gif"/>
  <Override PartName="/ppt/media/image7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2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6A15-9893-4FC5-8617-7DF10B0DC9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ECCE-0449-4928-A024-C498A73E33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FA5B-2BDF-4B57-9825-545077AF10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849-8CEF-4865-9468-D193ABDF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F85-5E7D-445B-B208-36C1477D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850-840B-4CDF-9CE0-9DC07847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70F-EB01-4FB4-BF51-94FB45AC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CD9D-939F-4D4C-8A45-2D7CAEE4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8E27-048A-4BC0-9691-3F43BFF9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CF66-DBC6-4587-978C-9A8F7833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BA5F-6BF8-4E64-B5B2-014A54E0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3858-A0B3-42AF-BE3F-B9762B6B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D962-8CE6-493D-A383-FDD53AA2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C483-51C9-46B3-B981-458F3CA5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F95-B741-4F9D-BB0A-7ED96AD2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5B35-B237-4645-AA12-3F0CDEFF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5F5B-95FF-4721-B432-03D09901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C423-B3D6-4CDE-8B55-2E084F59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DFBA-E0F4-4079-B3A8-DED9C90B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E488-3589-404B-B25D-4B5E0FAC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B64F-9E8C-4A7F-9DCD-BB71E996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4E883-9BC7-4FE4-8D68-E5FE03DB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ADCDC-5A38-4D2C-9DAF-EEAA2274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FF96-3F8B-438B-8B32-C3E74BE7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65D1-B225-454B-B333-C3349765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C35-60D0-4FEF-BAE9-ACCAEAD2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D26B5-FA6D-401B-8DAB-9BBAA557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23EF-FBF4-46E8-AA19-434BCF85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97B73-C2CD-4AD1-BA64-A4E34EE4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C905D-9E1C-4F6A-ADE2-0E80526D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C2610-A969-4B54-AB12-B99083FB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91FF-3F24-4A34-B4C3-5AA200A1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64755-1ED2-4F27-A51E-8CD46B8E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3AB-3493-45F0-BD5F-1C3BAABA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F6A6-21B0-42E5-A2A0-28FC05E5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A26-6BDB-4CFD-9C37-CA049C3F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A6B-9F57-4FC5-AA94-C95595A4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CE7-16DD-475A-911A-0242F54B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097-BC9E-4C8A-88E2-BC139554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BF1F-0B2D-4FDA-B82F-46AA3C505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74E5-1C30-4D76-9F87-40B743A024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0720" y="524520"/>
                  <a:ext cx="4276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868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60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616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232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960" y="4317840"/>
            <a:ext cx="981720" cy="1160640"/>
            <a:chOff x="7797960" y="4317840"/>
            <a:chExt cx="981720" cy="11606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960" y="4317840"/>
              <a:ext cx="981720" cy="1160640"/>
              <a:chOff x="7797960" y="4317840"/>
              <a:chExt cx="981720" cy="11606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9080" y="4649760"/>
                <a:ext cx="1058760" cy="496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7720" y="4756680"/>
                <a:ext cx="74952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3280" y="4557600"/>
                <a:ext cx="100080" cy="1882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557F-5D58-44FA-A045-B461A8A71A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2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2" descr="BD13721_"/>
          <p:cNvPicPr/>
          <p:nvPr/>
        </p:nvPicPr>
        <p:blipFill>
          <a:blip r:embed="rId2"/>
          <a:stretch/>
        </p:blipFill>
        <p:spPr>
          <a:xfrm>
            <a:off x="3424320" y="3860640"/>
            <a:ext cx="2419200" cy="22100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5"/>
          <p:cNvSpPr/>
          <p:nvPr/>
        </p:nvSpPr>
        <p:spPr>
          <a:xfrm>
            <a:off x="944640" y="1484280"/>
            <a:ext cx="7559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 马 过 河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8"/>
          <p:cNvSpPr/>
          <p:nvPr/>
        </p:nvSpPr>
        <p:spPr>
          <a:xfrm>
            <a:off x="1902960" y="6137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971640" y="836640"/>
            <a:ext cx="71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66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遇事一定要动脑筋，亲自试一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u=2438753956,187387981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WordArt 3"/>
          <p:cNvSpPr txBox="1"/>
          <p:nvPr/>
        </p:nvSpPr>
        <p:spPr>
          <a:xfrm>
            <a:off x="2052720" y="268200"/>
            <a:ext cx="50385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论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8" name="Picture 4" descr="68%Y1%Y3K9G@$L[][AVV}EU"/>
          <p:cNvPicPr/>
          <p:nvPr/>
        </p:nvPicPr>
        <p:blipFill>
          <a:blip r:embed="rId2"/>
          <a:stretch/>
        </p:blipFill>
        <p:spPr>
          <a:xfrm>
            <a:off x="0" y="2666880"/>
            <a:ext cx="3429000" cy="2221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ZJ0A7@T`@OYUO04EAXEDJEQ"/>
          <p:cNvPicPr/>
          <p:nvPr/>
        </p:nvPicPr>
        <p:blipFill>
          <a:blip r:embed="rId3"/>
          <a:stretch/>
        </p:blipFill>
        <p:spPr>
          <a:xfrm>
            <a:off x="3429000" y="4594320"/>
            <a:ext cx="2889360" cy="226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U(GPS104(NORM`J}@O$5}1"/>
          <p:cNvPicPr/>
          <p:nvPr/>
        </p:nvPicPr>
        <p:blipFill>
          <a:blip r:embed="rId4"/>
          <a:stretch/>
        </p:blipFill>
        <p:spPr>
          <a:xfrm>
            <a:off x="6324480" y="2590920"/>
            <a:ext cx="2819520" cy="2152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3429000" y="2284560"/>
            <a:ext cx="28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同一条河大家的说法却不一样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lid1426.WAV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NA01441_"/>
          <p:cNvPicPr/>
          <p:nvPr/>
        </p:nvPicPr>
        <p:blipFill>
          <a:blip r:embed="rId2"/>
          <a:stretch/>
        </p:blipFill>
        <p:spPr>
          <a:xfrm>
            <a:off x="3362400" y="2438280"/>
            <a:ext cx="2209680" cy="2934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NA01441_"/>
          <p:cNvPicPr/>
          <p:nvPr/>
        </p:nvPicPr>
        <p:blipFill>
          <a:blip r:embed="rId3"/>
          <a:stretch/>
        </p:blipFill>
        <p:spPr>
          <a:xfrm>
            <a:off x="0" y="620640"/>
            <a:ext cx="3276720" cy="5257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AG00044_"/>
          <p:cNvPicPr/>
          <p:nvPr/>
        </p:nvPicPr>
        <p:blipFill>
          <a:blip r:embed="rId4"/>
          <a:stretch/>
        </p:blipFill>
        <p:spPr>
          <a:xfrm>
            <a:off x="1066680" y="3500280"/>
            <a:ext cx="3581640" cy="2697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BD13721_"/>
          <p:cNvPicPr/>
          <p:nvPr/>
        </p:nvPicPr>
        <p:blipFill>
          <a:blip r:embed="rId5"/>
          <a:stretch/>
        </p:blipFill>
        <p:spPr>
          <a:xfrm>
            <a:off x="3886200" y="4572000"/>
            <a:ext cx="2419200" cy="175248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13"/>
          <p:cNvSpPr/>
          <p:nvPr/>
        </p:nvSpPr>
        <p:spPr>
          <a:xfrm>
            <a:off x="838080" y="5994360"/>
            <a:ext cx="7925040" cy="482760"/>
          </a:xfrm>
          <a:custGeom>
            <a:avLst/>
            <a:gdLst/>
            <a:ahLst/>
            <a:rect l="l" t="t" r="r" b="b"/>
            <a:pathLst>
              <a:path w="4992" h="304">
                <a:moveTo>
                  <a:pt x="0" y="208"/>
                </a:moveTo>
                <a:cubicBezTo>
                  <a:pt x="496" y="236"/>
                  <a:pt x="992" y="264"/>
                  <a:pt x="1296" y="256"/>
                </a:cubicBezTo>
                <a:cubicBezTo>
                  <a:pt x="1600" y="248"/>
                  <a:pt x="1616" y="160"/>
                  <a:pt x="1824" y="160"/>
                </a:cubicBezTo>
                <a:cubicBezTo>
                  <a:pt x="2032" y="160"/>
                  <a:pt x="2352" y="256"/>
                  <a:pt x="2544" y="256"/>
                </a:cubicBezTo>
                <a:cubicBezTo>
                  <a:pt x="2736" y="256"/>
                  <a:pt x="2768" y="152"/>
                  <a:pt x="2976" y="160"/>
                </a:cubicBezTo>
                <a:cubicBezTo>
                  <a:pt x="3184" y="168"/>
                  <a:pt x="3616" y="304"/>
                  <a:pt x="3792" y="304"/>
                </a:cubicBezTo>
                <a:cubicBezTo>
                  <a:pt x="3968" y="304"/>
                  <a:pt x="3912" y="176"/>
                  <a:pt x="4032" y="160"/>
                </a:cubicBezTo>
                <a:cubicBezTo>
                  <a:pt x="4152" y="144"/>
                  <a:pt x="4400" y="232"/>
                  <a:pt x="4512" y="208"/>
                </a:cubicBezTo>
                <a:cubicBezTo>
                  <a:pt x="4624" y="184"/>
                  <a:pt x="4624" y="0"/>
                  <a:pt x="4704" y="16"/>
                </a:cubicBezTo>
                <a:cubicBezTo>
                  <a:pt x="4784" y="32"/>
                  <a:pt x="4944" y="256"/>
                  <a:pt x="4992" y="3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4"/>
          <p:cNvSpPr/>
          <p:nvPr/>
        </p:nvSpPr>
        <p:spPr>
          <a:xfrm>
            <a:off x="457200" y="5867280"/>
            <a:ext cx="8178840" cy="698760"/>
          </a:xfrm>
          <a:custGeom>
            <a:avLst/>
            <a:gdLst/>
            <a:ahLst/>
            <a:rect l="l" t="t" r="r" b="b"/>
            <a:pathLst>
              <a:path w="5152" h="440">
                <a:moveTo>
                  <a:pt x="0" y="384"/>
                </a:moveTo>
                <a:cubicBezTo>
                  <a:pt x="104" y="348"/>
                  <a:pt x="208" y="312"/>
                  <a:pt x="336" y="288"/>
                </a:cubicBezTo>
                <a:cubicBezTo>
                  <a:pt x="464" y="264"/>
                  <a:pt x="616" y="224"/>
                  <a:pt x="768" y="240"/>
                </a:cubicBezTo>
                <a:cubicBezTo>
                  <a:pt x="920" y="256"/>
                  <a:pt x="912" y="384"/>
                  <a:pt x="1248" y="384"/>
                </a:cubicBezTo>
                <a:cubicBezTo>
                  <a:pt x="1584" y="384"/>
                  <a:pt x="2392" y="232"/>
                  <a:pt x="2784" y="240"/>
                </a:cubicBezTo>
                <a:cubicBezTo>
                  <a:pt x="3176" y="248"/>
                  <a:pt x="3304" y="440"/>
                  <a:pt x="3600" y="432"/>
                </a:cubicBezTo>
                <a:cubicBezTo>
                  <a:pt x="3896" y="424"/>
                  <a:pt x="4336" y="248"/>
                  <a:pt x="4560" y="192"/>
                </a:cubicBezTo>
                <a:cubicBezTo>
                  <a:pt x="4784" y="136"/>
                  <a:pt x="4848" y="128"/>
                  <a:pt x="4944" y="96"/>
                </a:cubicBezTo>
                <a:cubicBezTo>
                  <a:pt x="5040" y="64"/>
                  <a:pt x="5120" y="0"/>
                  <a:pt x="5136" y="0"/>
                </a:cubicBezTo>
                <a:cubicBezTo>
                  <a:pt x="5152" y="0"/>
                  <a:pt x="5096" y="48"/>
                  <a:pt x="5040" y="96"/>
                </a:cubicBezTo>
              </a:path>
            </a:pathLst>
          </a:custGeom>
          <a:noFill/>
          <a:ln w="2844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6"/>
          <p:cNvSpPr/>
          <p:nvPr/>
        </p:nvSpPr>
        <p:spPr>
          <a:xfrm>
            <a:off x="609480" y="5638680"/>
            <a:ext cx="8001000" cy="723960"/>
          </a:xfrm>
          <a:custGeom>
            <a:avLst/>
            <a:gdLst/>
            <a:ahLst/>
            <a:rect l="l" t="t" r="r" b="b"/>
            <a:pathLst>
              <a:path w="5040" h="456">
                <a:moveTo>
                  <a:pt x="0" y="440"/>
                </a:moveTo>
                <a:cubicBezTo>
                  <a:pt x="168" y="376"/>
                  <a:pt x="336" y="312"/>
                  <a:pt x="528" y="296"/>
                </a:cubicBezTo>
                <a:cubicBezTo>
                  <a:pt x="720" y="280"/>
                  <a:pt x="992" y="336"/>
                  <a:pt x="1152" y="344"/>
                </a:cubicBezTo>
                <a:cubicBezTo>
                  <a:pt x="1312" y="352"/>
                  <a:pt x="1392" y="344"/>
                  <a:pt x="1488" y="344"/>
                </a:cubicBezTo>
                <a:cubicBezTo>
                  <a:pt x="1584" y="344"/>
                  <a:pt x="1608" y="344"/>
                  <a:pt x="1728" y="344"/>
                </a:cubicBezTo>
                <a:cubicBezTo>
                  <a:pt x="1848" y="344"/>
                  <a:pt x="2016" y="352"/>
                  <a:pt x="2208" y="344"/>
                </a:cubicBezTo>
                <a:cubicBezTo>
                  <a:pt x="2400" y="336"/>
                  <a:pt x="2752" y="304"/>
                  <a:pt x="2880" y="296"/>
                </a:cubicBezTo>
                <a:cubicBezTo>
                  <a:pt x="3008" y="288"/>
                  <a:pt x="2880" y="272"/>
                  <a:pt x="2976" y="296"/>
                </a:cubicBezTo>
                <a:cubicBezTo>
                  <a:pt x="3072" y="320"/>
                  <a:pt x="3280" y="424"/>
                  <a:pt x="3456" y="440"/>
                </a:cubicBezTo>
                <a:cubicBezTo>
                  <a:pt x="3632" y="456"/>
                  <a:pt x="3808" y="448"/>
                  <a:pt x="4032" y="392"/>
                </a:cubicBezTo>
                <a:cubicBezTo>
                  <a:pt x="4256" y="336"/>
                  <a:pt x="4656" y="168"/>
                  <a:pt x="4800" y="104"/>
                </a:cubicBezTo>
                <a:cubicBezTo>
                  <a:pt x="4944" y="40"/>
                  <a:pt x="4856" y="16"/>
                  <a:pt x="4896" y="8"/>
                </a:cubicBezTo>
                <a:cubicBezTo>
                  <a:pt x="4936" y="0"/>
                  <a:pt x="4988" y="28"/>
                  <a:pt x="5040" y="56"/>
                </a:cubicBezTo>
              </a:path>
            </a:pathLst>
          </a:custGeom>
          <a:noFill/>
          <a:ln w="2844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7"/>
          <p:cNvSpPr/>
          <p:nvPr/>
        </p:nvSpPr>
        <p:spPr>
          <a:xfrm>
            <a:off x="609480" y="6134040"/>
            <a:ext cx="8153640" cy="647640"/>
          </a:xfrm>
          <a:custGeom>
            <a:avLst/>
            <a:gdLst/>
            <a:ahLst/>
            <a:rect l="l" t="t" r="r" b="b"/>
            <a:pathLst>
              <a:path w="5136" h="408">
                <a:moveTo>
                  <a:pt x="0" y="408"/>
                </a:moveTo>
                <a:cubicBezTo>
                  <a:pt x="112" y="344"/>
                  <a:pt x="224" y="280"/>
                  <a:pt x="384" y="264"/>
                </a:cubicBezTo>
                <a:cubicBezTo>
                  <a:pt x="544" y="248"/>
                  <a:pt x="672" y="312"/>
                  <a:pt x="960" y="312"/>
                </a:cubicBezTo>
                <a:cubicBezTo>
                  <a:pt x="1248" y="312"/>
                  <a:pt x="1776" y="264"/>
                  <a:pt x="2112" y="264"/>
                </a:cubicBezTo>
                <a:cubicBezTo>
                  <a:pt x="2448" y="264"/>
                  <a:pt x="2752" y="296"/>
                  <a:pt x="2976" y="312"/>
                </a:cubicBezTo>
                <a:cubicBezTo>
                  <a:pt x="3200" y="328"/>
                  <a:pt x="3184" y="376"/>
                  <a:pt x="3456" y="360"/>
                </a:cubicBezTo>
                <a:cubicBezTo>
                  <a:pt x="3728" y="344"/>
                  <a:pt x="4384" y="272"/>
                  <a:pt x="4608" y="216"/>
                </a:cubicBezTo>
                <a:cubicBezTo>
                  <a:pt x="4832" y="160"/>
                  <a:pt x="4712" y="48"/>
                  <a:pt x="4800" y="24"/>
                </a:cubicBezTo>
                <a:cubicBezTo>
                  <a:pt x="4888" y="0"/>
                  <a:pt x="5080" y="72"/>
                  <a:pt x="5136" y="72"/>
                </a:cubicBezTo>
              </a:path>
            </a:pathLst>
          </a:custGeom>
          <a:noFill/>
          <a:ln w="2844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20"/>
          <p:cNvSpPr/>
          <p:nvPr/>
        </p:nvSpPr>
        <p:spPr>
          <a:xfrm>
            <a:off x="533520" y="6248520"/>
            <a:ext cx="7772400" cy="622080"/>
          </a:xfrm>
          <a:custGeom>
            <a:avLst/>
            <a:gdLst/>
            <a:ahLst/>
            <a:rect l="l" t="t" r="r" b="b"/>
            <a:pathLst>
              <a:path w="4896" h="392">
                <a:moveTo>
                  <a:pt x="0" y="240"/>
                </a:moveTo>
                <a:cubicBezTo>
                  <a:pt x="168" y="172"/>
                  <a:pt x="336" y="104"/>
                  <a:pt x="720" y="96"/>
                </a:cubicBezTo>
                <a:cubicBezTo>
                  <a:pt x="1104" y="88"/>
                  <a:pt x="1968" y="192"/>
                  <a:pt x="2304" y="192"/>
                </a:cubicBezTo>
                <a:cubicBezTo>
                  <a:pt x="2640" y="192"/>
                  <a:pt x="2480" y="120"/>
                  <a:pt x="2736" y="96"/>
                </a:cubicBezTo>
                <a:cubicBezTo>
                  <a:pt x="2992" y="72"/>
                  <a:pt x="3536" y="0"/>
                  <a:pt x="3840" y="48"/>
                </a:cubicBezTo>
                <a:cubicBezTo>
                  <a:pt x="4144" y="96"/>
                  <a:pt x="4384" y="392"/>
                  <a:pt x="4560" y="384"/>
                </a:cubicBezTo>
                <a:cubicBezTo>
                  <a:pt x="4736" y="376"/>
                  <a:pt x="4840" y="64"/>
                  <a:pt x="4896" y="0"/>
                </a:cubicBezTo>
              </a:path>
            </a:pathLst>
          </a:custGeom>
          <a:noFill/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21"/>
          <p:cNvSpPr/>
          <p:nvPr/>
        </p:nvSpPr>
        <p:spPr>
          <a:xfrm>
            <a:off x="457200" y="6019920"/>
            <a:ext cx="8153280" cy="838080"/>
          </a:xfrm>
          <a:custGeom>
            <a:avLst/>
            <a:gdLst/>
            <a:ahLst/>
            <a:rect l="l" t="t" r="r" b="b"/>
            <a:pathLst>
              <a:path w="5136" h="528">
                <a:moveTo>
                  <a:pt x="0" y="288"/>
                </a:moveTo>
                <a:lnTo>
                  <a:pt x="1152" y="96"/>
                </a:lnTo>
                <a:lnTo>
                  <a:pt x="2400" y="144"/>
                </a:lnTo>
                <a:lnTo>
                  <a:pt x="3168" y="144"/>
                </a:lnTo>
                <a:lnTo>
                  <a:pt x="4224" y="0"/>
                </a:lnTo>
                <a:lnTo>
                  <a:pt x="4848" y="48"/>
                </a:lnTo>
                <a:lnTo>
                  <a:pt x="4848" y="288"/>
                </a:lnTo>
                <a:lnTo>
                  <a:pt x="5136" y="336"/>
                </a:lnTo>
                <a:lnTo>
                  <a:pt x="4800" y="528"/>
                </a:lnTo>
                <a:lnTo>
                  <a:pt x="2448" y="480"/>
                </a:lnTo>
                <a:lnTo>
                  <a:pt x="1632" y="480"/>
                </a:lnTo>
                <a:lnTo>
                  <a:pt x="384" y="528"/>
                </a:lnTo>
                <a:lnTo>
                  <a:pt x="576" y="240"/>
                </a:lnTo>
                <a:lnTo>
                  <a:pt x="0" y="28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3"/>
          <p:cNvSpPr/>
          <p:nvPr/>
        </p:nvSpPr>
        <p:spPr>
          <a:xfrm>
            <a:off x="228600" y="6477120"/>
            <a:ext cx="1511280" cy="75960"/>
          </a:xfrm>
          <a:custGeom>
            <a:avLst/>
            <a:gdLst/>
            <a:ahLst/>
            <a:rect l="l" t="t" r="r" b="b"/>
            <a:pathLst>
              <a:path w="952" h="48">
                <a:moveTo>
                  <a:pt x="0" y="48"/>
                </a:moveTo>
                <a:cubicBezTo>
                  <a:pt x="116" y="24"/>
                  <a:pt x="232" y="0"/>
                  <a:pt x="384" y="0"/>
                </a:cubicBezTo>
                <a:cubicBezTo>
                  <a:pt x="536" y="0"/>
                  <a:pt x="872" y="48"/>
                  <a:pt x="912" y="48"/>
                </a:cubicBezTo>
                <a:cubicBezTo>
                  <a:pt x="952" y="48"/>
                  <a:pt x="664" y="8"/>
                  <a:pt x="624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5"/>
          <p:cNvSpPr/>
          <p:nvPr/>
        </p:nvSpPr>
        <p:spPr>
          <a:xfrm>
            <a:off x="-76320" y="5827680"/>
            <a:ext cx="9296640" cy="1106640"/>
          </a:xfrm>
          <a:custGeom>
            <a:avLst/>
            <a:gdLst/>
            <a:ahLst/>
            <a:rect l="l" t="t" r="r" b="b"/>
            <a:pathLst>
              <a:path w="5856" h="697">
                <a:moveTo>
                  <a:pt x="273" y="198"/>
                </a:moveTo>
                <a:cubicBezTo>
                  <a:pt x="365" y="194"/>
                  <a:pt x="457" y="195"/>
                  <a:pt x="549" y="186"/>
                </a:cubicBezTo>
                <a:cubicBezTo>
                  <a:pt x="579" y="183"/>
                  <a:pt x="637" y="161"/>
                  <a:pt x="637" y="161"/>
                </a:cubicBezTo>
                <a:cubicBezTo>
                  <a:pt x="1250" y="63"/>
                  <a:pt x="1342" y="0"/>
                  <a:pt x="1814" y="23"/>
                </a:cubicBezTo>
                <a:cubicBezTo>
                  <a:pt x="1922" y="58"/>
                  <a:pt x="2040" y="54"/>
                  <a:pt x="2152" y="73"/>
                </a:cubicBezTo>
                <a:cubicBezTo>
                  <a:pt x="2162" y="104"/>
                  <a:pt x="2178" y="170"/>
                  <a:pt x="2227" y="161"/>
                </a:cubicBezTo>
                <a:cubicBezTo>
                  <a:pt x="2239" y="159"/>
                  <a:pt x="2244" y="144"/>
                  <a:pt x="2252" y="136"/>
                </a:cubicBezTo>
                <a:lnTo>
                  <a:pt x="1728" y="217"/>
                </a:lnTo>
                <a:lnTo>
                  <a:pt x="1728" y="313"/>
                </a:lnTo>
                <a:lnTo>
                  <a:pt x="4656" y="217"/>
                </a:lnTo>
                <a:lnTo>
                  <a:pt x="5856" y="169"/>
                </a:lnTo>
                <a:lnTo>
                  <a:pt x="5856" y="697"/>
                </a:lnTo>
                <a:lnTo>
                  <a:pt x="0" y="697"/>
                </a:lnTo>
                <a:lnTo>
                  <a:pt x="48" y="313"/>
                </a:lnTo>
                <a:lnTo>
                  <a:pt x="48" y="169"/>
                </a:lnTo>
                <a:lnTo>
                  <a:pt x="273" y="198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6"/>
          <p:cNvSpPr/>
          <p:nvPr/>
        </p:nvSpPr>
        <p:spPr>
          <a:xfrm>
            <a:off x="-20520" y="6300720"/>
            <a:ext cx="41040" cy="39600"/>
          </a:xfrm>
          <a:custGeom>
            <a:avLst/>
            <a:gdLst/>
            <a:ahLst/>
            <a:rect l="l" t="t" r="r" b="b"/>
            <a:pathLst>
              <a:path w="26" h="25">
                <a:moveTo>
                  <a:pt x="26" y="25"/>
                </a:moveTo>
                <a:cubicBezTo>
                  <a:pt x="17" y="17"/>
                  <a:pt x="0" y="0"/>
                  <a:pt x="0" y="0"/>
                </a:cubicBezTo>
                <a:cubicBezTo>
                  <a:pt x="0" y="0"/>
                  <a:pt x="17" y="17"/>
                  <a:pt x="26" y="2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7"/>
          <p:cNvSpPr/>
          <p:nvPr/>
        </p:nvSpPr>
        <p:spPr>
          <a:xfrm>
            <a:off x="-368280" y="6053040"/>
            <a:ext cx="9667800" cy="1024200"/>
          </a:xfrm>
          <a:custGeom>
            <a:avLst/>
            <a:gdLst/>
            <a:ahLst/>
            <a:rect l="l" t="t" r="r" b="b"/>
            <a:pathLst>
              <a:path w="6090" h="645">
                <a:moveTo>
                  <a:pt x="307" y="206"/>
                </a:moveTo>
                <a:cubicBezTo>
                  <a:pt x="422" y="218"/>
                  <a:pt x="532" y="199"/>
                  <a:pt x="645" y="219"/>
                </a:cubicBezTo>
                <a:cubicBezTo>
                  <a:pt x="699" y="215"/>
                  <a:pt x="754" y="214"/>
                  <a:pt x="808" y="206"/>
                </a:cubicBezTo>
                <a:cubicBezTo>
                  <a:pt x="893" y="194"/>
                  <a:pt x="973" y="157"/>
                  <a:pt x="1058" y="144"/>
                </a:cubicBezTo>
                <a:cubicBezTo>
                  <a:pt x="1116" y="135"/>
                  <a:pt x="1264" y="121"/>
                  <a:pt x="1309" y="106"/>
                </a:cubicBezTo>
                <a:cubicBezTo>
                  <a:pt x="1384" y="81"/>
                  <a:pt x="1431" y="68"/>
                  <a:pt x="1509" y="56"/>
                </a:cubicBezTo>
                <a:cubicBezTo>
                  <a:pt x="1530" y="59"/>
                  <a:pt x="1676" y="73"/>
                  <a:pt x="1697" y="94"/>
                </a:cubicBezTo>
                <a:cubicBezTo>
                  <a:pt x="1708" y="105"/>
                  <a:pt x="1672" y="111"/>
                  <a:pt x="1659" y="119"/>
                </a:cubicBezTo>
                <a:cubicBezTo>
                  <a:pt x="1594" y="319"/>
                  <a:pt x="1924" y="240"/>
                  <a:pt x="2023" y="244"/>
                </a:cubicBezTo>
                <a:cubicBezTo>
                  <a:pt x="2119" y="248"/>
                  <a:pt x="2215" y="253"/>
                  <a:pt x="2311" y="257"/>
                </a:cubicBezTo>
                <a:cubicBezTo>
                  <a:pt x="2452" y="207"/>
                  <a:pt x="2604" y="282"/>
                  <a:pt x="2749" y="244"/>
                </a:cubicBezTo>
                <a:cubicBezTo>
                  <a:pt x="2883" y="248"/>
                  <a:pt x="3016" y="260"/>
                  <a:pt x="3150" y="257"/>
                </a:cubicBezTo>
                <a:cubicBezTo>
                  <a:pt x="3205" y="256"/>
                  <a:pt x="3312" y="232"/>
                  <a:pt x="3312" y="232"/>
                </a:cubicBezTo>
                <a:cubicBezTo>
                  <a:pt x="3725" y="254"/>
                  <a:pt x="4140" y="227"/>
                  <a:pt x="4552" y="194"/>
                </a:cubicBezTo>
                <a:cubicBezTo>
                  <a:pt x="4656" y="198"/>
                  <a:pt x="4761" y="206"/>
                  <a:pt x="4865" y="206"/>
                </a:cubicBezTo>
                <a:cubicBezTo>
                  <a:pt x="4924" y="206"/>
                  <a:pt x="4981" y="185"/>
                  <a:pt x="5040" y="181"/>
                </a:cubicBezTo>
                <a:cubicBezTo>
                  <a:pt x="5119" y="175"/>
                  <a:pt x="5199" y="173"/>
                  <a:pt x="5278" y="169"/>
                </a:cubicBezTo>
                <a:cubicBezTo>
                  <a:pt x="6024" y="184"/>
                  <a:pt x="5811" y="0"/>
                  <a:pt x="5929" y="294"/>
                </a:cubicBezTo>
                <a:cubicBezTo>
                  <a:pt x="5943" y="253"/>
                  <a:pt x="5934" y="197"/>
                  <a:pt x="5967" y="169"/>
                </a:cubicBezTo>
                <a:cubicBezTo>
                  <a:pt x="5983" y="155"/>
                  <a:pt x="6009" y="177"/>
                  <a:pt x="6030" y="181"/>
                </a:cubicBezTo>
                <a:cubicBezTo>
                  <a:pt x="6026" y="306"/>
                  <a:pt x="6090" y="455"/>
                  <a:pt x="6017" y="557"/>
                </a:cubicBezTo>
                <a:cubicBezTo>
                  <a:pt x="5966" y="629"/>
                  <a:pt x="5842" y="566"/>
                  <a:pt x="5754" y="570"/>
                </a:cubicBezTo>
                <a:cubicBezTo>
                  <a:pt x="5646" y="575"/>
                  <a:pt x="5537" y="578"/>
                  <a:pt x="5429" y="582"/>
                </a:cubicBezTo>
                <a:cubicBezTo>
                  <a:pt x="4764" y="645"/>
                  <a:pt x="4110" y="639"/>
                  <a:pt x="3438" y="645"/>
                </a:cubicBezTo>
                <a:cubicBezTo>
                  <a:pt x="2553" y="641"/>
                  <a:pt x="1668" y="640"/>
                  <a:pt x="783" y="632"/>
                </a:cubicBezTo>
                <a:cubicBezTo>
                  <a:pt x="555" y="630"/>
                  <a:pt x="322" y="585"/>
                  <a:pt x="94" y="570"/>
                </a:cubicBezTo>
                <a:cubicBezTo>
                  <a:pt x="69" y="566"/>
                  <a:pt x="25" y="582"/>
                  <a:pt x="19" y="557"/>
                </a:cubicBezTo>
                <a:cubicBezTo>
                  <a:pt x="0" y="480"/>
                  <a:pt x="26" y="398"/>
                  <a:pt x="32" y="319"/>
                </a:cubicBezTo>
                <a:cubicBezTo>
                  <a:pt x="38" y="234"/>
                  <a:pt x="47" y="160"/>
                  <a:pt x="132" y="131"/>
                </a:cubicBezTo>
                <a:cubicBezTo>
                  <a:pt x="157" y="135"/>
                  <a:pt x="185" y="131"/>
                  <a:pt x="207" y="144"/>
                </a:cubicBezTo>
                <a:cubicBezTo>
                  <a:pt x="218" y="150"/>
                  <a:pt x="210" y="172"/>
                  <a:pt x="219" y="181"/>
                </a:cubicBezTo>
                <a:cubicBezTo>
                  <a:pt x="230" y="192"/>
                  <a:pt x="319" y="206"/>
                  <a:pt x="320" y="206"/>
                </a:cubicBezTo>
                <a:cubicBezTo>
                  <a:pt x="328" y="215"/>
                  <a:pt x="345" y="244"/>
                  <a:pt x="345" y="232"/>
                </a:cubicBezTo>
                <a:cubicBezTo>
                  <a:pt x="345" y="217"/>
                  <a:pt x="333" y="203"/>
                  <a:pt x="320" y="194"/>
                </a:cubicBezTo>
                <a:cubicBezTo>
                  <a:pt x="315" y="191"/>
                  <a:pt x="311" y="202"/>
                  <a:pt x="307" y="20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28"/>
          <p:cNvSpPr/>
          <p:nvPr/>
        </p:nvSpPr>
        <p:spPr>
          <a:xfrm>
            <a:off x="112680" y="6184800"/>
            <a:ext cx="7367760" cy="444600"/>
          </a:xfrm>
          <a:custGeom>
            <a:avLst/>
            <a:gdLst/>
            <a:ahLst/>
            <a:rect l="l" t="t" r="r" b="b"/>
            <a:pathLst>
              <a:path w="4641" h="336">
                <a:moveTo>
                  <a:pt x="42" y="98"/>
                </a:moveTo>
                <a:cubicBezTo>
                  <a:pt x="218" y="129"/>
                  <a:pt x="427" y="83"/>
                  <a:pt x="605" y="73"/>
                </a:cubicBezTo>
                <a:cubicBezTo>
                  <a:pt x="835" y="0"/>
                  <a:pt x="1092" y="70"/>
                  <a:pt x="1331" y="86"/>
                </a:cubicBezTo>
                <a:cubicBezTo>
                  <a:pt x="1376" y="75"/>
                  <a:pt x="1409" y="59"/>
                  <a:pt x="1457" y="86"/>
                </a:cubicBezTo>
                <a:cubicBezTo>
                  <a:pt x="1468" y="92"/>
                  <a:pt x="1482" y="122"/>
                  <a:pt x="1469" y="123"/>
                </a:cubicBezTo>
                <a:cubicBezTo>
                  <a:pt x="1385" y="127"/>
                  <a:pt x="1219" y="98"/>
                  <a:pt x="1219" y="98"/>
                </a:cubicBezTo>
                <a:cubicBezTo>
                  <a:pt x="1165" y="102"/>
                  <a:pt x="1108" y="94"/>
                  <a:pt x="1056" y="111"/>
                </a:cubicBezTo>
                <a:cubicBezTo>
                  <a:pt x="1028" y="120"/>
                  <a:pt x="1114" y="123"/>
                  <a:pt x="1144" y="123"/>
                </a:cubicBezTo>
                <a:cubicBezTo>
                  <a:pt x="1223" y="123"/>
                  <a:pt x="1303" y="115"/>
                  <a:pt x="1382" y="111"/>
                </a:cubicBezTo>
                <a:cubicBezTo>
                  <a:pt x="1729" y="132"/>
                  <a:pt x="1985" y="142"/>
                  <a:pt x="2371" y="149"/>
                </a:cubicBezTo>
                <a:cubicBezTo>
                  <a:pt x="2650" y="168"/>
                  <a:pt x="2930" y="173"/>
                  <a:pt x="3210" y="186"/>
                </a:cubicBezTo>
                <a:cubicBezTo>
                  <a:pt x="3285" y="194"/>
                  <a:pt x="3362" y="192"/>
                  <a:pt x="3435" y="211"/>
                </a:cubicBezTo>
                <a:cubicBezTo>
                  <a:pt x="3489" y="225"/>
                  <a:pt x="3530" y="276"/>
                  <a:pt x="3585" y="286"/>
                </a:cubicBezTo>
                <a:cubicBezTo>
                  <a:pt x="3708" y="309"/>
                  <a:pt x="3836" y="303"/>
                  <a:pt x="3961" y="311"/>
                </a:cubicBezTo>
                <a:cubicBezTo>
                  <a:pt x="4123" y="270"/>
                  <a:pt x="4287" y="288"/>
                  <a:pt x="4449" y="249"/>
                </a:cubicBezTo>
                <a:cubicBezTo>
                  <a:pt x="4503" y="257"/>
                  <a:pt x="4565" y="246"/>
                  <a:pt x="4612" y="274"/>
                </a:cubicBezTo>
                <a:cubicBezTo>
                  <a:pt x="4641" y="291"/>
                  <a:pt x="4545" y="283"/>
                  <a:pt x="4512" y="286"/>
                </a:cubicBezTo>
                <a:cubicBezTo>
                  <a:pt x="4454" y="291"/>
                  <a:pt x="4395" y="294"/>
                  <a:pt x="4337" y="299"/>
                </a:cubicBezTo>
                <a:cubicBezTo>
                  <a:pt x="4182" y="313"/>
                  <a:pt x="4028" y="326"/>
                  <a:pt x="3873" y="336"/>
                </a:cubicBezTo>
                <a:cubicBezTo>
                  <a:pt x="3514" y="327"/>
                  <a:pt x="3154" y="323"/>
                  <a:pt x="2796" y="299"/>
                </a:cubicBezTo>
                <a:cubicBezTo>
                  <a:pt x="2632" y="312"/>
                  <a:pt x="2486" y="292"/>
                  <a:pt x="2321" y="286"/>
                </a:cubicBezTo>
                <a:cubicBezTo>
                  <a:pt x="1961" y="272"/>
                  <a:pt x="1313" y="266"/>
                  <a:pt x="1018" y="261"/>
                </a:cubicBezTo>
                <a:cubicBezTo>
                  <a:pt x="925" y="252"/>
                  <a:pt x="879" y="270"/>
                  <a:pt x="831" y="199"/>
                </a:cubicBezTo>
                <a:cubicBezTo>
                  <a:pt x="606" y="214"/>
                  <a:pt x="431" y="221"/>
                  <a:pt x="204" y="199"/>
                </a:cubicBezTo>
                <a:cubicBezTo>
                  <a:pt x="187" y="191"/>
                  <a:pt x="171" y="181"/>
                  <a:pt x="154" y="174"/>
                </a:cubicBezTo>
                <a:cubicBezTo>
                  <a:pt x="138" y="168"/>
                  <a:pt x="117" y="172"/>
                  <a:pt x="104" y="161"/>
                </a:cubicBezTo>
                <a:cubicBezTo>
                  <a:pt x="94" y="153"/>
                  <a:pt x="100" y="134"/>
                  <a:pt x="92" y="123"/>
                </a:cubicBezTo>
                <a:cubicBezTo>
                  <a:pt x="70" y="95"/>
                  <a:pt x="47" y="67"/>
                  <a:pt x="17" y="48"/>
                </a:cubicBezTo>
                <a:cubicBezTo>
                  <a:pt x="0" y="37"/>
                  <a:pt x="45" y="79"/>
                  <a:pt x="54" y="98"/>
                </a:cubicBezTo>
                <a:cubicBezTo>
                  <a:pt x="56" y="102"/>
                  <a:pt x="46" y="98"/>
                  <a:pt x="42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29"/>
          <p:cNvSpPr/>
          <p:nvPr/>
        </p:nvSpPr>
        <p:spPr>
          <a:xfrm>
            <a:off x="-228600" y="6315120"/>
            <a:ext cx="9448920" cy="549360"/>
          </a:xfrm>
          <a:custGeom>
            <a:avLst/>
            <a:gdLst/>
            <a:ahLst/>
            <a:rect l="l" t="t" r="r" b="b"/>
            <a:pathLst>
              <a:path w="5584" h="346">
                <a:moveTo>
                  <a:pt x="0" y="204"/>
                </a:moveTo>
                <a:cubicBezTo>
                  <a:pt x="115" y="163"/>
                  <a:pt x="201" y="144"/>
                  <a:pt x="313" y="117"/>
                </a:cubicBezTo>
                <a:cubicBezTo>
                  <a:pt x="342" y="121"/>
                  <a:pt x="371" y="123"/>
                  <a:pt x="400" y="129"/>
                </a:cubicBezTo>
                <a:cubicBezTo>
                  <a:pt x="413" y="132"/>
                  <a:pt x="425" y="142"/>
                  <a:pt x="438" y="142"/>
                </a:cubicBezTo>
                <a:cubicBezTo>
                  <a:pt x="455" y="142"/>
                  <a:pt x="471" y="131"/>
                  <a:pt x="488" y="129"/>
                </a:cubicBezTo>
                <a:cubicBezTo>
                  <a:pt x="529" y="123"/>
                  <a:pt x="571" y="121"/>
                  <a:pt x="613" y="117"/>
                </a:cubicBezTo>
                <a:cubicBezTo>
                  <a:pt x="844" y="69"/>
                  <a:pt x="1091" y="94"/>
                  <a:pt x="1327" y="79"/>
                </a:cubicBezTo>
                <a:cubicBezTo>
                  <a:pt x="1511" y="89"/>
                  <a:pt x="1682" y="114"/>
                  <a:pt x="1865" y="129"/>
                </a:cubicBezTo>
                <a:cubicBezTo>
                  <a:pt x="2156" y="225"/>
                  <a:pt x="2454" y="233"/>
                  <a:pt x="2754" y="217"/>
                </a:cubicBezTo>
                <a:cubicBezTo>
                  <a:pt x="3056" y="178"/>
                  <a:pt x="2561" y="238"/>
                  <a:pt x="3268" y="192"/>
                </a:cubicBezTo>
                <a:cubicBezTo>
                  <a:pt x="3319" y="189"/>
                  <a:pt x="3367" y="171"/>
                  <a:pt x="3418" y="167"/>
                </a:cubicBezTo>
                <a:cubicBezTo>
                  <a:pt x="3568" y="155"/>
                  <a:pt x="3869" y="142"/>
                  <a:pt x="3869" y="142"/>
                </a:cubicBezTo>
                <a:cubicBezTo>
                  <a:pt x="4035" y="113"/>
                  <a:pt x="4203" y="108"/>
                  <a:pt x="4370" y="92"/>
                </a:cubicBezTo>
                <a:cubicBezTo>
                  <a:pt x="4525" y="53"/>
                  <a:pt x="4676" y="88"/>
                  <a:pt x="4833" y="67"/>
                </a:cubicBezTo>
                <a:cubicBezTo>
                  <a:pt x="5061" y="0"/>
                  <a:pt x="5316" y="34"/>
                  <a:pt x="5547" y="41"/>
                </a:cubicBezTo>
                <a:cubicBezTo>
                  <a:pt x="5490" y="127"/>
                  <a:pt x="5529" y="52"/>
                  <a:pt x="5559" y="67"/>
                </a:cubicBezTo>
                <a:cubicBezTo>
                  <a:pt x="5561" y="68"/>
                  <a:pt x="5584" y="141"/>
                  <a:pt x="5584" y="142"/>
                </a:cubicBezTo>
                <a:cubicBezTo>
                  <a:pt x="5328" y="268"/>
                  <a:pt x="5214" y="197"/>
                  <a:pt x="4821" y="204"/>
                </a:cubicBezTo>
                <a:cubicBezTo>
                  <a:pt x="4683" y="222"/>
                  <a:pt x="4545" y="238"/>
                  <a:pt x="4407" y="254"/>
                </a:cubicBezTo>
                <a:cubicBezTo>
                  <a:pt x="4288" y="284"/>
                  <a:pt x="4181" y="304"/>
                  <a:pt x="4057" y="317"/>
                </a:cubicBezTo>
                <a:cubicBezTo>
                  <a:pt x="3998" y="313"/>
                  <a:pt x="3939" y="315"/>
                  <a:pt x="3881" y="304"/>
                </a:cubicBezTo>
                <a:cubicBezTo>
                  <a:pt x="3854" y="299"/>
                  <a:pt x="3834" y="271"/>
                  <a:pt x="3806" y="267"/>
                </a:cubicBezTo>
                <a:cubicBezTo>
                  <a:pt x="3699" y="250"/>
                  <a:pt x="3589" y="250"/>
                  <a:pt x="3481" y="242"/>
                </a:cubicBezTo>
                <a:cubicBezTo>
                  <a:pt x="3088" y="269"/>
                  <a:pt x="2699" y="283"/>
                  <a:pt x="2304" y="292"/>
                </a:cubicBezTo>
                <a:cubicBezTo>
                  <a:pt x="1971" y="337"/>
                  <a:pt x="1605" y="323"/>
                  <a:pt x="1277" y="329"/>
                </a:cubicBezTo>
                <a:cubicBezTo>
                  <a:pt x="1248" y="325"/>
                  <a:pt x="1183" y="346"/>
                  <a:pt x="1189" y="317"/>
                </a:cubicBezTo>
                <a:cubicBezTo>
                  <a:pt x="1196" y="280"/>
                  <a:pt x="1255" y="282"/>
                  <a:pt x="1289" y="267"/>
                </a:cubicBezTo>
                <a:cubicBezTo>
                  <a:pt x="1347" y="241"/>
                  <a:pt x="1405" y="214"/>
                  <a:pt x="1465" y="192"/>
                </a:cubicBezTo>
                <a:cubicBezTo>
                  <a:pt x="1497" y="180"/>
                  <a:pt x="1599" y="168"/>
                  <a:pt x="1565" y="167"/>
                </a:cubicBezTo>
                <a:cubicBezTo>
                  <a:pt x="1423" y="161"/>
                  <a:pt x="1281" y="175"/>
                  <a:pt x="1139" y="179"/>
                </a:cubicBezTo>
                <a:cubicBezTo>
                  <a:pt x="781" y="241"/>
                  <a:pt x="355" y="212"/>
                  <a:pt x="25" y="217"/>
                </a:cubicBezTo>
                <a:cubicBezTo>
                  <a:pt x="54" y="234"/>
                  <a:pt x="86" y="246"/>
                  <a:pt x="112" y="267"/>
                </a:cubicBezTo>
                <a:cubicBezTo>
                  <a:pt x="124" y="276"/>
                  <a:pt x="148" y="293"/>
                  <a:pt x="137" y="304"/>
                </a:cubicBezTo>
                <a:cubicBezTo>
                  <a:pt x="126" y="315"/>
                  <a:pt x="111" y="289"/>
                  <a:pt x="100" y="279"/>
                </a:cubicBezTo>
                <a:cubicBezTo>
                  <a:pt x="13" y="204"/>
                  <a:pt x="90" y="249"/>
                  <a:pt x="0" y="204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3"/>
          <p:cNvSpPr/>
          <p:nvPr/>
        </p:nvSpPr>
        <p:spPr>
          <a:xfrm>
            <a:off x="6629400" y="4038480"/>
            <a:ext cx="76320" cy="1295640"/>
          </a:xfrm>
          <a:prstGeom prst="downArrow">
            <a:avLst>
              <a:gd name="adj1" fmla="val 50000"/>
              <a:gd name="adj2" fmla="val 42441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321372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高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6"/>
          <p:cNvSpPr/>
          <p:nvPr/>
        </p:nvSpPr>
        <p:spPr>
          <a:xfrm>
            <a:off x="6566400" y="3200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矮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9"/>
          <p:cNvSpPr/>
          <p:nvPr/>
        </p:nvSpPr>
        <p:spPr>
          <a:xfrm>
            <a:off x="3429000" y="2286000"/>
            <a:ext cx="76320" cy="1219320"/>
          </a:xfrm>
          <a:prstGeom prst="downArrow">
            <a:avLst>
              <a:gd name="adj1" fmla="val 50000"/>
              <a:gd name="adj2" fmla="val 39941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3"/>
          <p:cNvSpPr/>
          <p:nvPr/>
        </p:nvSpPr>
        <p:spPr>
          <a:xfrm>
            <a:off x="4055760" y="1600200"/>
            <a:ext cx="91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浅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4"/>
          <p:cNvSpPr/>
          <p:nvPr/>
        </p:nvSpPr>
        <p:spPr>
          <a:xfrm>
            <a:off x="7408440" y="3200400"/>
            <a:ext cx="91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深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6" descr="j0095742"/>
          <p:cNvPicPr/>
          <p:nvPr/>
        </p:nvPicPr>
        <p:blipFill>
          <a:blip r:embed="rId6"/>
          <a:stretch/>
        </p:blipFill>
        <p:spPr>
          <a:xfrm>
            <a:off x="6248520" y="5334120"/>
            <a:ext cx="119988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3"/>
          <p:cNvSpPr/>
          <p:nvPr/>
        </p:nvSpPr>
        <p:spPr>
          <a:xfrm>
            <a:off x="684360" y="549360"/>
            <a:ext cx="78483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因为老牛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      )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，所以它觉得水很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因为松鼠 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     )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，所以它觉得水很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原来河水既不像老牛说的那样（     ），也不像松鼠说的那样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      )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5FA6-61B7-4FA8-8754-B4C002A4C6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0"/>
            <a:ext cx="8964720" cy="9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b200"/>
                </a:solidFill>
                <a:latin typeface="Times New Roman"/>
                <a:ea typeface="楷体_GB2312"/>
              </a:rPr>
              <a:t>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子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驮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挡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哗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淹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死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气    马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坊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没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    亲</a:t>
            </a:r>
            <a:r>
              <a:rPr b="1" lang="zh-CN" sz="4800" spc="-1" strike="noStrike" u="sng">
                <a:solidFill>
                  <a:srgbClr val="00b200"/>
                </a:solidFill>
                <a:uFillTx/>
                <a:latin typeface="Times New Roman"/>
                <a:ea typeface="楷体_GB2312"/>
              </a:rPr>
              <a:t>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b200"/>
                </a:solidFill>
                <a:latin typeface="Times New Roman"/>
                <a:ea typeface="楷体_GB2312"/>
              </a:rPr>
              <a:t>深浅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b200"/>
                </a:solidFill>
                <a:latin typeface="Times New Roman"/>
                <a:ea typeface="楷体_GB2312"/>
              </a:rPr>
              <a:t>知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道     一</a:t>
            </a:r>
            <a:r>
              <a:rPr b="1" lang="zh-CN" sz="4800" spc="-1" strike="noStrike">
                <a:solidFill>
                  <a:srgbClr val="00b200"/>
                </a:solidFill>
                <a:latin typeface="Times New Roman"/>
                <a:ea typeface="楷体_GB2312"/>
              </a:rPr>
              <a:t>条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b200"/>
                </a:solidFill>
                <a:latin typeface="Times New Roman"/>
                <a:ea typeface="楷体_GB2312"/>
              </a:rPr>
              <a:t> 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蹦带跳   难为情  试一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1187280" y="1268280"/>
            <a:ext cx="67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9900ff"/>
                </a:solidFill>
                <a:latin typeface="黑体"/>
                <a:ea typeface="黑体"/>
              </a:rPr>
              <a:t>课文先写小马要帮妈妈（         ），接着写小马在路上被（        ），问了（     ）和（      ）后，小马（     ）了，不知道该怎么办便跑回家问（    ），最后小马（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5"/>
          <p:cNvSpPr/>
          <p:nvPr/>
        </p:nvSpPr>
        <p:spPr>
          <a:xfrm>
            <a:off x="2700360" y="2768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684360" y="1125360"/>
            <a:ext cx="7489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亲切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对小马说：“孩子，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别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，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自己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动脑筋，不去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试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是不行的。河水是深是浅，你去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试一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知道了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0920" y="333360"/>
            <a:ext cx="860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问他：“怎么回来啦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马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难为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说：“一条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挡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，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过不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说：“那条河不是很浅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马说：“是啊，牛伯伯也这么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是松鼠说河水很深，还淹死过他的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伴呢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说：“那么河水到底是深还是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呢？你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仔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过他们的话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马低下了头，说：“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6492569d07762a00f08e1fa63ccd7f94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Y%}UK9VC}%N0DF{@D5D7C96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2771640" y="26028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马跑过去，问道：“牛伯伯，请您告诉我，这条河，我能趟过去吗？”老牛说：“水很浅，刚没小腿，能过去。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马听了老牛的话，立刻跑到河边，准备趟过去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$4TY(XL8]@]M(S3ZCJ}78O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250920" y="26028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松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认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说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：“深得很呢！昨天我的一个伙伴就是在这条河里淹死的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马连忙收住脚步，不知道怎么办才好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3"/>
          <p:cNvSpPr txBox="1"/>
          <p:nvPr/>
        </p:nvSpPr>
        <p:spPr>
          <a:xfrm rot="5400000">
            <a:off x="2920680" y="1983960"/>
            <a:ext cx="3230280" cy="453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96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3T14:03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6:20Z</dcterms:modified>
  <cp:revision>17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140d000000000001024120</vt:lpwstr>
  </property>
</Properties>
</file>