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11.jpeg" ContentType="image/jpeg"/>
  <Override PartName="/ppt/media/image7.png" ContentType="image/png"/>
  <Override PartName="/ppt/media/camera.wav" ContentType="audio/x-wav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move the slide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BFF4-FEBF-4328-95A4-1CB482BA512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BA79-3687-4A86-95A2-86678314B9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694D-A405-4B6F-B547-F797F76F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1CEC-25DF-42DE-BABF-F8D60FCF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4E7A-C434-4CAB-8DF4-90420291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1CD-DFFD-4E1B-812A-21E9D755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66E9-4EA3-415F-BB23-8F9A5D0A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4F3D-E523-4784-ADFE-ADE4E464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7723-B527-40BD-9EF9-A638022F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1D33-2C29-4BCB-BEAA-534D5964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CB10-D6A7-4928-BFAC-C11B8FD2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9CE1-A551-4341-B9A3-69641754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F194-8F99-4264-8FCA-9FF18CE6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0D0-E365-474F-A104-E04701FC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035D-7883-4F6C-9507-B382A829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5287-17B3-43F4-97FB-3F4834A1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A10A-1049-4106-BFF9-6A53CE85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A074-84D3-4836-A9D7-64CDAEF9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31D0-A1FB-40BD-84D8-D511E3F7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B5429-60A1-4ED1-A1D4-AD3E276C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9A5C4-23A4-46DB-B297-D9D9CBC6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F5C9D-3D1C-44A7-9FA5-1B757B6C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3C5FA-FB9A-45AD-957D-0C97A04A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EEFD9-181B-4253-82C4-301A39EB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9E9-D391-4606-BD3D-8DFEBB41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87A2D-F22B-4EAF-8D73-31D6693B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9A359-A475-48E2-94BF-B2B15745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ED6E0-7770-47C4-A09C-178BD8FB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4B465-B57F-4EB6-879C-5B97919D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324C5-8C88-446C-B69D-CAF74514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371C3-8D09-4F40-BA00-4036EDFF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7BB99-E1F9-4AF2-8A00-35BAE4B1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409B-25E3-46B3-83B7-E55F1CA8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E41F-0005-4115-834D-CC7FC8C5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A36E-69E4-4A05-87A7-3E98D389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F65E-ADCE-47D2-ACBB-97BD9816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9AF0-9AFB-4362-BCBC-25830075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3AB8-BE12-460F-8C9E-3F43F87E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pic>
        <p:nvPicPr>
          <p:cNvPr id="1" name="矩形 9" descr=""/>
          <p:cNvPicPr/>
          <p:nvPr/>
        </p:nvPicPr>
        <p:blipFill>
          <a:blip r:embed="rId3"/>
          <a:stretch/>
        </p:blipFill>
        <p:spPr>
          <a:xfrm>
            <a:off x="0" y="-101520"/>
            <a:ext cx="9144000" cy="274680"/>
          </a:xfrm>
          <a:prstGeom prst="rect">
            <a:avLst/>
          </a:prstGeom>
          <a:ln w="0">
            <a:noFill/>
          </a:ln>
        </p:spPr>
      </p:pic>
      <p:pic>
        <p:nvPicPr>
          <p:cNvPr id="2" name="矩形 10" descr=""/>
          <p:cNvPicPr/>
          <p:nvPr/>
        </p:nvPicPr>
        <p:blipFill>
          <a:blip r:embed="rId4"/>
          <a:stretch/>
        </p:blipFill>
        <p:spPr>
          <a:xfrm>
            <a:off x="0" y="-60480"/>
            <a:ext cx="4572000" cy="273240"/>
          </a:xfrm>
          <a:prstGeom prst="rect">
            <a:avLst/>
          </a:prstGeom>
          <a:ln w="0">
            <a:noFill/>
          </a:ln>
        </p:spPr>
      </p:pic>
      <p:pic>
        <p:nvPicPr>
          <p:cNvPr id="3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9DAD-04B8-4748-AFE5-B8D9D00D18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D8C1-06F1-4280-8700-739F697530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C622-38F1-42AE-9BC7-02E5AD6C97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2060"/>
                </a:solidFill>
                <a:latin typeface="Maiandra GD"/>
              </a:rPr>
              <a:t>夏日绝句</a:t>
            </a:r>
            <a:endParaRPr b="0" lang="en-US" sz="115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437920" y="3962520"/>
            <a:ext cx="3953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Cambria"/>
              </a:rPr>
              <a:t>李清照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矩形 5"/>
          <p:cNvSpPr/>
          <p:nvPr/>
        </p:nvSpPr>
        <p:spPr>
          <a:xfrm>
            <a:off x="1702440" y="586728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使用规范说明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mbri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mbria"/>
              </a:rPr>
              <a:t> </a:t>
            </a:r>
            <a:r>
              <a:rPr b="0" lang="zh-CN" sz="1400" spc="-1" strike="noStrike" u="sng">
                <a:solidFill>
                  <a:srgbClr val="0080ff"/>
                </a:solidFill>
                <a:uFillTx/>
                <a:latin typeface="Cambria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80ff"/>
                </a:solidFill>
                <a:uFillTx/>
                <a:latin typeface="Cambria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mbri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mbri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mbria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mbria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A078-D32B-4298-9537-DC56731E93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h009"/>
          <p:cNvPicPr/>
          <p:nvPr/>
        </p:nvPicPr>
        <p:blipFill>
          <a:blip r:embed="rId1"/>
          <a:stretch/>
        </p:blipFill>
        <p:spPr>
          <a:xfrm>
            <a:off x="0" y="0"/>
            <a:ext cx="32004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Oval 3"/>
          <p:cNvSpPr/>
          <p:nvPr/>
        </p:nvSpPr>
        <p:spPr>
          <a:xfrm>
            <a:off x="0" y="1243080"/>
            <a:ext cx="4038480" cy="4114800"/>
          </a:xfrm>
          <a:prstGeom prst="ellipse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038480" y="30492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1848e"/>
                </a:solidFill>
                <a:latin typeface="楷体_GB2312"/>
                <a:ea typeface="楷体_GB2312"/>
              </a:rPr>
              <a:t>李清照：（</a:t>
            </a:r>
            <a:r>
              <a:rPr b="0" lang="en-US" sz="2800" spc="-1" strike="noStrike">
                <a:solidFill>
                  <a:srgbClr val="51848e"/>
                </a:solidFill>
                <a:latin typeface="楷体_GB2312"/>
                <a:ea typeface="楷体_GB2312"/>
              </a:rPr>
              <a:t>1084</a:t>
            </a:r>
            <a:r>
              <a:rPr b="0" lang="en-US" sz="2800" spc="-1" strike="noStrike">
                <a:solidFill>
                  <a:srgbClr val="51848e"/>
                </a:solidFill>
                <a:latin typeface="Arial"/>
                <a:ea typeface="楷体_GB2312"/>
              </a:rPr>
              <a:t>—</a:t>
            </a:r>
            <a:r>
              <a:rPr b="0" lang="zh-CN" sz="2800" spc="-1" strike="noStrike">
                <a:solidFill>
                  <a:srgbClr val="51848e"/>
                </a:solidFill>
                <a:latin typeface="楷体_GB2312"/>
                <a:ea typeface="楷体_GB2312"/>
              </a:rPr>
              <a:t>约</a:t>
            </a:r>
            <a:r>
              <a:rPr b="0" lang="en-US" sz="2800" spc="-1" strike="noStrike">
                <a:solidFill>
                  <a:srgbClr val="51848e"/>
                </a:solidFill>
                <a:latin typeface="楷体_GB2312"/>
                <a:ea typeface="楷体_GB2312"/>
              </a:rPr>
              <a:t>1151</a:t>
            </a:r>
            <a:r>
              <a:rPr b="0" lang="zh-CN" sz="2800" spc="-1" strike="noStrike">
                <a:solidFill>
                  <a:srgbClr val="51848e"/>
                </a:solidFill>
                <a:latin typeface="楷体_GB2312"/>
                <a:ea typeface="楷体_GB2312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51848e"/>
                </a:solidFill>
                <a:latin typeface="楷体_GB2312"/>
                <a:ea typeface="楷体_GB2312"/>
              </a:rPr>
              <a:t>   自号易安居士，济南章丘人，著名女词人。她出身于一个具有文化传统的士大夫家庭，父亲李格非是一位散文家兼学者。十八岁时她与太学生赵明诚结婚，婚后居住在汴京，生活幸福。建炎元年，李清照因靖康之耻南下，建炎三年，赵明诚病逝于金陵，李清照只身逃难，几年后转寓临安，孤苦伶仃地度过寂寞的晚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lqz000"/>
          <p:cNvPicPr/>
          <p:nvPr/>
        </p:nvPicPr>
        <p:blipFill>
          <a:blip r:embed="rId2"/>
          <a:stretch/>
        </p:blipFill>
        <p:spPr>
          <a:xfrm>
            <a:off x="611280" y="1484280"/>
            <a:ext cx="2890800" cy="352728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1"/>
          <p:cNvSpPr/>
          <p:nvPr/>
        </p:nvSpPr>
        <p:spPr>
          <a:xfrm>
            <a:off x="2216160" y="5877000"/>
            <a:ext cx="53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h009"/>
          <p:cNvPicPr/>
          <p:nvPr/>
        </p:nvPicPr>
        <p:blipFill>
          <a:blip r:embed="rId1"/>
          <a:stretch/>
        </p:blipFill>
        <p:spPr>
          <a:xfrm>
            <a:off x="0" y="0"/>
            <a:ext cx="32004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Oval 3"/>
          <p:cNvSpPr/>
          <p:nvPr/>
        </p:nvSpPr>
        <p:spPr>
          <a:xfrm>
            <a:off x="0" y="1243080"/>
            <a:ext cx="4038480" cy="4114800"/>
          </a:xfrm>
          <a:prstGeom prst="ellipse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995640" y="54936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方正新舒体简体"/>
              </a:rPr>
              <a:t>      </a:t>
            </a:r>
            <a:r>
              <a:rPr b="0" lang="zh-CN" sz="2800" spc="-1" strike="noStrike">
                <a:solidFill>
                  <a:srgbClr val="51848e"/>
                </a:solidFill>
                <a:latin typeface="Arial"/>
                <a:ea typeface="方正楷体_GBK"/>
              </a:rPr>
              <a:t>在我国群星璀璨的历史长河中，有数不胜数的杰出的文学大家。然而，这其中能够留芳千古的女性作家却廖若晨星，李清照独出群芳，是最优秀的一个。她学识渊博，才华出众，工于诗词，长于文赋，精通音律，善作书画。在诗词创作方面，她的盛名不仅可与宋朝的苏轼、陆游、辛弃疾比肩，亦可直追前代大师如李白、杜甫、白居易等而与之齐名，跻身于中国最伟大的文学家之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lqz000"/>
          <p:cNvPicPr/>
          <p:nvPr/>
        </p:nvPicPr>
        <p:blipFill>
          <a:blip r:embed="rId2"/>
          <a:stretch/>
        </p:blipFill>
        <p:spPr>
          <a:xfrm>
            <a:off x="611280" y="1484280"/>
            <a:ext cx="28908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858920" y="907920"/>
            <a:ext cx="399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98989"/>
                </a:solidFill>
                <a:latin typeface="Cambria"/>
              </a:rPr>
              <a:t>  </a:t>
            </a:r>
            <a:r>
              <a:rPr b="1" lang="zh-CN" sz="4400" spc="-1" strike="noStrike">
                <a:solidFill>
                  <a:srgbClr val="898989"/>
                </a:solidFill>
                <a:latin typeface="Cambria"/>
              </a:rPr>
              <a:t>夏日绝句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98989"/>
                </a:solidFill>
                <a:latin typeface="Cambria"/>
              </a:rPr>
              <a:t>　</a:t>
            </a:r>
            <a:r>
              <a:rPr b="0" lang="zh-CN" sz="3600" spc="-1" strike="noStrike">
                <a:solidFill>
                  <a:srgbClr val="898989"/>
                </a:solidFill>
                <a:latin typeface="Cambria"/>
              </a:rPr>
              <a:t>［宋］李清照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98989"/>
                </a:solidFill>
                <a:latin typeface="Cambria"/>
              </a:rPr>
              <a:t>生当作人杰，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98989"/>
                </a:solidFill>
                <a:latin typeface="Cambria"/>
              </a:rPr>
              <a:t>死亦为鬼雄。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98989"/>
                </a:solidFill>
                <a:latin typeface="Cambria"/>
              </a:rPr>
              <a:t>至今思项羽，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98989"/>
                </a:solidFill>
                <a:latin typeface="Cambria"/>
              </a:rPr>
              <a:t>不肯过江东。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47" name="Picture 3" descr="24"/>
          <p:cNvPicPr/>
          <p:nvPr/>
        </p:nvPicPr>
        <p:blipFill>
          <a:blip r:embed="rId1"/>
          <a:stretch/>
        </p:blipFill>
        <p:spPr>
          <a:xfrm>
            <a:off x="755640" y="1052640"/>
            <a:ext cx="35528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Maiandra GD"/>
              </a:rPr>
              <a:t>诗句理解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42560" y="2852280"/>
            <a:ext cx="6481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Cambria"/>
              </a:rPr>
              <a:t>活着应该做人中的豪杰，死后应该做鬼中的英雄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332000" y="1844640"/>
            <a:ext cx="614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当作人杰，死亦为鬼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332000" y="4221000"/>
            <a:ext cx="614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至今思项羽，不肯过江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044720" y="51958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人们为什么至今还思念项羽，就因为他不苟且偷生回江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2"/>
          <p:cNvSpPr txBox="1"/>
          <p:nvPr/>
        </p:nvSpPr>
        <p:spPr>
          <a:xfrm rot="5400000">
            <a:off x="90360" y="3589200"/>
            <a:ext cx="10666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8080"/>
                  </a:solidFill>
                  <a:round/>
                </a:ln>
                <a:solidFill>
                  <a:srgbClr val="333333"/>
                </a:solidFill>
                <a:latin typeface="隶书"/>
              </a:rPr>
              <a:t>提问</a:t>
            </a:r>
            <a:endParaRPr b="0" lang="en-US" sz="1800" spc="1" strike="noStrike">
              <a:ln w="9360">
                <a:solidFill>
                  <a:srgbClr val="808080"/>
                </a:solidFill>
                <a:round/>
              </a:ln>
              <a:solidFill>
                <a:srgbClr val="333333"/>
              </a:solidFill>
              <a:latin typeface="隶书"/>
              <a:ea typeface="隶书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763640" y="134136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  <a:ea typeface="方正北魏楷书简体"/>
              </a:rPr>
              <a:t>1.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  <a:ea typeface="方正北魏楷书简体"/>
              </a:rPr>
              <a:t>这首诗中李清照用了两个词语赞颂项羽的英雄气概，找到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692360" y="3213000"/>
            <a:ext cx="86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方正北魏楷书简体"/>
              </a:rPr>
              <a:t>人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方正北魏楷书简体"/>
              </a:rPr>
              <a:t>鬼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556000" y="306864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1848e"/>
                </a:solidFill>
                <a:latin typeface="Arial"/>
                <a:ea typeface="黑体"/>
              </a:rPr>
              <a:t>人中的豪杰、人中俊杰、了不起的人物、杰出的人、出色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1848e"/>
                </a:solidFill>
                <a:latin typeface="Arial"/>
                <a:ea typeface="黑体"/>
              </a:rPr>
              <a:t>鬼中的英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92451194572789656"/>
          <p:cNvPicPr/>
          <p:nvPr/>
        </p:nvPicPr>
        <p:blipFill>
          <a:blip r:embed="rId1"/>
          <a:stretch/>
        </p:blipFill>
        <p:spPr>
          <a:xfrm>
            <a:off x="5651640" y="4292640"/>
            <a:ext cx="32400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 rot="5400000">
            <a:off x="163440" y="3589200"/>
            <a:ext cx="10666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8080"/>
                  </a:solidFill>
                  <a:round/>
                </a:ln>
                <a:solidFill>
                  <a:srgbClr val="333333"/>
                </a:solidFill>
                <a:latin typeface="隶书"/>
              </a:rPr>
              <a:t>提问</a:t>
            </a:r>
            <a:endParaRPr b="0" lang="en-US" sz="1800" spc="1" strike="noStrike">
              <a:ln w="9360">
                <a:solidFill>
                  <a:srgbClr val="808080"/>
                </a:solidFill>
                <a:round/>
              </a:ln>
              <a:solidFill>
                <a:srgbClr val="333333"/>
              </a:solidFill>
              <a:latin typeface="隶书"/>
              <a:ea typeface="隶书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83664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方正北魏楷书简体"/>
                <a:ea typeface="方正北魏楷书简体"/>
              </a:rPr>
              <a:t>2.</a:t>
            </a:r>
            <a:r>
              <a:rPr b="1" lang="zh-CN" sz="3200" spc="-1" strike="noStrike">
                <a:solidFill>
                  <a:srgbClr val="990033"/>
                </a:solidFill>
                <a:latin typeface="方正北魏楷书简体"/>
                <a:ea typeface="方正北魏楷书简体"/>
              </a:rPr>
              <a:t>你知道成语词典中有哪两个成语给我们展示了项羽的英雄气概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476360" y="227664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拔山盖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51848e"/>
                </a:solidFill>
                <a:latin typeface="Arial"/>
                <a:ea typeface="黑体"/>
              </a:rPr>
              <a:t>项羽说自己的力量足以拔起一座大山，自己的气概足以超越天下人。形容力大勇猛，无人能比。</a:t>
            </a:r>
            <a:r>
              <a:rPr b="1" lang="en-US" sz="2400" spc="-1" strike="noStrike">
                <a:solidFill>
                  <a:srgbClr val="51848e"/>
                </a:solidFill>
                <a:latin typeface="Arial"/>
                <a:ea typeface="黑体"/>
              </a:rPr>
              <a:t>【</a:t>
            </a:r>
            <a:r>
              <a:rPr b="1" lang="zh-CN" sz="2400" spc="-1" strike="noStrike">
                <a:solidFill>
                  <a:srgbClr val="51848e"/>
                </a:solidFill>
                <a:latin typeface="Arial"/>
                <a:ea typeface="黑体"/>
              </a:rPr>
              <a:t>出自</a:t>
            </a:r>
            <a:r>
              <a:rPr b="1" lang="en-US" sz="2400" spc="-1" strike="noStrike">
                <a:solidFill>
                  <a:srgbClr val="51848e"/>
                </a:solidFill>
                <a:latin typeface="Arial"/>
                <a:ea typeface="黑体"/>
              </a:rPr>
              <a:t>《</a:t>
            </a:r>
            <a:r>
              <a:rPr b="1" lang="zh-CN" sz="2400" spc="-1" strike="noStrike">
                <a:solidFill>
                  <a:srgbClr val="51848e"/>
                </a:solidFill>
                <a:latin typeface="Arial"/>
                <a:ea typeface="黑体"/>
              </a:rPr>
              <a:t>史记</a:t>
            </a:r>
            <a:r>
              <a:rPr b="1" lang="en-US" sz="2400" spc="-1" strike="noStrike">
                <a:solidFill>
                  <a:srgbClr val="51848e"/>
                </a:solidFill>
                <a:latin typeface="Arial"/>
                <a:ea typeface="黑体"/>
              </a:rPr>
              <a:t>•</a:t>
            </a:r>
            <a:r>
              <a:rPr b="1" lang="zh-CN" sz="2400" spc="-1" strike="noStrike">
                <a:solidFill>
                  <a:srgbClr val="51848e"/>
                </a:solidFill>
                <a:latin typeface="Arial"/>
                <a:ea typeface="黑体"/>
              </a:rPr>
              <a:t>项羽本纪</a:t>
            </a:r>
            <a:r>
              <a:rPr b="1" lang="en-US" sz="2400" spc="-1" strike="noStrike">
                <a:solidFill>
                  <a:srgbClr val="51848e"/>
                </a:solidFill>
                <a:latin typeface="Arial"/>
                <a:ea typeface="黑体"/>
              </a:rPr>
              <a:t>》</a:t>
            </a:r>
            <a:r>
              <a:rPr b="1" lang="zh-CN" sz="2400" spc="-1" strike="noStrike">
                <a:solidFill>
                  <a:srgbClr val="51848e"/>
                </a:solidFill>
                <a:latin typeface="Arial"/>
                <a:ea typeface="黑体"/>
              </a:rPr>
              <a:t>：“项王乃悲歌慷慨，自为诗曰：‘力拔山兮气盖世。’”</a:t>
            </a:r>
            <a:r>
              <a:rPr b="1" lang="en-US" sz="2400" spc="-1" strike="noStrike">
                <a:solidFill>
                  <a:srgbClr val="51848e"/>
                </a:solidFill>
                <a:latin typeface="Arial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476360" y="414972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黑体"/>
              </a:rPr>
              <a:t>破釜沉舟：</a:t>
            </a:r>
            <a:r>
              <a:rPr b="1" lang="zh-CN" sz="2400" spc="-1" strike="noStrike">
                <a:solidFill>
                  <a:srgbClr val="51848e"/>
                </a:solidFill>
                <a:latin typeface="Arial"/>
                <a:ea typeface="黑体"/>
              </a:rPr>
              <a:t>项羽跟秦兵打仗，过河后就命令士兵把锅都打破，把船都弄沉，激励士兵拼死作战，不打胜仗决不生还。比喻下定决心不顾一切地干到底。</a:t>
            </a:r>
            <a:r>
              <a:rPr b="1" lang="en-US" sz="2400" spc="-1" strike="noStrike">
                <a:solidFill>
                  <a:srgbClr val="51848e"/>
                </a:solidFill>
                <a:latin typeface="Arial"/>
                <a:ea typeface="黑体"/>
              </a:rPr>
              <a:t>【</a:t>
            </a:r>
            <a:r>
              <a:rPr b="1" lang="zh-CN" sz="2400" spc="-1" strike="noStrike">
                <a:solidFill>
                  <a:srgbClr val="51848e"/>
                </a:solidFill>
                <a:latin typeface="Arial"/>
                <a:ea typeface="黑体"/>
              </a:rPr>
              <a:t>出自</a:t>
            </a:r>
            <a:r>
              <a:rPr b="1" lang="en-US" sz="2400" spc="-1" strike="noStrike">
                <a:solidFill>
                  <a:srgbClr val="51848e"/>
                </a:solidFill>
                <a:latin typeface="Arial"/>
                <a:ea typeface="黑体"/>
              </a:rPr>
              <a:t>《</a:t>
            </a:r>
            <a:r>
              <a:rPr b="1" lang="zh-CN" sz="2400" spc="-1" strike="noStrike">
                <a:solidFill>
                  <a:srgbClr val="51848e"/>
                </a:solidFill>
                <a:latin typeface="Arial"/>
                <a:ea typeface="黑体"/>
              </a:rPr>
              <a:t>史记</a:t>
            </a:r>
            <a:r>
              <a:rPr b="1" lang="en-US" sz="2400" spc="-1" strike="noStrike">
                <a:solidFill>
                  <a:srgbClr val="51848e"/>
                </a:solidFill>
                <a:latin typeface="Arial"/>
                <a:ea typeface="黑体"/>
              </a:rPr>
              <a:t>•</a:t>
            </a:r>
            <a:r>
              <a:rPr b="1" lang="zh-CN" sz="2400" spc="-1" strike="noStrike">
                <a:solidFill>
                  <a:srgbClr val="51848e"/>
                </a:solidFill>
                <a:latin typeface="Arial"/>
                <a:ea typeface="黑体"/>
              </a:rPr>
              <a:t>项羽本纪</a:t>
            </a:r>
            <a:r>
              <a:rPr b="1" lang="en-US" sz="2400" spc="-1" strike="noStrike">
                <a:solidFill>
                  <a:srgbClr val="51848e"/>
                </a:solidFill>
                <a:latin typeface="Arial"/>
                <a:ea typeface="黑体"/>
              </a:rPr>
              <a:t>》</a:t>
            </a:r>
            <a:r>
              <a:rPr b="1" lang="zh-CN" sz="2400" spc="-1" strike="noStrike">
                <a:solidFill>
                  <a:srgbClr val="51848e"/>
                </a:solidFill>
                <a:latin typeface="Arial"/>
                <a:ea typeface="黑体"/>
              </a:rPr>
              <a:t>：“项羽乃悉引兵渡河，皆沉船，破釜甑，烧庐舍，持三日粮，以示士卒必死，无一还心。”</a:t>
            </a:r>
            <a:r>
              <a:rPr b="1" lang="en-US" sz="2400" spc="-1" strike="noStrike">
                <a:solidFill>
                  <a:srgbClr val="51848e"/>
                </a:solidFill>
                <a:latin typeface="Arial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kxl_02584741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971640" y="119700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方正北魏楷书简体"/>
                <a:ea typeface="方正北魏楷书简体"/>
              </a:rPr>
              <a:t>    </a:t>
            </a:r>
            <a:r>
              <a:rPr b="1" lang="zh-CN" sz="2400" spc="-1" strike="noStrike">
                <a:solidFill>
                  <a:srgbClr val="006600"/>
                </a:solidFill>
                <a:latin typeface="方正北魏楷书简体"/>
                <a:ea typeface="方正北魏楷书简体"/>
              </a:rPr>
              <a:t>秦朝末年，统治者的残暴激起了人民的不满，各路豪杰纷纷起义抗秦。项羽率领八千江东弟子转战中原，消灭了秦军主力，立下赫赫战功。秦朝灭亡后，与刘邦争夺天下，最终项羽兵败垓下，退至乌江渡口。当时，乌江亭长劝他急速离江，回到江东，重振旗鼓。项羽觉得自己无颜再见江东父老，不肯漓江逃生，便下马步战，杀敌数百，负伤</a:t>
            </a:r>
            <a:r>
              <a:rPr b="1" lang="en-US" sz="2400" spc="-1" strike="noStrike">
                <a:solidFill>
                  <a:srgbClr val="006600"/>
                </a:solidFill>
                <a:latin typeface="方正北魏楷书简体"/>
                <a:ea typeface="方正北魏楷书简体"/>
              </a:rPr>
              <a:t>10</a:t>
            </a:r>
            <a:r>
              <a:rPr b="1" lang="zh-CN" sz="2400" spc="-1" strike="noStrike">
                <a:solidFill>
                  <a:srgbClr val="006600"/>
                </a:solidFill>
                <a:latin typeface="方正北魏楷书简体"/>
                <a:ea typeface="方正北魏楷书简体"/>
              </a:rPr>
              <a:t>余处，最后从容自刎，时年</a:t>
            </a:r>
            <a:r>
              <a:rPr b="1" lang="en-US" sz="2400" spc="-1" strike="noStrike">
                <a:solidFill>
                  <a:srgbClr val="006600"/>
                </a:solidFill>
                <a:latin typeface="方正北魏楷书简体"/>
                <a:ea typeface="方正北魏楷书简体"/>
              </a:rPr>
              <a:t>31</a:t>
            </a:r>
            <a:r>
              <a:rPr b="1" lang="zh-CN" sz="2400" spc="-1" strike="noStrike">
                <a:solidFill>
                  <a:srgbClr val="006600"/>
                </a:solidFill>
                <a:latin typeface="方正北魏楷书简体"/>
                <a:ea typeface="方正北魏楷书简体"/>
              </a:rPr>
              <a:t>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xingsebiankuang2_0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1908000" y="1773360"/>
            <a:ext cx="5256360" cy="23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方正新舒体简体"/>
                <a:ea typeface="方正新舒体简体"/>
              </a:rPr>
              <a:t>1.</a:t>
            </a:r>
            <a:r>
              <a:rPr b="1" lang="zh-CN" sz="2400" spc="-1" strike="noStrike">
                <a:solidFill>
                  <a:srgbClr val="9900cc"/>
                </a:solidFill>
                <a:latin typeface="方正新舒体简体"/>
                <a:ea typeface="方正新舒体简体"/>
              </a:rPr>
              <a:t>能不能把</a:t>
            </a: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方正新舒体简体"/>
              </a:rPr>
              <a:t>“</a:t>
            </a:r>
            <a:r>
              <a:rPr b="1" lang="zh-CN" sz="2400" spc="-1" strike="noStrike">
                <a:solidFill>
                  <a:srgbClr val="9900cc"/>
                </a:solidFill>
                <a:latin typeface="方正新舒体简体"/>
                <a:ea typeface="方正新舒体简体"/>
              </a:rPr>
              <a:t>不肯</a:t>
            </a: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方正新舒体简体"/>
              </a:rPr>
              <a:t>”</a:t>
            </a:r>
            <a:r>
              <a:rPr b="1" lang="zh-CN" sz="2400" spc="-1" strike="noStrike">
                <a:solidFill>
                  <a:srgbClr val="9900cc"/>
                </a:solidFill>
                <a:latin typeface="方正新舒体简体"/>
                <a:ea typeface="方正新舒体简体"/>
              </a:rPr>
              <a:t>换成</a:t>
            </a: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方正新舒体简体"/>
              </a:rPr>
              <a:t>“</a:t>
            </a:r>
            <a:r>
              <a:rPr b="1" lang="zh-CN" sz="2400" spc="-1" strike="noStrike">
                <a:solidFill>
                  <a:srgbClr val="9900cc"/>
                </a:solidFill>
                <a:latin typeface="方正新舒体简体"/>
                <a:ea typeface="方正新舒体简体"/>
              </a:rPr>
              <a:t>不愿</a:t>
            </a: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方正新舒体简体"/>
              </a:rPr>
              <a:t>”</a:t>
            </a:r>
            <a:r>
              <a:rPr b="1" lang="zh-CN" sz="2400" spc="-1" strike="noStrike">
                <a:solidFill>
                  <a:srgbClr val="9900cc"/>
                </a:solidFill>
                <a:latin typeface="方正新舒体简体"/>
                <a:ea typeface="方正新舒体简体"/>
              </a:rPr>
              <a:t>、</a:t>
            </a: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方正新舒体简体"/>
              </a:rPr>
              <a:t>“</a:t>
            </a:r>
            <a:r>
              <a:rPr b="1" lang="zh-CN" sz="2400" spc="-1" strike="noStrike">
                <a:solidFill>
                  <a:srgbClr val="9900cc"/>
                </a:solidFill>
                <a:latin typeface="方正新舒体简体"/>
                <a:ea typeface="方正新舒体简体"/>
              </a:rPr>
              <a:t>不想</a:t>
            </a: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方正新舒体简体"/>
              </a:rPr>
              <a:t>”</a:t>
            </a:r>
            <a:r>
              <a:rPr b="1" lang="zh-CN" sz="2400" spc="-1" strike="noStrike">
                <a:solidFill>
                  <a:srgbClr val="9900cc"/>
                </a:solidFill>
                <a:latin typeface="方正新舒体简体"/>
                <a:ea typeface="方正新舒体简体"/>
              </a:rPr>
              <a:t>、</a:t>
            </a: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方正新舒体简体"/>
              </a:rPr>
              <a:t>“</a:t>
            </a:r>
            <a:r>
              <a:rPr b="1" lang="zh-CN" sz="2400" spc="-1" strike="noStrike">
                <a:solidFill>
                  <a:srgbClr val="9900cc"/>
                </a:solidFill>
                <a:latin typeface="方正新舒体简体"/>
                <a:ea typeface="方正新舒体简体"/>
              </a:rPr>
              <a:t>不能</a:t>
            </a: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方正新舒体简体"/>
              </a:rPr>
              <a:t>”</a:t>
            </a:r>
            <a:r>
              <a:rPr b="1" lang="zh-CN" sz="2400" spc="-1" strike="noStrike">
                <a:solidFill>
                  <a:srgbClr val="9900cc"/>
                </a:solidFill>
                <a:latin typeface="方正新舒体简体"/>
                <a:ea typeface="方正新舒体简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方正新舒体简体"/>
                <a:ea typeface="方正新舒体简体"/>
              </a:rPr>
              <a:t>2.</a:t>
            </a:r>
            <a:r>
              <a:rPr b="1" lang="zh-CN" sz="2400" spc="-1" strike="noStrike">
                <a:solidFill>
                  <a:srgbClr val="9900cc"/>
                </a:solidFill>
                <a:latin typeface="方正新舒体简体"/>
                <a:ea typeface="方正新舒体简体"/>
              </a:rPr>
              <a:t>同学们，楚汉战争以项羽的失败而告终。</a:t>
            </a: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方正新舒体简体"/>
              </a:rPr>
              <a:t>“</a:t>
            </a:r>
            <a:r>
              <a:rPr b="1" lang="zh-CN" sz="2400" spc="-1" strike="noStrike">
                <a:solidFill>
                  <a:srgbClr val="9900cc"/>
                </a:solidFill>
                <a:latin typeface="方正新舒体简体"/>
                <a:ea typeface="方正新舒体简体"/>
              </a:rPr>
              <a:t>至今思项羽</a:t>
            </a: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方正新舒体简体"/>
              </a:rPr>
              <a:t>”</a:t>
            </a:r>
            <a:r>
              <a:rPr b="1" lang="zh-CN" sz="2400" spc="-1" strike="noStrike">
                <a:solidFill>
                  <a:srgbClr val="9900cc"/>
                </a:solidFill>
                <a:latin typeface="方正新舒体简体"/>
                <a:ea typeface="方正新舒体简体"/>
              </a:rPr>
              <a:t>，宋朝的李清照为什么要去追思一位一千多年前的失败的英雄呢</a:t>
            </a:r>
            <a:r>
              <a:rPr b="0" lang="zh-CN" sz="2400" spc="-1" strike="noStrike">
                <a:solidFill>
                  <a:srgbClr val="9900cc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908000" y="263700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  <a:ea typeface="方正北魏楷书简体"/>
              </a:rPr>
              <a:t>“</a:t>
            </a:r>
            <a:r>
              <a:rPr b="1" lang="zh-CN" sz="2000" spc="-1" strike="noStrike">
                <a:solidFill>
                  <a:srgbClr val="cc6600"/>
                </a:solidFill>
                <a:latin typeface="Arial"/>
                <a:ea typeface="方正北魏楷书简体"/>
              </a:rPr>
              <a:t>不肯”一词，写出了项羽以死相报，无愧于八尺男儿之身，无愧于江东父老之托，无愧于“人杰鬼雄”之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8T03:08:2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5:50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