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3594-A2F0-4378-9D54-6656A2910D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7A7E-042B-4569-9425-14C38FE8AE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D06-367C-4D69-8785-DCF9D837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1C2-C6C7-4166-8E0D-28BDBBF5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415-EA19-479D-A2A5-99852318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314-94FB-4ADC-9F29-DC5DA7BB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E8A-E523-4C47-8F2D-7C133A4C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586-F6F9-4182-AC6B-2E6A13B7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BAB-190B-41AB-A46A-A9D05F1F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FA4-E8C4-4199-AD6D-CAAA4282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A65-C749-4D65-A27E-9EBC1159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3B8-F678-4E70-AE5A-1E84911C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7CF-763B-4697-920E-6B1DDD34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D56-9E0C-46D8-AB29-853EB9C4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452E-39F6-4A28-990F-F953672126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855880" y="1844640"/>
            <a:ext cx="32400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黑体"/>
              </a:rPr>
              <a:t>心愿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055600" y="53769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754200" y="155736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让槐树籽和草籽去绿化大西北的荒山秃岭是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强强和苗苗等许多小朋友的心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未命名"/>
          <p:cNvPicPr/>
          <p:nvPr/>
        </p:nvPicPr>
        <p:blipFill>
          <a:blip r:embed="rId1"/>
          <a:stretch/>
        </p:blipFill>
        <p:spPr>
          <a:xfrm>
            <a:off x="1181160" y="404640"/>
            <a:ext cx="6781680" cy="2476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116000" y="345276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让强强和苗苗把自己带到大西北是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槐树籽的心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未命名"/>
          <p:cNvPicPr/>
          <p:nvPr/>
        </p:nvPicPr>
        <p:blipFill>
          <a:blip r:embed="rId1"/>
          <a:stretch/>
        </p:blipFill>
        <p:spPr>
          <a:xfrm>
            <a:off x="1243080" y="304920"/>
            <a:ext cx="6657840" cy="1971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未命名"/>
          <p:cNvPicPr/>
          <p:nvPr/>
        </p:nvPicPr>
        <p:blipFill>
          <a:blip r:embed="rId2"/>
          <a:stretch/>
        </p:blipFill>
        <p:spPr>
          <a:xfrm>
            <a:off x="1204920" y="2533680"/>
            <a:ext cx="6734160" cy="3200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806480" y="1989000"/>
            <a:ext cx="36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未命名"/>
          <p:cNvPicPr/>
          <p:nvPr/>
        </p:nvPicPr>
        <p:blipFill>
          <a:blip r:embed="rId3"/>
          <a:stretch/>
        </p:blipFill>
        <p:spPr>
          <a:xfrm>
            <a:off x="1260360" y="476280"/>
            <a:ext cx="1162080" cy="3808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339920" y="1258920"/>
            <a:ext cx="654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希望槐树籽能在大西北的黄土高原上成材是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槐树妈妈的心愿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060280"/>
            <a:ext cx="82296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本文通过写槐树妈妈、槐树籽、强强和苗苗的心愿，告诉我们：开发建设大西北需要我们每个人的关注和支持，我们都要为建设大西北尽自己的一份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西北的小朋友收到了一包植物的种子，还有一张纸条，你们想一想，强强和苗苗可能会写些什么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"/>
          <p:cNvSpPr/>
          <p:nvPr/>
        </p:nvSpPr>
        <p:spPr>
          <a:xfrm>
            <a:off x="468360" y="5364000"/>
            <a:ext cx="60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4920" y="44280"/>
            <a:ext cx="25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写一写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未命名"/>
          <p:cNvPicPr/>
          <p:nvPr/>
        </p:nvPicPr>
        <p:blipFill>
          <a:blip r:embed="rId1"/>
          <a:stretch/>
        </p:blipFill>
        <p:spPr>
          <a:xfrm>
            <a:off x="1042920" y="1197000"/>
            <a:ext cx="2333520" cy="250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未命名"/>
          <p:cNvPicPr/>
          <p:nvPr/>
        </p:nvPicPr>
        <p:blipFill>
          <a:blip r:embed="rId2"/>
          <a:stretch/>
        </p:blipFill>
        <p:spPr>
          <a:xfrm>
            <a:off x="4695840" y="1241280"/>
            <a:ext cx="2324160" cy="2476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未命名"/>
          <p:cNvPicPr/>
          <p:nvPr/>
        </p:nvPicPr>
        <p:blipFill>
          <a:blip r:embed="rId3"/>
          <a:stretch/>
        </p:blipFill>
        <p:spPr>
          <a:xfrm>
            <a:off x="1042920" y="4038480"/>
            <a:ext cx="2390760" cy="248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未命名"/>
          <p:cNvPicPr/>
          <p:nvPr/>
        </p:nvPicPr>
        <p:blipFill>
          <a:blip r:embed="rId4"/>
          <a:stretch/>
        </p:blipFill>
        <p:spPr>
          <a:xfrm>
            <a:off x="4711680" y="4076640"/>
            <a:ext cx="238140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未命名"/>
          <p:cNvPicPr/>
          <p:nvPr/>
        </p:nvPicPr>
        <p:blipFill>
          <a:blip r:embed="rId1"/>
          <a:stretch/>
        </p:blipFill>
        <p:spPr>
          <a:xfrm>
            <a:off x="1260360" y="549360"/>
            <a:ext cx="2352960" cy="247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未命名"/>
          <p:cNvPicPr/>
          <p:nvPr/>
        </p:nvPicPr>
        <p:blipFill>
          <a:blip r:embed="rId2"/>
          <a:stretch/>
        </p:blipFill>
        <p:spPr>
          <a:xfrm>
            <a:off x="4840200" y="549360"/>
            <a:ext cx="2324160" cy="2543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未命名"/>
          <p:cNvPicPr/>
          <p:nvPr/>
        </p:nvPicPr>
        <p:blipFill>
          <a:blip r:embed="rId3"/>
          <a:stretch/>
        </p:blipFill>
        <p:spPr>
          <a:xfrm>
            <a:off x="1273320" y="3203640"/>
            <a:ext cx="2361960" cy="245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未命名"/>
          <p:cNvPicPr/>
          <p:nvPr/>
        </p:nvPicPr>
        <p:blipFill>
          <a:blip r:embed="rId4"/>
          <a:stretch/>
        </p:blipFill>
        <p:spPr>
          <a:xfrm>
            <a:off x="4802040" y="3213000"/>
            <a:ext cx="236232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0586-D2FE-470B-920C-CF3F41DBFB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心愿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31640" y="233208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词语大家都很熟悉，每个人心中都属于自己的心愿。说一说你们的心愿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9280" y="117360"/>
            <a:ext cx="288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39560" y="1382760"/>
            <a:ext cx="852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槐树籽   高矮   能够   竹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强大   抖动    摇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  <a:ea typeface="楷体_GB2312"/>
              </a:rPr>
              <a:t>盼望   捡起   荒山秃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  <a:ea typeface="楷体_GB2312"/>
              </a:rPr>
              <a:t>黄土高原     辛辛苦苦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17400" y="189000"/>
            <a:ext cx="453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9640" y="1844640"/>
            <a:ext cx="106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槐   籽   矮   够   竿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强   荒   秃   抖   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晃   辛   盼   洗   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1476360" y="34783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1296ee08b5da7799d1581b8b"/>
          <p:cNvPicPr/>
          <p:nvPr/>
        </p:nvPicPr>
        <p:blipFill>
          <a:blip r:embed="rId1"/>
          <a:stretch/>
        </p:blipFill>
        <p:spPr>
          <a:xfrm>
            <a:off x="1316160" y="1557360"/>
            <a:ext cx="6476760" cy="43243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332000" y="242100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课文都写了谁的心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什么样的心愿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1628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阅读课文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初读感知"/>
          <p:cNvPicPr/>
          <p:nvPr/>
        </p:nvPicPr>
        <p:blipFill>
          <a:blip r:embed="rId1"/>
          <a:stretch/>
        </p:blipFill>
        <p:spPr>
          <a:xfrm>
            <a:off x="324000" y="83664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704880" y="808200"/>
            <a:ext cx="789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未命名"/>
          <p:cNvPicPr/>
          <p:nvPr/>
        </p:nvPicPr>
        <p:blipFill>
          <a:blip r:embed="rId1"/>
          <a:stretch/>
        </p:blipFill>
        <p:spPr>
          <a:xfrm>
            <a:off x="1281240" y="476280"/>
            <a:ext cx="6581520" cy="5257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未命名"/>
          <p:cNvPicPr/>
          <p:nvPr/>
        </p:nvPicPr>
        <p:blipFill>
          <a:blip r:embed="rId1"/>
          <a:stretch/>
        </p:blipFill>
        <p:spPr>
          <a:xfrm>
            <a:off x="1224000" y="404640"/>
            <a:ext cx="6696000" cy="1895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81120" y="2690640"/>
            <a:ext cx="81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能像树叶姐姐那样离开妈妈独立生活是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槐树籽的心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16040" y="4110120"/>
            <a:ext cx="796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让自己的孩子离开自己去闯荡是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槐树妈妈的心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未命名"/>
          <p:cNvPicPr/>
          <p:nvPr/>
        </p:nvPicPr>
        <p:blipFill>
          <a:blip r:embed="rId1"/>
          <a:stretch/>
        </p:blipFill>
        <p:spPr>
          <a:xfrm>
            <a:off x="1276200" y="189000"/>
            <a:ext cx="6591600" cy="252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未命名"/>
          <p:cNvPicPr/>
          <p:nvPr/>
        </p:nvPicPr>
        <p:blipFill>
          <a:blip r:embed="rId2"/>
          <a:stretch/>
        </p:blipFill>
        <p:spPr>
          <a:xfrm>
            <a:off x="1238400" y="3152880"/>
            <a:ext cx="6667200" cy="2581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2251080" y="2489040"/>
            <a:ext cx="41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未命名"/>
          <p:cNvPicPr/>
          <p:nvPr/>
        </p:nvPicPr>
        <p:blipFill>
          <a:blip r:embed="rId3"/>
          <a:stretch/>
        </p:blipFill>
        <p:spPr>
          <a:xfrm>
            <a:off x="3454560" y="5324400"/>
            <a:ext cx="4429080" cy="409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8:55:5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4:06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