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F7A2-FD2D-46BA-AD97-B280649208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2578-6949-45A3-A2CE-94CC6A7AFD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D44-6F23-4514-B76B-3BD4958A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7DE-8597-4135-BB88-B336BB7C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530-313E-4916-B81C-DF6D3F2D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610-8880-4B19-8B4F-552C6929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BD5-7BA0-4A4A-BAB8-7A8BA717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3F9-4888-4AD9-8214-C50600E8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55A-5BFF-4348-8469-001CD1CF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6D6-5797-4D63-BA7B-FA0A0B56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440-0344-4D07-94FC-7E8CD5DF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268-CA4A-40DF-8D28-6A88AF62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463-BCE4-424B-8A31-32F7634A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5C2-B0F9-4787-B482-31188FEF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BCF3-87B4-408D-BB2F-ECC4EAB651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1873080" y="879480"/>
            <a:ext cx="5475600" cy="13240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778040" y="589284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102320" y="3049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一读，比一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349160" y="19810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一个个惊得脸上改变了颜色，全身流出了冷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301560" y="35812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一个个惊得面如土色，冷汗淋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7200" y="204300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95360" y="26668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叫大人处理已经来不及了，导火线很快会烧到墙洞那边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起初，于连着实慌张了一阵，但他马上镇静下来。他眨巴着乌溜溜的眼睛，连忙跑到正在燃烧的导火线旁，对着刺刺作响的火花撒起尿来。导火线立刻熄灭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不一会儿，闻讯赶来一批巡逻警察，他们一个个惊得面如土色，冷汗淋漓。当他们看到现场后，才深深嘘了一口气。大家把小英雄抱了起来，高高举过头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1752480" y="457200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886200" y="457200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7696080" y="41911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91240" y="295596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295280" y="156204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810080" y="2235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现险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881360" y="4292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除险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791160" y="429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小便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619960" y="429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刻熄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352680" y="15238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867480" y="15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冒着火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635800" y="15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刺刺作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294440" y="2757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寸寸缩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017040" y="27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快烧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7238880" y="1638360"/>
            <a:ext cx="228600" cy="3619440"/>
          </a:xfrm>
          <a:custGeom>
            <a:avLst/>
            <a:gdLst>
              <a:gd name="textAreaLeft" fmla="*/ 0 w 228600"/>
              <a:gd name="textAreaRight" fmla="*/ 82440 w 228600"/>
              <a:gd name="textAreaTop" fmla="*/ 94320 h 3619440"/>
              <a:gd name="textAreaBottom" fmla="*/ 3525120 h 361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753680" y="312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机智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5"/>
          <p:cNvSpPr/>
          <p:nvPr/>
        </p:nvSpPr>
        <p:spPr>
          <a:xfrm>
            <a:off x="3276720" y="41911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133720" y="1523880"/>
            <a:ext cx="4838760" cy="3048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在当时的情况下，除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用小便浇灭导火线”，还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没有其他的办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623960" y="2133720"/>
            <a:ext cx="589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侵略　　政府　　　　　血泊　　面如土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623960" y="3733920"/>
            <a:ext cx="589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慌张　　镇静　　　　　废墟　　冷汗淋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09"/>
          <p:cNvPicPr/>
          <p:nvPr/>
        </p:nvPicPr>
        <p:blipFill>
          <a:blip r:embed="rId1"/>
          <a:stretch/>
        </p:blipFill>
        <p:spPr>
          <a:xfrm>
            <a:off x="2133720" y="1295280"/>
            <a:ext cx="971280" cy="19814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H="1">
            <a:off x="1143000" y="32529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2819520" y="3252960"/>
            <a:ext cx="1218960" cy="99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7840" y="4175280"/>
            <a:ext cx="102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ā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324240" y="4175280"/>
            <a:ext cx="102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à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408040" y="23223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09"/>
          <p:cNvPicPr/>
          <p:nvPr/>
        </p:nvPicPr>
        <p:blipFill>
          <a:blip r:embed="rId2"/>
          <a:stretch/>
        </p:blipFill>
        <p:spPr>
          <a:xfrm>
            <a:off x="6553080" y="1295280"/>
            <a:ext cx="971640" cy="1981440"/>
          </a:xfrm>
          <a:prstGeom prst="rect">
            <a:avLst/>
          </a:prstGeom>
          <a:ln w="0">
            <a:noFill/>
          </a:ln>
        </p:spPr>
      </p:pic>
      <p:sp>
        <p:nvSpPr>
          <p:cNvPr id="111" name="Line 12"/>
          <p:cNvSpPr/>
          <p:nvPr/>
        </p:nvSpPr>
        <p:spPr>
          <a:xfrm flipH="1">
            <a:off x="5562720" y="32529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7238880" y="325296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4867560" y="4175280"/>
            <a:ext cx="102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p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7743960" y="4175280"/>
            <a:ext cx="102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b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827760" y="23223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282760" y="3049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看仔细了，可不要交错了词语朋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63560" y="175248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略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哈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681360" y="175248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敌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故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707160" y="175248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府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符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63560" y="434340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导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异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681360" y="434340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慌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流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707160" y="434340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耍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要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2033640" y="3049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括号里填上意思相反的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1797120"/>
            <a:ext cx="83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）于连着实（    ）了一阵，但他马上（    ）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57200" y="3886200"/>
            <a:ext cx="83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）这（    ）的小山村顿时（    ）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200692912522738553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4115880" y="6248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布鲁塞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1765440" y="297000"/>
            <a:ext cx="56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506760" y="6248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换不同服装的撒尿男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nt_D210200xsb_20090419_6-1-31_resbrief"/>
          <p:cNvPicPr/>
          <p:nvPr/>
        </p:nvPicPr>
        <p:blipFill>
          <a:blip r:embed="rId1"/>
          <a:stretch/>
        </p:blipFill>
        <p:spPr>
          <a:xfrm>
            <a:off x="380880" y="3429000"/>
            <a:ext cx="2198880" cy="327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814373740374285"/>
          <p:cNvPicPr/>
          <p:nvPr/>
        </p:nvPicPr>
        <p:blipFill>
          <a:blip r:embed="rId2"/>
          <a:stretch/>
        </p:blipFill>
        <p:spPr>
          <a:xfrm>
            <a:off x="1981080" y="304920"/>
            <a:ext cx="186552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01000000000000119091440607773"/>
          <p:cNvPicPr/>
          <p:nvPr/>
        </p:nvPicPr>
        <p:blipFill>
          <a:blip r:embed="rId3"/>
          <a:stretch/>
        </p:blipFill>
        <p:spPr>
          <a:xfrm>
            <a:off x="5029200" y="152280"/>
            <a:ext cx="167148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1"/>
          <p:cNvPicPr/>
          <p:nvPr/>
        </p:nvPicPr>
        <p:blipFill>
          <a:blip r:embed="rId4"/>
          <a:stretch/>
        </p:blipFill>
        <p:spPr>
          <a:xfrm>
            <a:off x="6429240" y="3471840"/>
            <a:ext cx="22575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MG_1307"/>
          <p:cNvPicPr/>
          <p:nvPr/>
        </p:nvPicPr>
        <p:blipFill>
          <a:blip r:embed="rId1"/>
          <a:stretch/>
        </p:blipFill>
        <p:spPr>
          <a:xfrm>
            <a:off x="1092240" y="819000"/>
            <a:ext cx="6959520" cy="5220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855240" y="1981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结  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786A-C3BB-4447-AF3C-B97995E9AF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80880" y="12700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比利时首都布鲁塞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à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尔的一条小巷里，有一座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ià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男孩的铜像，它是为纪念小英雄于连塑造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很多年前的一天晚上，布鲁塞尔的中心广场上，火树银花，热闹非凡。人们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zà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歌载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，庆祝打败了外国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q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ü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可是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人并不死心。他们经过周密策划，把烈性炸药放到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zhè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的地下室里，只要一引爆，政府大楼就会变成一片废墟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，许许多多的人将会倒在血泊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］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909960" y="304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小英雄于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95360" y="7621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敌人将长长的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火线一直延伸到外面一个院子里。导火线点燃后，敌人便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uā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慌张张地溜了。导火线冒着火花，刺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刺作响，慢慢向地下室燃烧过去。一场毁灭性的大爆炸即将发生！沉浸在欢乐中的人们，哪会知道这隐藏在暗处的阴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就在这时，十岁的于连来到这个小院子里玩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u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。他忽然发现了墙角燃烧的导火线，正在一寸寸地缩短。他的心儿怦怦直跳，明白会有什么样的事情发生。长期的战争，使幼稚的孩子也懂得了一些军事常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3520" y="2819520"/>
            <a:ext cx="8153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叫大人处理已经来不及了，导火线很快会烧到墙洞那边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起初，于连着实慌张了一阵，但他马上镇静下来。他眨巴着乌溜溜的眼睛，连忙跑到正在燃烧的导火线旁，对着刺刺作响的火花撒起尿来。导火线立刻熄灭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不一会儿，闻讯赶来一批巡逻警察，他们一个个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jī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得面如土色，冷汗淋漓。当他们看到现场后，才深深嘘了一口气。大家把小英雄抱了起来，高高举过头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80880" y="169560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比利时首都布鲁塞尔的一条小巷里，有一座撒尿男孩的铜像，它是为纪念小英雄于连塑造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很多年前的一天晚上，布鲁塞尔的中心广场上，火树银花，热闹非凡。人们载歌载舞，庆祝打败了外国侵略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可是，敌人并不死心。他们经过周密策划，把烈性炸药放到市政府的地下室里，只要一引爆，政府大楼就会变成一片废墟，许许多多的人将会倒在血泊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09960" y="304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小英雄于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52280" y="152280"/>
            <a:ext cx="3200400" cy="1371600"/>
          </a:xfrm>
          <a:prstGeom prst="cloudCallout">
            <a:avLst>
              <a:gd name="adj1" fmla="val -46083"/>
              <a:gd name="adj2" fmla="val 80902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说说于连为什么被称为英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95360" y="7621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敌人将长长的导火线一直延伸到外面一个院子里。导火线点燃后，敌人便慌慌张张地溜了。导火线冒着火花，刺刺作响，慢慢向地下室燃烧过去。一场毁灭性的大爆炸即将发生！沉浸在欢乐中的人们，哪会知道这隐藏在暗处的阴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就在这时，十岁的于连来到这个小院子里玩耍。他忽然发现了墙角燃烧的导火线，正在一寸寸地缩短。他的心儿怦怦直跳，明白会有什么样的事情发生。长期的战争，使幼稚的孩子也懂得了一些军事常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5562720" y="1523880"/>
            <a:ext cx="2971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609480" y="1905120"/>
            <a:ext cx="3962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533520" y="4343400"/>
            <a:ext cx="3504960" cy="1828800"/>
          </a:xfrm>
          <a:prstGeom prst="cloudCallout">
            <a:avLst>
              <a:gd name="adj1" fmla="val -50314"/>
              <a:gd name="adj2" fmla="val 6718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从“冒着火花”、“一寸寸地缩短”等语句你感受到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7543800" y="29718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609480" y="3352680"/>
            <a:ext cx="6172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91240" y="295596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295280" y="156204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810080" y="2235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现险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3352680" y="15238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867480" y="15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冒着火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635800" y="15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刺刺作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294440" y="2757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寸寸缩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6017040" y="27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快烧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95360" y="26668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叫大人处理已经来不及了，导火线很快会烧到墙洞那边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起初，于连着实慌张了一阵，但他马上镇静下来。他眨巴着乌溜溜的眼睛，连忙跑到正在燃烧的导火线旁，对着刺刺作响的火花撒起尿来。导火线立刻熄灭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不一会儿，闻讯赶来一批巡逻警察，他们一个个惊得面如土色，冷汗淋漓。当他们看到现场后，才深深嘘了一口气。大家把小英雄抱了起来，高高举过头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6095880" y="4952880"/>
            <a:ext cx="2362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609480" y="525780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10:21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4:52Z</dcterms:modified>
  <cp:revision>8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