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楷体_GB2312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D28B-0673-4024-90CC-BA8665E5E7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楷体_GB2312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楷体_GB2312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楷体_GB2312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06CB-3AEA-49B9-9593-23E206E47E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FF1-96A3-4FBB-AF96-696BD143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C76-AA99-410F-92F4-61C253F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FAB-FACC-43F7-AD83-E0EC3DA9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0E9-6B3A-4AF6-9CC9-F0245710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AC2-B2B0-42EC-8BC9-6993938F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8E8-B56A-4B1E-98A5-B88944BA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BF5-2FCB-4AE9-95F1-C9CA67BE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F983-9712-437C-ABE7-1B47A053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124-975B-4427-9167-0AE9B44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FBE-4373-48B2-A6AB-4596D0FA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3E07-A83E-414D-8B34-6481796B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34A-6253-4801-8D4B-E6739824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2E29-9E0C-4B83-9BF7-CDE0084A7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小英雄于连 4"/>
          <p:cNvPicPr/>
          <p:nvPr/>
        </p:nvPicPr>
        <p:blipFill>
          <a:blip r:embed="rId1"/>
          <a:stretch/>
        </p:blipFill>
        <p:spPr>
          <a:xfrm>
            <a:off x="1239840" y="2270160"/>
            <a:ext cx="3365640" cy="3632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小英雄于连 3"/>
          <p:cNvPicPr/>
          <p:nvPr/>
        </p:nvPicPr>
        <p:blipFill>
          <a:blip r:embed="rId2"/>
          <a:stretch/>
        </p:blipFill>
        <p:spPr>
          <a:xfrm>
            <a:off x="4745160" y="2271600"/>
            <a:ext cx="3120840" cy="363060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3000960" y="9478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黑体"/>
                <a:ea typeface="黑体"/>
              </a:rPr>
              <a:t>小英雄于连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794960" y="6018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能用自己的话，描述一下图中的小男孩是什么样子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这个小男孩有一头卷发，一个翘起的鼻子，显得很调皮。他光着身子，正在那儿撒尿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小英雄于连"/>
          <p:cNvPicPr/>
          <p:nvPr/>
        </p:nvPicPr>
        <p:blipFill>
          <a:blip r:embed="rId1"/>
          <a:stretch/>
        </p:blipFill>
        <p:spPr>
          <a:xfrm>
            <a:off x="762120" y="1447920"/>
            <a:ext cx="2877840" cy="39621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733920" y="1736640"/>
            <a:ext cx="48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是一座小男孩的铜像，有着可爱笑容的小男孩叉腰挺肚，旁若无人地撒尿，只不过撒出的可是洁净的自来水，还有每年狂欢节中的一天，撒出的不是水，而是最上等的啤酒，大家在这一天都会争先恐后地争饮小童撒出的啤酒。为了怕这个活泼可爱的小男孩在冬天着凉，还有世界各国致赠的精美服装，现在都保存在当地博物馆当中。这个孩子叫于连，是比利时人。在比利时，人们都称他为小英雄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小于连在布鲁塞尔的市中心站了三百多年，却依然是个只有两英尺高的小孩，你们想认识他吗？今天我们就一起来学习课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小英雄于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小英雄于连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581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比利时的于连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143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习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自己出声读课文，注意把字音读准确，遇到不会的字，想办法解决，并将括号里填上合适的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通过初读课文，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勾出小男孩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男孩想到几种办法保护布鲁塞尔城堡？他采用的是那种？为什么？从中有体会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们为什么要造这座铜像呢？人们为什么给小于连送衣服？又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320" y="22856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于连靠着机智，勇敢保住了城市，救了全城的人，救了整个布鲁塞尔，所以人们感谢他，称他为小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应该向小英雄学习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学习他机智，勇敢，果断的品质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外拓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还知道哪些小英雄的名字或关于他们的故事呢？搜集整理出来，给老师说说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王二小、草原小姐妹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21_102Z5648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09121858179469"/>
          <p:cNvPicPr/>
          <p:nvPr/>
        </p:nvPicPr>
        <p:blipFill>
          <a:blip r:embed="rId1"/>
          <a:stretch/>
        </p:blipFill>
        <p:spPr>
          <a:xfrm>
            <a:off x="0" y="-93600"/>
            <a:ext cx="9144000" cy="704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129750006FF585CFF8080812970B728"/>
          <p:cNvPicPr/>
          <p:nvPr/>
        </p:nvPicPr>
        <p:blipFill>
          <a:blip r:embed="rId1"/>
          <a:stretch/>
        </p:blipFill>
        <p:spPr>
          <a:xfrm>
            <a:off x="160020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Travel_00012773"/>
          <p:cNvPicPr/>
          <p:nvPr/>
        </p:nvPicPr>
        <p:blipFill>
          <a:blip r:embed="rId1"/>
          <a:stretch/>
        </p:blipFill>
        <p:spPr>
          <a:xfrm>
            <a:off x="16765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"/>
          <p:cNvSpPr/>
          <p:nvPr/>
        </p:nvSpPr>
        <p:spPr>
          <a:xfrm>
            <a:off x="1771560" y="1486080"/>
            <a:ext cx="71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aacb564438fd8eaf636547f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谢谢指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2F66-82E9-450D-A6F5-2E59F4844E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477304555719084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rand%20Pl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3"/>
          <p:cNvSpPr/>
          <p:nvPr/>
        </p:nvSpPr>
        <p:spPr>
          <a:xfrm>
            <a:off x="4038480" y="3249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034618"/>
          <p:cNvPicPr/>
          <p:nvPr/>
        </p:nvPicPr>
        <p:blipFill>
          <a:blip r:embed="rId1"/>
          <a:stretch/>
        </p:blipFill>
        <p:spPr>
          <a:xfrm>
            <a:off x="1600200" y="533520"/>
            <a:ext cx="5486400" cy="597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01"/>
          <p:cNvPicPr/>
          <p:nvPr/>
        </p:nvPicPr>
        <p:blipFill>
          <a:blip r:embed="rId1"/>
          <a:stretch/>
        </p:blipFill>
        <p:spPr>
          <a:xfrm>
            <a:off x="137160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在比利时的首都布鲁塞尔，有一位最老资格的长寿市民，被当地的市民称为“第一市民”。小朋友们，你们猜一猜他有多大年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小英雄于连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9T10:21:5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4:34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