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0DA2-D057-4DCF-BDC8-72068A5C8D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C942-F870-446E-89DA-FBC8D0C5D4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C04-3FBA-450A-983C-9A5ABC9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77E-9FA1-4FE7-8607-446A5AE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160-A6A8-43AD-BAB8-8BE35B32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1E1-EBDF-4A00-86BD-B4B9425A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FAB-F977-4522-80C1-39EF6007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AD55-5E07-4659-8BB8-21E9433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F135-10EB-44D8-82FB-6E6D85FF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85D-50F3-460B-BB7B-B2F37675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8FBE-9CEB-460D-B22A-EF0685A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433A-FBCA-48A2-AE41-58221A5C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7C1-A971-4435-8501-EA547811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DB9-CBE8-4480-8D5E-352D54CF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4C03-6A10-4FB9-A4AC-9498B83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EDD8-ED55-4889-B5A4-C7F3292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F07E-F069-4F0B-B54A-77BEF4A0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E4DB-30FC-4F34-870C-44E3B065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177B-96C3-4102-B18E-C92B3BB3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38A-71FF-4A24-856F-66623F9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574-AF69-4BAA-A6D7-2C3564A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F23-0FFD-4B41-94BA-AC98A90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CF3-9388-435E-B6D8-E05CE56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CB1-D46B-4746-91A6-27E66EA4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CCF-86D5-4483-A3CA-C57BF49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272-A09C-4EFA-8B8D-89B8ADD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0098-74B4-49C7-86EA-26DE2F2A4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4829-3D40-4AE4-B930-6EDB1041B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小英雄于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1"/>
          <p:cNvSpPr/>
          <p:nvPr/>
        </p:nvSpPr>
        <p:spPr>
          <a:xfrm>
            <a:off x="1750680" y="5029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1447920" y="99072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在当时的情况下，除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小便浇灭导火线”，还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没有其他的办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371600" y="76212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们为什么要感谢于连，为什么称他为小英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34440" y="3429000"/>
            <a:ext cx="50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用自己的尿把导火线的火花浇灭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保住了这座城市和全城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095640" y="5745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表彰于连，人们在离广场不远的街口，为他塑造了一座栩栩如生的铜像。直到今天，人们仍然可以看到铜像上喷出的那股清泉飘洒在美丽的布鲁塞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于连3"/>
          <p:cNvPicPr/>
          <p:nvPr/>
        </p:nvPicPr>
        <p:blipFill>
          <a:blip r:embed="rId2"/>
          <a:stretch/>
        </p:blipFill>
        <p:spPr>
          <a:xfrm>
            <a:off x="0" y="0"/>
            <a:ext cx="303048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>
            <a:off x="5514840" y="2895480"/>
            <a:ext cx="3095640" cy="0"/>
          </a:xfrm>
          <a:prstGeom prst="line">
            <a:avLst/>
          </a:prstGeom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3286080" y="3382920"/>
            <a:ext cx="54007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3197160" y="3959280"/>
            <a:ext cx="3889440" cy="0"/>
          </a:xfrm>
          <a:prstGeom prst="line">
            <a:avLst/>
          </a:prstGeom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6"/>
          <p:cNvSpPr/>
          <p:nvPr/>
        </p:nvSpPr>
        <p:spPr>
          <a:xfrm>
            <a:off x="2286000" y="5410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u=260219064,3089762485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600200" y="914400"/>
            <a:ext cx="61722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你应该像小英雄于连学习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你还知道那些小英雄的名字或故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2035080" y="504504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309840" y="277416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美丽的布鲁塞尔市迎来了四面八方的游客，现在你就是这里的小导游，请你给客人们介绍一下于连铜像的来历，你准备怎么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于连"/>
          <p:cNvPicPr/>
          <p:nvPr/>
        </p:nvPicPr>
        <p:blipFill>
          <a:blip r:embed="rId2"/>
          <a:stretch/>
        </p:blipFill>
        <p:spPr>
          <a:xfrm>
            <a:off x="0" y="0"/>
            <a:ext cx="3036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488cf245f4b5eb38cffca3e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0" y="21096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把字写好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4429080" y="2052720"/>
            <a:ext cx="1452240" cy="1439640"/>
            <a:chOff x="4429080" y="2052720"/>
            <a:chExt cx="1452240" cy="1439640"/>
          </a:xfrm>
        </p:grpSpPr>
        <p:sp>
          <p:nvSpPr>
            <p:cNvPr id="151" name="Rectangle 5"/>
            <p:cNvSpPr/>
            <p:nvPr/>
          </p:nvSpPr>
          <p:spPr>
            <a:xfrm>
              <a:off x="4444560" y="2052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>
              <a:off x="5163840" y="2052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4429080" y="275724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"/>
          <p:cNvGrpSpPr/>
          <p:nvPr/>
        </p:nvGrpSpPr>
        <p:grpSpPr>
          <a:xfrm>
            <a:off x="4141800" y="2119320"/>
            <a:ext cx="1452240" cy="1439640"/>
            <a:chOff x="4141800" y="2119320"/>
            <a:chExt cx="1452240" cy="1439640"/>
          </a:xfrm>
        </p:grpSpPr>
        <p:sp>
          <p:nvSpPr>
            <p:cNvPr id="155" name="Rectangle 9"/>
            <p:cNvSpPr/>
            <p:nvPr/>
          </p:nvSpPr>
          <p:spPr>
            <a:xfrm>
              <a:off x="4157280" y="211932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4876560" y="211932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4141800" y="282384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2701800" y="2070000"/>
            <a:ext cx="1452240" cy="1439640"/>
            <a:chOff x="2701800" y="2070000"/>
            <a:chExt cx="1452240" cy="1439640"/>
          </a:xfrm>
        </p:grpSpPr>
        <p:sp>
          <p:nvSpPr>
            <p:cNvPr id="159" name="Rectangle 13"/>
            <p:cNvSpPr/>
            <p:nvPr/>
          </p:nvSpPr>
          <p:spPr>
            <a:xfrm>
              <a:off x="2717280" y="20700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>
              <a:off x="3436560" y="20700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>
              <a:off x="2701800" y="277452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6"/>
          <p:cNvGrpSpPr/>
          <p:nvPr/>
        </p:nvGrpSpPr>
        <p:grpSpPr>
          <a:xfrm>
            <a:off x="957240" y="2070000"/>
            <a:ext cx="1452240" cy="1439640"/>
            <a:chOff x="957240" y="2070000"/>
            <a:chExt cx="1452240" cy="1439640"/>
          </a:xfrm>
        </p:grpSpPr>
        <p:sp>
          <p:nvSpPr>
            <p:cNvPr id="163" name="Rectangle 17"/>
            <p:cNvSpPr/>
            <p:nvPr/>
          </p:nvSpPr>
          <p:spPr>
            <a:xfrm>
              <a:off x="972720" y="20700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1692000" y="20700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957240" y="277452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0"/>
          <p:cNvSpPr/>
          <p:nvPr/>
        </p:nvSpPr>
        <p:spPr>
          <a:xfrm>
            <a:off x="971640" y="199692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701800" y="199692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4429080" y="1989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23"/>
          <p:cNvGrpSpPr/>
          <p:nvPr/>
        </p:nvGrpSpPr>
        <p:grpSpPr>
          <a:xfrm>
            <a:off x="6143760" y="2060640"/>
            <a:ext cx="1452240" cy="1439640"/>
            <a:chOff x="6143760" y="2060640"/>
            <a:chExt cx="1452240" cy="1439640"/>
          </a:xfrm>
        </p:grpSpPr>
        <p:sp>
          <p:nvSpPr>
            <p:cNvPr id="170" name="Rectangle 24"/>
            <p:cNvSpPr/>
            <p:nvPr/>
          </p:nvSpPr>
          <p:spPr>
            <a:xfrm>
              <a:off x="6159240" y="2060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6878520" y="2060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6143760" y="276516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27"/>
          <p:cNvSpPr/>
          <p:nvPr/>
        </p:nvSpPr>
        <p:spPr>
          <a:xfrm>
            <a:off x="6156360" y="199692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8"/>
          <p:cNvGrpSpPr/>
          <p:nvPr/>
        </p:nvGrpSpPr>
        <p:grpSpPr>
          <a:xfrm>
            <a:off x="969840" y="4013280"/>
            <a:ext cx="1452240" cy="1439640"/>
            <a:chOff x="969840" y="4013280"/>
            <a:chExt cx="1452240" cy="1439640"/>
          </a:xfrm>
        </p:grpSpPr>
        <p:sp>
          <p:nvSpPr>
            <p:cNvPr id="175" name="Rectangle 29"/>
            <p:cNvSpPr/>
            <p:nvPr/>
          </p:nvSpPr>
          <p:spPr>
            <a:xfrm>
              <a:off x="985320" y="40132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1704600" y="401328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969840" y="471780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2722680" y="4013280"/>
            <a:ext cx="1452240" cy="1439640"/>
            <a:chOff x="2722680" y="4013280"/>
            <a:chExt cx="1452240" cy="1439640"/>
          </a:xfrm>
        </p:grpSpPr>
        <p:sp>
          <p:nvSpPr>
            <p:cNvPr id="179" name="Rectangle 33"/>
            <p:cNvSpPr/>
            <p:nvPr/>
          </p:nvSpPr>
          <p:spPr>
            <a:xfrm>
              <a:off x="2738160" y="40132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>
              <a:off x="3457440" y="401328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2722680" y="471780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36"/>
          <p:cNvSpPr/>
          <p:nvPr/>
        </p:nvSpPr>
        <p:spPr>
          <a:xfrm>
            <a:off x="2768760" y="394020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990720" y="3932280"/>
            <a:ext cx="143964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8"/>
          <p:cNvGrpSpPr/>
          <p:nvPr/>
        </p:nvGrpSpPr>
        <p:grpSpPr>
          <a:xfrm>
            <a:off x="4427640" y="4005360"/>
            <a:ext cx="1452240" cy="1439640"/>
            <a:chOff x="4427640" y="4005360"/>
            <a:chExt cx="1452240" cy="1439640"/>
          </a:xfrm>
        </p:grpSpPr>
        <p:sp>
          <p:nvSpPr>
            <p:cNvPr id="185" name="Rectangle 39"/>
            <p:cNvSpPr/>
            <p:nvPr/>
          </p:nvSpPr>
          <p:spPr>
            <a:xfrm>
              <a:off x="4443120" y="40053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>
              <a:off x="5162400" y="400536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>
              <a:off x="4427640" y="470988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42"/>
          <p:cNvSpPr/>
          <p:nvPr/>
        </p:nvSpPr>
        <p:spPr>
          <a:xfrm>
            <a:off x="4427640" y="394020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3"/>
          <p:cNvGrpSpPr/>
          <p:nvPr/>
        </p:nvGrpSpPr>
        <p:grpSpPr>
          <a:xfrm>
            <a:off x="6141960" y="4013280"/>
            <a:ext cx="1452240" cy="1439640"/>
            <a:chOff x="6141960" y="4013280"/>
            <a:chExt cx="1452240" cy="1439640"/>
          </a:xfrm>
        </p:grpSpPr>
        <p:sp>
          <p:nvSpPr>
            <p:cNvPr id="190" name="Rectangle 44"/>
            <p:cNvSpPr/>
            <p:nvPr/>
          </p:nvSpPr>
          <p:spPr>
            <a:xfrm>
              <a:off x="6157440" y="40132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>
              <a:off x="6876720" y="401328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6"/>
            <p:cNvSpPr/>
            <p:nvPr/>
          </p:nvSpPr>
          <p:spPr>
            <a:xfrm>
              <a:off x="6141960" y="4717800"/>
              <a:ext cx="14367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47"/>
          <p:cNvSpPr/>
          <p:nvPr/>
        </p:nvSpPr>
        <p:spPr>
          <a:xfrm>
            <a:off x="6153120" y="39402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7162920" y="393228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FA5-0CA7-4415-AC38-7E650A859F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83600" y="206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424240" y="208908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残       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090400" y="206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690600" y="2068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975600" y="3516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598200" y="3484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5090400" y="3484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921200" y="492120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          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3598200" y="4894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007640" y="488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2302920" y="488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690600" y="3484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2302920" y="3516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57200" y="304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读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914400" y="1496880"/>
            <a:ext cx="7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050920" y="1417680"/>
            <a:ext cx="9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352680" y="149688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018040" y="145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6400800" y="14479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97960" y="29988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2059200" y="29988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3419280" y="30020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800600" y="29718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6467400" y="29718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915480" y="43228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2135520" y="42973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3507840" y="435780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790880" y="4297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6266880" y="42973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600200" y="1522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大声读出这些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14400" y="1066680"/>
            <a:ext cx="70866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失败  残暴  聚集  欢庆  胜利 火药味  忽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</a:rPr>
              <a:t>燃烧 导火线 又窄又深  来不及 撒尿 浇灭 表彰急中生智   栩栩如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447920" y="380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我还能读出这些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3520" y="137160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胜败  暴风雨  聚会       味道  香味              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领导 导游 向导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        宽窄 机智 消灭 表扬    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及时 及格 国庆节  灭亡手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09480" y="2345400"/>
            <a:ext cx="36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你看到这座铜像后的感觉。把铜像塑造的像真的一样，用书上的一个词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于连2"/>
          <p:cNvPicPr/>
          <p:nvPr/>
        </p:nvPicPr>
        <p:blipFill>
          <a:blip r:embed="rId2"/>
          <a:stretch/>
        </p:blipFill>
        <p:spPr>
          <a:xfrm>
            <a:off x="5176800" y="0"/>
            <a:ext cx="3967200" cy="49687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755640" y="4581360"/>
            <a:ext cx="288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>
                    <a:alpha val="98000"/>
                  </a:srgbClr>
                </a:solidFill>
                <a:latin typeface="宋体"/>
              </a:rPr>
              <a:t>栩栩如生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>
                  <a:alpha val="98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85800" y="22096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五百多年前，布鲁塞尔市民打败了残暴的国王。一天，人们聚集在中心广场欢庆胜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685800" y="533520"/>
            <a:ext cx="7848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学习提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找出描写当时情况紧急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于连看到这种紧急情况有什么想法，又是怎样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较这几种办法，哪个最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到十岁的于连吃过晚饭，连蹦带跳地往中心广场跑去。当他经过一座院子时，忽然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闻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股火药味，他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发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院子里有火星在闪耀。于连急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过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只见一条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又长又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导火线，在干涸的深沟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咝咝地燃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3886200"/>
            <a:ext cx="3505320" cy="1828800"/>
          </a:xfrm>
          <a:prstGeom prst="cloudCallout">
            <a:avLst>
              <a:gd name="adj1" fmla="val -35101"/>
              <a:gd name="adj2" fmla="val 9218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“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又长又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、“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咝咝地燃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等语句你感受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97200" y="4237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情况紧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78461"/>
          <p:cNvPicPr/>
          <p:nvPr/>
        </p:nvPicPr>
        <p:blipFill>
          <a:blip r:embed="rId2"/>
          <a:stretch/>
        </p:blipFill>
        <p:spPr>
          <a:xfrm>
            <a:off x="0" y="0"/>
            <a:ext cx="3124080" cy="2344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28600" y="2438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想：这一定是敌人想要炸毁这座城市。怎么办呢？沟又窄又深，人下不去；找根长棒，没有；找水，也没有；喊人，显然来不及了。于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急中生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用自己的尿把导火线的火花浇灭了，保住了这座城市和全城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07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4:38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