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type.wav" ContentType="audio/x-wav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A6D0-5676-49E2-9BCE-F19B87320A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6544-9D8A-4335-8E0F-E0EAEFB0FC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85A-A2DA-4F55-988D-7644ACE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6C8-C962-4727-9EA4-DE3E1D4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658-EFF7-41AB-9D86-65217B43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423-97E8-4BA9-84E1-28D37384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04D-7640-4110-8752-BFD3C3B2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EAF-58EE-4E1C-AA70-A1344C00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9BE-E2B6-4E47-A5E9-F36F593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1BE-4773-4564-8CDE-AF749C1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DB2-7778-40D2-81B7-7065196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39F-D47C-4466-A6E5-FA15A0D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0F4-C81B-4A47-924C-0410E88F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E17-F43C-4E82-BBE5-2B20EA7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142-986C-4FD6-81DD-61F5B7FE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心中的丰碑</a:t>
            </a:r>
            <a:r>
              <a:rPr b="1" lang="zh-CN" sz="6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8270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文中人们是怎样称呼任长霞的，读了这些称呼你有什么感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把泪洒给你，把心掏给你，我们的好局长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57120" y="3068640"/>
            <a:ext cx="294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门神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福字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用口为你铸碑，用心为你竖碑，百姓的好女儿啊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09720" y="4365720"/>
            <a:ext cx="212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亲闺女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没有离去，你在我们心中永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民的好公仆啊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611160" y="4365720"/>
            <a:ext cx="23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任妈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78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把泪洒给你，把心掏给你，我们的好局长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用口为你铸碑，用心为你竖碑，百姓的好女儿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没有离去，你在我们心中永生， 人民的好公仆啊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743200" y="5400720"/>
            <a:ext cx="3358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怀念   爱戴  赞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cb040605114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4"/>
          <p:cNvSpPr/>
          <p:nvPr/>
        </p:nvSpPr>
        <p:spPr>
          <a:xfrm>
            <a:off x="307800" y="553932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嵩山常在，颍水长流，万里长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铺满了永不退色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了这篇课文后，你有什么话想对任长霞说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1771560" y="5448240"/>
            <a:ext cx="61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文中的主人公是任长霞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课文为什么不以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任长霞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为题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而要以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心中的丰碑</a:t>
            </a:r>
            <a:r>
              <a:rPr b="1" lang="en-US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1817"/>
                </a:solidFill>
                <a:latin typeface="楷体_GB2312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  <a:ea typeface="楷体_GB2312"/>
              </a:rPr>
              <a:t>题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2922120"/>
            <a:ext cx="778644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赞颂任长霞全心全意为人民服务的崇高精神，以及表现人们对任长霞的爱戴、尊敬、感激和缅怀之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F616-822D-466F-B0FD-F4B3BB0326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ēng     zhēn    wū  yè    j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登封   侦破    呜  咽    拘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ōng  zhù bēi   dào 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凶手    铸   碑     悼念   昼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116000" y="19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105228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呜   咽：伤心哽泣的声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吊   唁：祭奠死者并对家属进行慰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噩   耗：令人吃惊的不幸的消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萦   绕：萦回环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身殉职：在职人员为公务而牺牲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丰碑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高大的石碑，比喻不朽的杰作，伟大的功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708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心中的丰碑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是指矗立在人们心中的，某人的极其崇高的功业或精神品质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6"/>
          <p:cNvSpPr/>
          <p:nvPr/>
        </p:nvSpPr>
        <p:spPr>
          <a:xfrm>
            <a:off x="2843280" y="30891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00710242258846630"/>
          <p:cNvPicPr/>
          <p:nvPr/>
        </p:nvPicPr>
        <p:blipFill>
          <a:blip r:embed="rId1"/>
          <a:stretch/>
        </p:blipFill>
        <p:spPr>
          <a:xfrm>
            <a:off x="0" y="0"/>
            <a:ext cx="4859280" cy="6958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4932360" y="115920"/>
            <a:ext cx="4211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长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加入公安队伍，协助破获大案要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7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起，追捕犯罪嫌疑人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9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被任命为郑州市局技侦支队长后，先后打掉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涉黑团伙，抓获犯罪嫌疑人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名，被誉为警界女神警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调任登封市公安局局长以来，共查结控申案件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起，共破获各种刑事案件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8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起，抓获犯罪嫌疑人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余人，有力的维护了登封社会治安和稳定的政治大局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不幸因公殉职，年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。同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被公安部追授为全国公安系统一级英雄模范称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自己喜欢的方式初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想一想：课文用几件事来写任长霞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永远的朝霞.wma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品文：课文是通过哪几件事来写任长霞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她铲除恶势力，又带领民警帮助恶势力迫害的冯大爹收割麦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%E4%BB%BB%E9%95%B7%E9%9C%9E41766"/>
          <p:cNvPicPr/>
          <p:nvPr/>
        </p:nvPicPr>
        <p:blipFill>
          <a:blip r:embed="rId1"/>
          <a:stretch/>
        </p:blipFill>
        <p:spPr>
          <a:xfrm>
            <a:off x="0" y="1052640"/>
            <a:ext cx="4357800" cy="29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-181080" y="4005360"/>
            <a:ext cx="4572000" cy="3025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4716360" y="2637000"/>
            <a:ext cx="421164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真是难以让人相信的噩耗，老农冯大爹心中像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塌了半边天，跺着脚大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不可能，这不是真的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冯大爹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痛哭不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霞啊，你是俺千家万户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门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贴在百姓心头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福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可你没喝过俺家一口水，没吃过俺家一口馍，就这样走了，我们的心都碎了啊！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0" y="188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韩大妈的女儿被人杀害了，她将躲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的凶手捉拿归案，并像闺女一样照顾韩大妈的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%E4%BB%BB%E9%95%B7%E9%9C%9E41776"/>
          <p:cNvPicPr/>
          <p:nvPr/>
        </p:nvPicPr>
        <p:blipFill>
          <a:blip r:embed="rId1"/>
          <a:stretch/>
        </p:blipFill>
        <p:spPr>
          <a:xfrm>
            <a:off x="0" y="115920"/>
            <a:ext cx="4565520" cy="6742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4643280" y="40204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0" y="2997360"/>
            <a:ext cx="4572000" cy="17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郭岭村的韩大妈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早一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来到登封，她在大街上过了一夜，她想最后看一眼最亲的人，她要送长霞走完最后一程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韩大妈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俺闺女没了，长霞就是俺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亲闺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要是嵩山移得动，俺就要用它为长霞立碑啊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903920" y="887040"/>
            <a:ext cx="39700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养孤女春雨，像妈妈一样照顾她的学习和生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2004060109380000000"/>
          <p:cNvPicPr/>
          <p:nvPr/>
        </p:nvPicPr>
        <p:blipFill>
          <a:blip r:embed="rId1"/>
          <a:stretch/>
        </p:blipFill>
        <p:spPr>
          <a:xfrm>
            <a:off x="0" y="0"/>
            <a:ext cx="4932360" cy="244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xin_47050129155014014063106"/>
          <p:cNvPicPr/>
          <p:nvPr/>
        </p:nvPicPr>
        <p:blipFill>
          <a:blip r:embed="rId2"/>
          <a:stretch/>
        </p:blipFill>
        <p:spPr>
          <a:xfrm>
            <a:off x="0" y="2421000"/>
            <a:ext cx="4932360" cy="234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u=2313667136,721762292&amp;fm=52&amp;gp=0"/>
          <p:cNvPicPr/>
          <p:nvPr/>
        </p:nvPicPr>
        <p:blipFill>
          <a:blip r:embed="rId3"/>
          <a:stretch/>
        </p:blipFill>
        <p:spPr>
          <a:xfrm>
            <a:off x="0" y="4653000"/>
            <a:ext cx="493236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4643280" y="2781360"/>
            <a:ext cx="4067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任妈妈在一起的情景，一幕一幕地在春雨的脑海中闪现，她在悼文中写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妈妈，我正打算捧着奖状给您报喜，可就在考试前一天，您匆匆地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我最亲最爱的好妈妈啊，您不能离开我们，您没有离开我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明天，我也要当一名像您一样的警察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dur="indefinite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6:07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3:55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