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5B63-5E41-4603-9379-D0965F207A1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5A04-0F15-492D-9D12-D762A991BBE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B3FC-F85E-4291-8BDE-9E7F85CF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1BE-70D3-4656-B6C7-6C02725E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B50-2AA8-416C-8358-72CEAB2C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4F90-2D60-4D3A-9BD6-6FC0AEDD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6EC8-97AF-43C3-867A-E65288D7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5CDE-D440-4D90-B97F-BA34A809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9954-3968-423E-B16B-6F709E6A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57F3-E1D6-45A0-8EA4-AE125B8A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E23E-0F7B-4F1A-BFD3-02712ED1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A2A2-1FBA-4369-ACEA-EB2E0F8F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07FE-25D6-4584-9C4D-A89263CF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589-08C6-4F2B-B311-E6590F11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0504-8E77-4155-A866-F196224F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C0E1-6436-49C4-88AF-DB73192C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02F2-09B2-400A-A30D-E034DD64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D030-068E-4E5D-92F5-725CBE03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270C-38C3-4D3E-AA8F-32F99390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7304B-B574-4A95-8661-B8AFBB85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AEC1B-4803-4F80-A174-9CB681B4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3F455-66D6-42CF-8F25-651319DC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B9582-8470-4D01-A5F6-AB0FD673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BFCB3-CFDD-4352-8556-245CE81C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B193-F38E-4833-977D-55C56725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1581A-2C84-4625-945C-36C70E9A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61D07-84E4-4C63-A0F8-0CDA9AF3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29A9C-993C-49EF-831B-15D05FDB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FB943-E7E8-4846-A6E0-587EC7FB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1546B-3FCA-4A44-87FA-9B339EBB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3D227-3D48-4DAD-A370-6F199005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413F9-E677-4144-AAD0-C2B19CEC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4F7A3-6D43-4665-A453-143BDBB7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F1D54-298A-47D4-8996-420F1AD1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85CC4-6DD3-4AB7-B594-9BFBE32E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E173-BE8B-43EC-8DCB-7E83143B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08DB4-2286-43FD-B8BF-00C96067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D06E8-07A3-407B-A5EC-2E92E6D3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5B77A-1AA0-4602-95EC-72650821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BEA84-F4F9-456C-9C13-2E2BC860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EF52B-0A9A-4897-BA87-A6788ED0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B16D6-12B6-495F-BA69-12382129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0F12D-D548-4711-ABB9-65D7CE60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6FB58-0816-4071-A231-3449C29B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0C8BF-887C-4CCD-809C-711A9E96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AB85F-2728-4AD1-A4B4-73229132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FB81-5FD3-4F21-8D08-72A65420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6DBB2-3EBB-4ACE-A272-9FAE173A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126A3-15A0-41D2-AE5A-BD90AE09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5FEBE-BDE6-4A75-B634-3B9EFF81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4086C-7BD3-4372-B7BD-1DBE322E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53AE7-6FE2-492F-838B-B1D9204E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72A11-86E2-4BFF-89EC-D3022A82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E6D0F-88A7-43DC-8123-B18E1F21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4A6EB-C83F-4194-8718-07253537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28E1A-C5B2-4614-8BA6-658DAE0E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6ADF7-3CD3-4732-B0FE-3A90E1AFE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09D-00F3-4EFA-A8D3-AA696684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2E5DB-4439-4710-96AA-37601FE4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C48C-64DE-4929-9636-46419DA0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6DA-0DEE-43A5-A60C-104100FC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0385-2600-4BD5-9113-11C29390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99EC-8FF4-4C4F-88BD-A6CE7E90A2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DC71-EE20-4686-8CD6-2FA0D2E76D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9909-02EB-4E66-A26E-40D915810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8119-D9D9-4581-ABF9-5D54B70E81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8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A031-34A1-429E-902C-EC604339C5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826920" y="105264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湘教版一年级语文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5"/>
          <p:cNvSpPr txBox="1"/>
          <p:nvPr/>
        </p:nvSpPr>
        <p:spPr>
          <a:xfrm>
            <a:off x="1619280" y="2492280"/>
            <a:ext cx="576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7.</a:t>
            </a: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想做好事的孩子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44" name="Picture 7" descr="MCj01933360000[1]"/>
          <p:cNvPicPr/>
          <p:nvPr/>
        </p:nvPicPr>
        <p:blipFill>
          <a:blip r:embed="rId4"/>
          <a:stretch/>
        </p:blipFill>
        <p:spPr>
          <a:xfrm>
            <a:off x="6972480" y="3789360"/>
            <a:ext cx="1423800" cy="2135160"/>
          </a:xfrm>
          <a:prstGeom prst="rect">
            <a:avLst/>
          </a:prstGeom>
          <a:ln w="0">
            <a:noFill/>
          </a:ln>
        </p:spPr>
      </p:pic>
      <p:sp>
        <p:nvSpPr>
          <p:cNvPr id="245" name="矩形 6"/>
          <p:cNvSpPr/>
          <p:nvPr/>
        </p:nvSpPr>
        <p:spPr>
          <a:xfrm>
            <a:off x="1775880" y="57196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IMG_5069"/>
          <p:cNvPicPr/>
          <p:nvPr/>
        </p:nvPicPr>
        <p:blipFill>
          <a:blip r:embed="rId1"/>
          <a:stretch/>
        </p:blipFill>
        <p:spPr>
          <a:xfrm>
            <a:off x="1332000" y="0"/>
            <a:ext cx="662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2050920" y="2924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小尤拉坐下来后是怎样的？（小组讨论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细读感悟"/>
          <p:cNvPicPr/>
          <p:nvPr/>
        </p:nvPicPr>
        <p:blipFill>
          <a:blip r:embed="rId1"/>
          <a:stretch/>
        </p:blipFill>
        <p:spPr>
          <a:xfrm>
            <a:off x="611280" y="1341360"/>
            <a:ext cx="194472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细读感悟"/>
          <p:cNvPicPr/>
          <p:nvPr/>
        </p:nvPicPr>
        <p:blipFill>
          <a:blip r:embed="rId1"/>
          <a:stretch/>
        </p:blipFill>
        <p:spPr>
          <a:xfrm>
            <a:off x="611280" y="1413000"/>
            <a:ext cx="1944720" cy="5205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1332000" y="2708280"/>
            <a:ext cx="6551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你认为他这样做，好吗？为什么？如果是你会怎样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同学们讨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5"/>
          <p:cNvSpPr/>
          <p:nvPr/>
        </p:nvSpPr>
        <p:spPr>
          <a:xfrm>
            <a:off x="1547640" y="2276640"/>
            <a:ext cx="496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2124000" y="148392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学习用“如果”说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387000" y="2489400"/>
            <a:ext cx="735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果妹妹病了，我就去看护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果妹妹想玩，我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果小狗掉进井里，我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果小狗口渴了，我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细读感悟"/>
          <p:cNvPicPr/>
          <p:nvPr/>
        </p:nvPicPr>
        <p:blipFill>
          <a:blip r:embed="rId1"/>
          <a:stretch/>
        </p:blipFill>
        <p:spPr>
          <a:xfrm>
            <a:off x="611280" y="1052640"/>
            <a:ext cx="1944720" cy="52056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971640" y="2349360"/>
            <a:ext cx="64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小尤拉这么想做好事，可是他做了吗？他去问妈妈为什么要好事，妈妈怎么回答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Arial"/>
              </a:rPr>
              <a:t>拓展学习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3964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完课文后，你认为我们今后该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自由讨论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WordArt 4"/>
          <p:cNvSpPr txBox="1"/>
          <p:nvPr/>
        </p:nvSpPr>
        <p:spPr>
          <a:xfrm>
            <a:off x="2700360" y="2421000"/>
            <a:ext cx="3816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再见！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282" name="Picture 6" descr="MCj04211540000[1]"/>
          <p:cNvPicPr/>
          <p:nvPr/>
        </p:nvPicPr>
        <p:blipFill>
          <a:blip r:embed="rId1"/>
          <a:stretch/>
        </p:blipFill>
        <p:spPr>
          <a:xfrm>
            <a:off x="7236000" y="3357720"/>
            <a:ext cx="1427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767ff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62D7-7165-437D-8227-1A924725D3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2009341221878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6129360"/>
          </a:xfrm>
          <a:prstGeom prst="rect">
            <a:avLst/>
          </a:prstGeom>
          <a:ln w="0">
            <a:noFill/>
          </a:ln>
        </p:spPr>
      </p:pic>
      <p:sp>
        <p:nvSpPr>
          <p:cNvPr id="247" name="文本框 1"/>
          <p:cNvSpPr/>
          <p:nvPr/>
        </p:nvSpPr>
        <p:spPr>
          <a:xfrm>
            <a:off x="954000" y="165240"/>
            <a:ext cx="634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2005378010706"/>
          <p:cNvPicPr/>
          <p:nvPr/>
        </p:nvPicPr>
        <p:blipFill>
          <a:blip r:embed="rId1"/>
          <a:stretch/>
        </p:blipFill>
        <p:spPr>
          <a:xfrm>
            <a:off x="395280" y="549360"/>
            <a:ext cx="828036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684360" y="220500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认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生字，理解课文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懂得要想具备良好品德，必须从小事做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55640" y="1484280"/>
            <a:ext cx="144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学习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2"/>
          <p:cNvSpPr/>
          <p:nvPr/>
        </p:nvSpPr>
        <p:spPr>
          <a:xfrm>
            <a:off x="0" y="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1116000" y="549360"/>
            <a:ext cx="8675640" cy="59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Z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ò            m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è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          g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ē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w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做           妹        哥        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（做人）   （妹妹） （哥哥）（玩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（做工）   （姐妹） （大哥）（玩笑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u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hu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t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ī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g         j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ǐ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抓            话          听          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（抓人）   （电话） （听见） （井水）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（抓住）   （听话） （听话） （打井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6"/>
          <p:cNvSpPr/>
          <p:nvPr/>
        </p:nvSpPr>
        <p:spPr>
          <a:xfrm>
            <a:off x="2495880" y="1844640"/>
            <a:ext cx="4089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断   枪   死   捞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1993320" y="4076640"/>
            <a:ext cx="2741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像   夹   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828000" y="1246320"/>
            <a:ext cx="11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uà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2762280" y="1268280"/>
            <a:ext cx="12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iā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4975560" y="126828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s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6802560" y="128916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lā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900000" y="3645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iàng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3093480" y="3592440"/>
            <a:ext cx="76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ji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4849920" y="357336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ā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92000" y="836280"/>
            <a:ext cx="251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Arial"/>
              </a:rPr>
              <a:t>比一比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     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哥     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    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劳     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     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611280" y="263700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  <a:ea typeface="宋体"/>
              </a:rPr>
              <a:t>自读课文，想一想：课文写了一件什么事？想做好事的孩子是谁？他是怎样想的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68360" y="141300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阅读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MCBD06661_0000[1]"/>
          <p:cNvPicPr/>
          <p:nvPr/>
        </p:nvPicPr>
        <p:blipFill>
          <a:blip r:embed="rId1"/>
          <a:stretch/>
        </p:blipFill>
        <p:spPr>
          <a:xfrm>
            <a:off x="6516720" y="4149720"/>
            <a:ext cx="17478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5" descr="IMG_5067"/>
          <p:cNvPicPr/>
          <p:nvPr/>
        </p:nvPicPr>
        <p:blipFill>
          <a:blip r:embed="rId1"/>
          <a:stretch/>
        </p:blipFill>
        <p:spPr>
          <a:xfrm>
            <a:off x="0" y="0"/>
            <a:ext cx="431316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IMG_5068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07:42:16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15:32Z</dcterms:modified>
  <cp:revision>2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