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png" ContentType="image/png"/>
  <Override PartName="/ppt/media/image6.gif" ContentType="image/gif"/>
  <Override PartName="/ppt/media/image8.png" ContentType="image/png"/>
  <Override PartName="/ppt/media/image14.jpeg" ContentType="image/jpeg"/>
  <Override PartName="/ppt/media/image16.wmf" ContentType="image/x-wmf"/>
  <Override PartName="/ppt/media/image7.wmf" ContentType="image/x-wmf"/>
  <Override PartName="/ppt/media/image10.wmf" ContentType="image/x-wmf"/>
  <Override PartName="/ppt/media/voltage.wav" ContentType="audio/x-wav"/>
  <Override PartName="/ppt/media/image13.jpeg" ContentType="image/jpeg"/>
  <Override PartName="/ppt/media/image3.wmf" ContentType="image/x-wmf"/>
  <Override PartName="/ppt/media/image4.png" ContentType="image/png"/>
  <Override PartName="/ppt/media/chimes.wav" ContentType="audio/x-wav"/>
  <Override PartName="/ppt/media/cashreg.wav" ContentType="audio/x-wav"/>
  <Override PartName="/ppt/media/image12.jpeg" ContentType="image/jpeg"/>
  <Override PartName="/ppt/media/image5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camera.wav" ContentType="audio/x-wav"/>
  <Override PartName="/ppt/media/image17.gif" ContentType="image/gi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8834-7091-48A1-8AA3-51D694A7FE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E2E1-9E67-4849-853F-5C30F40885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662-70FE-4905-AE2A-1FB64953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7F8-678B-419B-8499-C421F70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0B8-3852-49E3-960A-81A02428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CF1-5D41-462E-8EC2-32684321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D57-D239-4178-9375-F3681DC5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D0A-8EA5-47D8-905F-AB9F0AE1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293-4C9B-4382-A741-177F285A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E1A-523C-4B28-B46B-20A7CE3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4B9-8FFE-49E7-A111-CAE0B0DD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123-B0C4-48F0-9B90-DA1A816A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28B-8E8D-4AA2-8DCA-CF043CD9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AD0-0442-44A0-BFC0-70D5FD0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A6E4-40FC-4BB2-81C3-A6906968C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308240" y="1773360"/>
            <a:ext cx="65768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《掩耳盗铃》</a:t>
            </a:r>
            <a:endParaRPr b="1" lang="en-US" sz="4400" spc="-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52200" y="56055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836640"/>
            <a:ext cx="833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掩耳盗铃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中的那个偷铃铛的人想法对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93640" y="242100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他“聪明”地以为捂住了自己的耳朵，也就捂住了别人的耳朵，大家就都听不见铃声了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24000" y="1197000"/>
            <a:ext cx="83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如果把耳朵掩住，不就听不见响声了吗？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这个想法是聪明的，还是愚蠢的，为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把耳朵掩住，为什么还被人发觉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偷铃铛之前，知道不知道有这样的结果从哪儿看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知道有这样的后果，还要这样做，欺骗的是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2448000" cy="6080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332000" y="213372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这则寓言告诉人们一个什么道理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43280" y="-360"/>
            <a:ext cx="25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寓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162864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这个故事告诉人们：做了坏事又想让别人不知道这是不可能的，自作聪明的结果是自己害了自己。“掩耳盗铃”这个成语用来比喻自己欺骗自己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j0149627"/>
          <p:cNvPicPr/>
          <p:nvPr/>
        </p:nvPicPr>
        <p:blipFill>
          <a:blip r:embed="rId1"/>
          <a:stretch/>
        </p:blipFill>
        <p:spPr>
          <a:xfrm rot="838800">
            <a:off x="5718240" y="5276880"/>
            <a:ext cx="2208240" cy="1668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755640" y="1159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98653"/>
          <p:cNvPicPr/>
          <p:nvPr/>
        </p:nvPicPr>
        <p:blipFill>
          <a:blip r:embed="rId2"/>
          <a:stretch/>
        </p:blipFill>
        <p:spPr>
          <a:xfrm>
            <a:off x="539640" y="4941720"/>
            <a:ext cx="2232000" cy="16830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 rot="966000">
            <a:off x="7092720" y="404640"/>
            <a:ext cx="1239840" cy="648000"/>
          </a:xfrm>
          <a:custGeom>
            <a:avLst/>
            <a:gdLst>
              <a:gd name="textAreaLeft" fmla="*/ 492120 w 1239840"/>
              <a:gd name="textAreaRight" fmla="*/ 747720 w 1239840"/>
              <a:gd name="textAreaTop" fmla="*/ 257040 h 648000"/>
              <a:gd name="textAreaBottom" fmla="*/ 3909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74" y="8574"/>
                </a:lnTo>
                <a:lnTo>
                  <a:pt x="10800" y="0"/>
                </a:lnTo>
                <a:lnTo>
                  <a:pt x="13026" y="8574"/>
                </a:lnTo>
                <a:lnTo>
                  <a:pt x="21600" y="10800"/>
                </a:lnTo>
                <a:lnTo>
                  <a:pt x="13026" y="13026"/>
                </a:lnTo>
                <a:lnTo>
                  <a:pt x="10800" y="21600"/>
                </a:lnTo>
                <a:lnTo>
                  <a:pt x="8574" y="1302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108000" y="333360"/>
            <a:ext cx="367344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联系生活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112536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彩云"/>
              </a:rPr>
              <a:t>那么生活中有没有这样自欺欺人的事或图片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 rot="966000">
            <a:off x="6156000" y="404640"/>
            <a:ext cx="1239840" cy="648000"/>
          </a:xfrm>
          <a:custGeom>
            <a:avLst/>
            <a:gdLst>
              <a:gd name="textAreaLeft" fmla="*/ 492120 w 1239840"/>
              <a:gd name="textAreaRight" fmla="*/ 747720 w 1239840"/>
              <a:gd name="textAreaTop" fmla="*/ 257040 h 648000"/>
              <a:gd name="textAreaBottom" fmla="*/ 3909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74" y="8574"/>
                </a:lnTo>
                <a:lnTo>
                  <a:pt x="10800" y="0"/>
                </a:lnTo>
                <a:lnTo>
                  <a:pt x="13026" y="8574"/>
                </a:lnTo>
                <a:lnTo>
                  <a:pt x="21600" y="10800"/>
                </a:lnTo>
                <a:lnTo>
                  <a:pt x="13026" y="13026"/>
                </a:lnTo>
                <a:lnTo>
                  <a:pt x="10800" y="21600"/>
                </a:lnTo>
                <a:lnTo>
                  <a:pt x="8574" y="1302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 rot="966000">
            <a:off x="5219280" y="404640"/>
            <a:ext cx="1239840" cy="648000"/>
          </a:xfrm>
          <a:custGeom>
            <a:avLst/>
            <a:gdLst>
              <a:gd name="textAreaLeft" fmla="*/ 492120 w 1239840"/>
              <a:gd name="textAreaRight" fmla="*/ 747720 w 1239840"/>
              <a:gd name="textAreaTop" fmla="*/ 257040 h 648000"/>
              <a:gd name="textAreaBottom" fmla="*/ 3909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74" y="8574"/>
                </a:lnTo>
                <a:lnTo>
                  <a:pt x="10800" y="0"/>
                </a:lnTo>
                <a:lnTo>
                  <a:pt x="13026" y="8574"/>
                </a:lnTo>
                <a:lnTo>
                  <a:pt x="21600" y="10800"/>
                </a:lnTo>
                <a:lnTo>
                  <a:pt x="13026" y="13026"/>
                </a:lnTo>
                <a:lnTo>
                  <a:pt x="10800" y="21600"/>
                </a:lnTo>
                <a:lnTo>
                  <a:pt x="8574" y="1302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 rot="966000">
            <a:off x="4284720" y="476280"/>
            <a:ext cx="1239840" cy="647640"/>
          </a:xfrm>
          <a:custGeom>
            <a:avLst/>
            <a:gdLst>
              <a:gd name="textAreaLeft" fmla="*/ 492120 w 1239840"/>
              <a:gd name="textAreaRight" fmla="*/ 747720 w 1239840"/>
              <a:gd name="textAreaTop" fmla="*/ 257040 h 647640"/>
              <a:gd name="textAreaBottom" fmla="*/ 390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74" y="8574"/>
                </a:lnTo>
                <a:lnTo>
                  <a:pt x="10800" y="0"/>
                </a:lnTo>
                <a:lnTo>
                  <a:pt x="13026" y="8574"/>
                </a:lnTo>
                <a:lnTo>
                  <a:pt x="21600" y="10800"/>
                </a:lnTo>
                <a:lnTo>
                  <a:pt x="13026" y="13026"/>
                </a:lnTo>
                <a:lnTo>
                  <a:pt x="10800" y="21600"/>
                </a:lnTo>
                <a:lnTo>
                  <a:pt x="8574" y="1302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116000" y="177336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     </a:t>
            </a:r>
            <a:r>
              <a:rPr b="1" lang="zh-CN" sz="1800" spc="-1" strike="noStrike">
                <a:solidFill>
                  <a:srgbClr val="ff00ff"/>
                </a:solidFill>
                <a:latin typeface="华文新魏"/>
                <a:ea typeface="华文新魏"/>
              </a:rPr>
              <a:t>学生抄袭作业；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老师看到没有学生提问，被学生的假象迷惑，以为学生全懂了；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犯罪分子明知自己在犯法，却铤而走险；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社会上一些人为了经济利益，置法律、整改于不顾，最后出事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……</a:t>
            </a:r>
            <a:r>
              <a:rPr b="1" lang="en-US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u=2734472983,2452027781&amp;fm=23&amp;gp=0"/>
          <p:cNvPicPr/>
          <p:nvPr/>
        </p:nvPicPr>
        <p:blipFill>
          <a:blip r:embed="rId3"/>
          <a:stretch/>
        </p:blipFill>
        <p:spPr>
          <a:xfrm>
            <a:off x="1547640" y="3789360"/>
            <a:ext cx="333396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u=2498051556,3716167071&amp;fm=23&amp;gp=0"/>
          <p:cNvPicPr/>
          <p:nvPr/>
        </p:nvPicPr>
        <p:blipFill>
          <a:blip r:embed="rId4"/>
          <a:stretch/>
        </p:blipFill>
        <p:spPr>
          <a:xfrm>
            <a:off x="4859280" y="3357720"/>
            <a:ext cx="309744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u=3897728679,260852851&amp;fm=0&amp;gp=0"/>
          <p:cNvPicPr/>
          <p:nvPr/>
        </p:nvPicPr>
        <p:blipFill>
          <a:blip r:embed="rId5"/>
          <a:stretch/>
        </p:blipFill>
        <p:spPr>
          <a:xfrm>
            <a:off x="5148360" y="5013360"/>
            <a:ext cx="345600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6" name="chimes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5832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Arial"/>
                <a:ea typeface="华文行楷"/>
              </a:rPr>
              <a:t>拓展训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j0199036"/>
          <p:cNvPicPr/>
          <p:nvPr/>
        </p:nvPicPr>
        <p:blipFill>
          <a:blip r:embed="rId1"/>
          <a:stretch/>
        </p:blipFill>
        <p:spPr>
          <a:xfrm>
            <a:off x="6480" y="4775040"/>
            <a:ext cx="162864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j0292152"/>
          <p:cNvPicPr/>
          <p:nvPr/>
        </p:nvPicPr>
        <p:blipFill>
          <a:blip r:embed="rId2"/>
          <a:stretch/>
        </p:blipFill>
        <p:spPr>
          <a:xfrm>
            <a:off x="7343640" y="5346720"/>
            <a:ext cx="1800360" cy="1511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042920" y="2133720"/>
            <a:ext cx="640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71640" y="1844640"/>
            <a:ext cx="7561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彩云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选择填上成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掩耳盗铃、亡羊补牢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揠苗助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、现在许多家长望子成龙，不顾孩子实际，让孩子学这学那，这真是（        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、我发现了自己的错误，赶紧改正，还算（         ）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、有的同学做练习册上的题目，照抄后面的答案，这不是（         ）、自欺欺人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332000" y="1701720"/>
            <a:ext cx="865080" cy="576360"/>
          </a:xfrm>
          <a:prstGeom prst="ellipse">
            <a:avLst/>
          </a:prstGeom>
          <a:solidFill>
            <a:srgbClr val="ff00ff"/>
          </a:solidFill>
          <a:ln cap="rnd" w="9360">
            <a:solidFill>
              <a:srgbClr val="66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3840" y="1358640"/>
            <a:ext cx="610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66"/>
                </a:solidFill>
                <a:latin typeface="Arial"/>
                <a:ea typeface="方正舒体"/>
              </a:rPr>
              <a:t>谢谢指导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再见"/>
          <p:cNvPicPr/>
          <p:nvPr/>
        </p:nvPicPr>
        <p:blipFill>
          <a:blip r:embed="rId1"/>
          <a:stretch/>
        </p:blipFill>
        <p:spPr>
          <a:xfrm>
            <a:off x="2124000" y="2492280"/>
            <a:ext cx="4416480" cy="367848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"/>
          <p:cNvSpPr/>
          <p:nvPr/>
        </p:nvSpPr>
        <p:spPr>
          <a:xfrm>
            <a:off x="1009800" y="5978520"/>
            <a:ext cx="55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44D5-1DA6-41B4-84F5-B294F525AA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87280" y="1989000"/>
            <a:ext cx="66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长期的流传过程中，寓言才成为一种独特的文体，它主要的特点是：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般用一个假托的故事来隐喻，说明一个深刻的道理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采用拟人化手法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具有强烈的夸张和讽刺的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3132000" y="98100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寓言的特点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"/>
                            </p:stCondLst>
                            <p:childTnLst>
                              <p:par>
                                <p:cTn id="10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1"/>
          <p:cNvSpPr/>
          <p:nvPr/>
        </p:nvSpPr>
        <p:spPr>
          <a:xfrm>
            <a:off x="7451640" y="551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57610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行楷"/>
              </a:rPr>
              <a:t>理解字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j0286034"/>
          <p:cNvPicPr/>
          <p:nvPr/>
        </p:nvPicPr>
        <p:blipFill>
          <a:blip r:embed="rId1"/>
          <a:stretch/>
        </p:blipFill>
        <p:spPr>
          <a:xfrm>
            <a:off x="6262560" y="4797360"/>
            <a:ext cx="2881440" cy="2233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0291984"/>
          <p:cNvPicPr/>
          <p:nvPr/>
        </p:nvPicPr>
        <p:blipFill>
          <a:blip r:embed="rId2"/>
          <a:stretch/>
        </p:blipFill>
        <p:spPr>
          <a:xfrm>
            <a:off x="0" y="2205000"/>
            <a:ext cx="1944720" cy="2233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979640" y="38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彩云"/>
              </a:rPr>
              <a:t>掩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彩云"/>
              </a:rPr>
              <a:t>耳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彩云"/>
              </a:rPr>
              <a:t>盗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彩云"/>
              </a:rPr>
              <a:t>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3276720" y="4941720"/>
            <a:ext cx="914400" cy="914400"/>
          </a:xfrm>
          <a:prstGeom prst="borderCallout1">
            <a:avLst>
              <a:gd name="adj1" fmla="val 18750"/>
              <a:gd name="adj2" fmla="val -8333"/>
              <a:gd name="adj3" fmla="val -46356"/>
              <a:gd name="adj4" fmla="val -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华文彩云"/>
              </a:rPr>
              <a:t>偷</a:t>
            </a:r>
            <a:r>
              <a:rPr b="0" lang="zh-CN" sz="4000" spc="-1" strike="noStrike">
                <a:solidFill>
                  <a:srgbClr val="66ccff"/>
                </a:solidFill>
                <a:latin typeface="Arial"/>
                <a:ea typeface="华文彩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340000" y="2781360"/>
            <a:ext cx="1440000" cy="1079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  <a:ea typeface="华文彩云"/>
              </a:rPr>
              <a:t>遮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华文彩云"/>
              </a:rPr>
              <a:t>，捂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4643280" y="2421000"/>
            <a:ext cx="4321440" cy="2305080"/>
          </a:xfrm>
          <a:prstGeom prst="wedgeEllipseCallout">
            <a:avLst>
              <a:gd name="adj1" fmla="val -68444"/>
              <a:gd name="adj2" fmla="val 23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捂住自己的耳朵去偷别人的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3" name="type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00000" y="1844640"/>
            <a:ext cx="7777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自由读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掩耳盗铃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读准课文的生字字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想一想课文讲了一个什么故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763640" y="1197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则寓言讲述了一个盗铃人掩着自己的耳朵去偷人家的门铃铛，当场被发现的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331640" y="1557000"/>
            <a:ext cx="431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寓               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零               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竽               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腮               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腔               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149800" y="1557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836720" y="155736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989440" y="1557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寓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372360" y="1557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盗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3348000" y="90792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92360" y="23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lí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989440" y="2349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丁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19640" y="23526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372360" y="2349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泛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076720" y="31370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guō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1763640" y="31370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ú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987640" y="31370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吹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372360" y="314172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城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765440" y="393696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ā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221440" y="393372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3059280" y="393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腮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6372360" y="393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捂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292720" y="4724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ā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620720" y="472428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iā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3132000" y="472428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腔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372360" y="472428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挨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1835280" y="55864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li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3059280" y="55864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溜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cover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878120" y="960480"/>
            <a:ext cx="676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知道偷铃铛的后果了吗？从文中哪句话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？请画出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Rm_07"/>
          <p:cNvPicPr/>
          <p:nvPr/>
        </p:nvPicPr>
        <p:blipFill>
          <a:blip r:embed="rId1"/>
          <a:srcRect l="6245" t="26097" r="34380" b="0"/>
          <a:stretch/>
        </p:blipFill>
        <p:spPr>
          <a:xfrm>
            <a:off x="0" y="4724280"/>
            <a:ext cx="148428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Object 4" descr=""/>
          <p:cNvPicPr/>
          <p:nvPr/>
        </p:nvPicPr>
        <p:blipFill>
          <a:blip r:embed="rId2"/>
          <a:stretch/>
        </p:blipFill>
        <p:spPr>
          <a:xfrm>
            <a:off x="5440320" y="3956040"/>
            <a:ext cx="514440" cy="792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127240" y="1486080"/>
            <a:ext cx="69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他</a:t>
            </a:r>
            <a:r>
              <a:rPr b="0" lang="zh-CN" sz="5400" spc="-1" strike="noStrike" u="sng">
                <a:solidFill>
                  <a:srgbClr val="6600ff"/>
                </a:solidFill>
                <a:uFillTx/>
                <a:latin typeface="Arial"/>
              </a:rPr>
              <a:t>明明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知道，那个铃铛只要用手一碰，就会丁零丁零地响起来，立刻会被人</a:t>
            </a:r>
            <a:r>
              <a:rPr b="0" lang="zh-CN" sz="5400" spc="-1" strike="noStrike" u="sng">
                <a:solidFill>
                  <a:srgbClr val="006600"/>
                </a:solidFill>
                <a:uFillTx/>
                <a:latin typeface="Arial"/>
              </a:rPr>
              <a:t>发觉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 rot="20820000">
            <a:off x="411480" y="939960"/>
            <a:ext cx="12776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佳句品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花"/>
          <p:cNvPicPr/>
          <p:nvPr/>
        </p:nvPicPr>
        <p:blipFill>
          <a:blip r:embed="rId3"/>
          <a:stretch/>
        </p:blipFill>
        <p:spPr>
          <a:xfrm>
            <a:off x="38160" y="117360"/>
            <a:ext cx="934920" cy="136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花"/>
          <p:cNvPicPr/>
          <p:nvPr/>
        </p:nvPicPr>
        <p:blipFill>
          <a:blip r:embed="rId4"/>
          <a:stretch/>
        </p:blipFill>
        <p:spPr>
          <a:xfrm>
            <a:off x="7020000" y="4869000"/>
            <a:ext cx="17715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460080"/>
            <a:ext cx="8532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00"/>
                </a:solidFill>
                <a:latin typeface="Arial"/>
                <a:ea typeface="华文行楷"/>
              </a:rPr>
              <a:t>巧嘴巴 会说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250920" y="5013360"/>
            <a:ext cx="2016000" cy="1511280"/>
          </a:xfrm>
          <a:prstGeom prst="smileyFace">
            <a:avLst>
              <a:gd name="adj" fmla="val 4653"/>
            </a:avLst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彩云"/>
              </a:rPr>
              <a:t>说得真棒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 rot="1672200">
            <a:off x="766440" y="316080"/>
            <a:ext cx="674640" cy="799920"/>
          </a:xfrm>
          <a:custGeom>
            <a:avLst/>
            <a:gdLst/>
            <a:ahLst/>
            <a:rect l="l" t="t" r="r" b="b"/>
            <a:pathLst>
              <a:path w="674687" h="800100">
                <a:moveTo>
                  <a:pt x="0" y="305610"/>
                </a:moveTo>
                <a:lnTo>
                  <a:pt x="257709" y="305612"/>
                </a:lnTo>
                <a:lnTo>
                  <a:pt x="337343" y="0"/>
                </a:lnTo>
                <a:lnTo>
                  <a:pt x="416978" y="305612"/>
                </a:lnTo>
                <a:lnTo>
                  <a:pt x="674686" y="305610"/>
                </a:lnTo>
                <a:lnTo>
                  <a:pt x="466195" y="494486"/>
                </a:lnTo>
                <a:lnTo>
                  <a:pt x="545833" y="800097"/>
                </a:lnTo>
                <a:lnTo>
                  <a:pt x="337343" y="611217"/>
                </a:lnTo>
                <a:lnTo>
                  <a:pt x="128854" y="800097"/>
                </a:lnTo>
                <a:lnTo>
                  <a:pt x="208492" y="4944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46360" y="1973160"/>
            <a:ext cx="69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彩云"/>
              </a:rPr>
              <a:t>①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彩云"/>
              </a:rPr>
              <a:t>他明明知道，只要＿＿＿＿，铃铛就会＿＿＿＿＿。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763640" y="26971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方正姚体"/>
              </a:rPr>
              <a:t>②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方正姚体"/>
              </a:rPr>
              <a:t>他明明知道，只要铃铛＿＿＿＿，主人就会＿＿＿＿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40000" y="41274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           </a:t>
            </a:r>
            <a:r>
              <a:rPr b="1" i="1" lang="zh-CN" sz="20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用 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‘‘只要……就……”说话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332000" y="3284640"/>
            <a:ext cx="934920" cy="1366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Arial"/>
                <a:ea typeface="华文新魏"/>
              </a:rPr>
              <a:t>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Arial"/>
                <a:ea typeface="华文新魏"/>
              </a:rPr>
              <a:t>说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763640" y="2997360"/>
            <a:ext cx="6027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933640" y="35258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方正姚体"/>
              </a:rPr>
              <a:t>只要＿＿＿＿，就＿＿＿＿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j0183290"/>
          <p:cNvPicPr/>
          <p:nvPr/>
        </p:nvPicPr>
        <p:blipFill>
          <a:blip r:embed="rId1"/>
          <a:stretch/>
        </p:blipFill>
        <p:spPr>
          <a:xfrm>
            <a:off x="5292720" y="1052640"/>
            <a:ext cx="2987640" cy="3240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"/>
          <p:cNvSpPr/>
          <p:nvPr/>
        </p:nvSpPr>
        <p:spPr>
          <a:xfrm rot="1672200">
            <a:off x="766440" y="316080"/>
            <a:ext cx="674640" cy="799920"/>
          </a:xfrm>
          <a:custGeom>
            <a:avLst/>
            <a:gdLst/>
            <a:ahLst/>
            <a:rect l="l" t="t" r="r" b="b"/>
            <a:pathLst>
              <a:path w="674687" h="800100">
                <a:moveTo>
                  <a:pt x="0" y="305610"/>
                </a:moveTo>
                <a:lnTo>
                  <a:pt x="257709" y="305612"/>
                </a:lnTo>
                <a:lnTo>
                  <a:pt x="337343" y="0"/>
                </a:lnTo>
                <a:lnTo>
                  <a:pt x="416978" y="305612"/>
                </a:lnTo>
                <a:lnTo>
                  <a:pt x="674686" y="305610"/>
                </a:lnTo>
                <a:lnTo>
                  <a:pt x="466195" y="494486"/>
                </a:lnTo>
                <a:lnTo>
                  <a:pt x="545833" y="800097"/>
                </a:lnTo>
                <a:lnTo>
                  <a:pt x="337343" y="611217"/>
                </a:lnTo>
                <a:lnTo>
                  <a:pt x="128854" y="800097"/>
                </a:lnTo>
                <a:lnTo>
                  <a:pt x="208492" y="4944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5651640" y="4432320"/>
            <a:ext cx="1944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黑体"/>
              </a:rPr>
              <a:t>品句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826920" y="1413000"/>
            <a:ext cx="381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如果</a:t>
            </a:r>
            <a:r>
              <a:rPr b="1" lang="zh-CN" sz="4800" spc="-1" strike="noStrike">
                <a:solidFill>
                  <a:srgbClr val="7030a0"/>
                </a:solidFill>
                <a:latin typeface="Arial"/>
                <a:ea typeface="华文彩云"/>
              </a:rPr>
              <a:t>我把耳朵掩住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不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就</a:t>
            </a:r>
            <a:r>
              <a:rPr b="1" lang="zh-CN" sz="4800" spc="-1" strike="noStrike">
                <a:solidFill>
                  <a:srgbClr val="7030a0"/>
                </a:solidFill>
                <a:latin typeface="Arial"/>
                <a:ea typeface="华文彩云"/>
              </a:rPr>
              <a:t>听不见响声了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0:09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20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