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437C-7147-4437-9E2A-D0C3D6C4C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0A1A-1DF1-4B9C-8B19-464FDFE09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8DD7-9502-41E6-9888-7EC0B9AD9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50A-F680-4CF1-A928-29B8430B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E57-3115-4B25-88D1-66989C18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EAC-1B28-4E9C-B4FA-A01B23C9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DEF-5305-49BB-B639-4849FF6E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83C-888C-4964-B207-868FD791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6ED-A91C-4E41-BCAA-43B5B0C9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E41-A596-4613-BCCE-2E0BC0E3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E6B-3224-4644-A360-0DD8A929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0AE-3C84-41E5-9CEC-24EF25FE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3F2-3D98-4FB0-B6CA-E9A19AF8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0BF-873C-4F70-B6E0-1196E67A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28B-7E9A-45A6-AC97-618A1BC1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8148-F4FC-4433-B497-71D263674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419640" y="69228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湘教版一年级语文上册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835280" y="2205000"/>
            <a:ext cx="5184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Times New Roman"/>
              </a:rPr>
              <a:t>咏  鹅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270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3186720" y="7938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cc"/>
                </a:solidFill>
                <a:latin typeface="Times New Roman"/>
                <a:ea typeface="隶书"/>
              </a:rPr>
              <a:t>咏  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728960" y="26668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诗词等来叙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982880" y="4495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咏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109960" y="2666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957560" y="44956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诗歌来叙述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428720" y="380880"/>
            <a:ext cx="77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cc"/>
                </a:solidFill>
                <a:latin typeface="Times New Roman"/>
                <a:ea typeface="隶书"/>
              </a:rPr>
              <a:t>曲项向天歌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09480" y="466416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曲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286000" y="2133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曲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839760" y="213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弯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347720" y="30481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颈的后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3204720" y="46641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弯着脖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2362320" y="533412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昂着头，朝着天空高声唱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2286000" y="30481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33520" y="534996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向天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96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2912400" y="55260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cc"/>
                </a:solidFill>
                <a:latin typeface="Times New Roman"/>
                <a:ea typeface="隶书"/>
              </a:rPr>
              <a:t>白毛浮绿水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744920" y="3124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白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277880" y="31240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雪白的羽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563800" y="43434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浮在碧绿的水面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919160" y="4343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浮绿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505040" y="762120"/>
            <a:ext cx="77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cc"/>
                </a:solidFill>
                <a:latin typeface="Times New Roman"/>
                <a:ea typeface="隶书"/>
              </a:rPr>
              <a:t>红掌拨清波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832040" y="4038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红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871000" y="2514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298760" y="25146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脚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048120" y="40384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红红的脚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859760" y="5105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拨清波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322160" y="51055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拨着清清的水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1699200" y="1143000"/>
            <a:ext cx="571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鹅弯着脖子，昂着头，朝着天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高声唱歌。它一身雪白的羽毛浮在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绿的水面上，一对红红的脚掌拨起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清的水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767600" y="4572000"/>
            <a:ext cx="546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本诗通过作者骆宾王有声有色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描绘在水面上浮游的鹅的活泼可爱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形象，表达了他对鹅的喜爱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03240" y="304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cc00"/>
                </a:solidFill>
                <a:uFillTx/>
                <a:latin typeface="Times New Roman"/>
              </a:rPr>
              <a:t>诗歌大意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913680" y="3733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cc00"/>
                </a:solidFill>
                <a:uFillTx/>
                <a:latin typeface="Times New Roman"/>
              </a:rPr>
              <a:t>诗歌含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2476800" y="3048120"/>
            <a:ext cx="411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向天歌      浮绿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685800" y="304920"/>
            <a:ext cx="2362320" cy="17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练一练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565360" y="1828800"/>
            <a:ext cx="451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谁能讲讲下面词语的意思</a:t>
            </a:r>
            <a:r>
              <a:rPr b="0" lang="en-US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821040" y="43434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拨清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525680" y="7621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作业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068920" y="2819520"/>
            <a:ext cx="522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地朗读课文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诵并默写这首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295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  <a:ea typeface="楷体_GB2312"/>
              </a:rPr>
              <a:t>展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249192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663300"/>
                </a:solidFill>
                <a:latin typeface="Arial"/>
                <a:ea typeface="楷体_GB2312"/>
              </a:rPr>
              <a:t>用自己喜欢的方式，可以是带动作朗诵，也可以是画画，还可以是介绍白鹅，表达自己对白鹅的喜爱之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F034-6971-4D29-A395-34BDE6BC31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864080" y="617400"/>
            <a:ext cx="5447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教学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会本首诗的生字和新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理解句子的意思，培养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爱大自然的情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背诵并默写本首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388400" y="1052640"/>
            <a:ext cx="310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隶书"/>
              </a:rPr>
              <a:t>咏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隶书"/>
              </a:rPr>
              <a:t>鹅，鹅，鹅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隶书"/>
              </a:rPr>
              <a:t>曲项向天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隶书"/>
              </a:rPr>
              <a:t>白毛浮绿水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隶书"/>
              </a:rPr>
              <a:t>红掌拨清波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284720" y="549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ǒ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 rot="5400000">
            <a:off x="681840" y="2923200"/>
            <a:ext cx="23763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1165320" y="6127920"/>
            <a:ext cx="64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写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iàng                           t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向                                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ái                              má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白                                 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2411280" y="981000"/>
            <a:ext cx="914400" cy="609840"/>
          </a:xfrm>
          <a:prstGeom prst="cloudCallout">
            <a:avLst>
              <a:gd name="adj1" fmla="val 130555"/>
              <a:gd name="adj2" fmla="val -4349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认读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                    q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ū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鹅                   曲                   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ú                   z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g             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浮                   掌                   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6372360" y="836640"/>
            <a:ext cx="10476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5003640" y="1557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913120" y="450864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cc"/>
                </a:solidFill>
                <a:latin typeface="Times New Roman"/>
                <a:ea typeface="隶书"/>
              </a:rPr>
              <a:t>鹅，鹅，鹅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50403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zcgg"/>
          <p:cNvPicPr/>
          <p:nvPr/>
        </p:nvPicPr>
        <p:blipFill>
          <a:blip r:embed="rId1"/>
          <a:stretch/>
        </p:blipFill>
        <p:spPr>
          <a:xfrm>
            <a:off x="1979640" y="692280"/>
            <a:ext cx="5529240" cy="3817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575080" y="6116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494240" y="4581360"/>
            <a:ext cx="6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cc"/>
                </a:solidFill>
                <a:latin typeface="Times New Roman"/>
                <a:ea typeface="隶书"/>
              </a:rPr>
              <a:t>曲项向天歌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bmfls"/>
          <p:cNvPicPr/>
          <p:nvPr/>
        </p:nvPicPr>
        <p:blipFill>
          <a:blip r:embed="rId1"/>
          <a:stretch/>
        </p:blipFill>
        <p:spPr>
          <a:xfrm>
            <a:off x="2268360" y="836640"/>
            <a:ext cx="4670640" cy="3503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2286000" y="56386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913120" y="436572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cc"/>
                </a:solidFill>
                <a:latin typeface="Times New Roman"/>
                <a:ea typeface="隶书"/>
              </a:rPr>
              <a:t>白毛浮绿水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tjde2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tjde3"/>
          <p:cNvPicPr/>
          <p:nvPr/>
        </p:nvPicPr>
        <p:blipFill>
          <a:blip r:embed="rId2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4565520" y="4292640"/>
            <a:ext cx="6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cc"/>
                </a:solidFill>
                <a:latin typeface="Times New Roman"/>
                <a:ea typeface="隶书"/>
              </a:rPr>
              <a:t>红掌拨清波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2:04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9:09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