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6F29-BB36-4F31-A14E-DFE5B76B6CF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E2BC-2B91-4643-855E-0151B755312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8516-4852-43D0-9E42-A18D7320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740E-EE1B-4627-8AED-D3453943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779A-7393-4752-A8C6-E2857D8C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AC68-72D1-458C-85B1-7BF0693E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E080-561E-475B-8CA0-5C7C6F6C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91B1-356A-4C73-B69E-45F212EA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3FEA-0335-4E89-8692-332A3DB0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F8E1-2738-4DA9-9644-C6655F62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9ABF-CFAB-453B-B0DF-10832B0A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E240-D27D-4D71-B7E1-36B9A068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9337-BFC3-4C48-8F00-172B4C94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13DF-FE85-49B0-A592-D3683F0A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9D5F-2D2F-463E-AC2F-8DEC24B1CF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一个人和一幅画-01"/>
          <p:cNvPicPr/>
          <p:nvPr/>
        </p:nvPicPr>
        <p:blipFill>
          <a:blip r:embed="rId1"/>
          <a:stretch/>
        </p:blipFill>
        <p:spPr>
          <a:xfrm>
            <a:off x="1979640" y="1484280"/>
            <a:ext cx="5208480" cy="448632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1019160" y="1477800"/>
            <a:ext cx="6767640" cy="103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8360">
                  <a:solidFill>
                    <a:srgbClr val="ffffff"/>
                  </a:solidFill>
                  <a:round/>
                </a:ln>
                <a:solidFill>
                  <a:srgbClr val="008000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微软雅黑"/>
              </a:rPr>
              <a:t>一个人和一幅画</a:t>
            </a:r>
            <a:endParaRPr b="1" lang="en-US" sz="7200" spc="1" strike="noStrike">
              <a:ln w="18360">
                <a:solidFill>
                  <a:srgbClr val="ffffff"/>
                </a:solidFill>
                <a:round/>
              </a:ln>
              <a:solidFill>
                <a:srgbClr val="008000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690200" y="5877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拓展学习"/>
          <p:cNvPicPr/>
          <p:nvPr/>
        </p:nvPicPr>
        <p:blipFill>
          <a:blip r:embed="rId1"/>
          <a:stretch/>
        </p:blipFill>
        <p:spPr>
          <a:xfrm>
            <a:off x="1044720" y="909720"/>
            <a:ext cx="2151000" cy="531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905040" y="170172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8000"/>
                </a:solidFill>
                <a:latin typeface="华文楷体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假设老人当选了感动中国的十大人物，你打算怎么给他写颁奖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969840" y="2781360"/>
            <a:ext cx="756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邰丽华：颁奖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　　从不幸的低谷到艺术的巅峰，也许你的生命本身就是一次绝美的舞蹈，于无声处，展现生命的蓬勃，在手臂间勾勒人性的高洁，一个朴素女子为我们呈现华丽的奇迹，心灵的震撼不需要语言，你在我们眼中是最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/>
          <p:cNvSpPr/>
          <p:nvPr/>
        </p:nvSpPr>
        <p:spPr>
          <a:xfrm>
            <a:off x="1189080" y="693720"/>
            <a:ext cx="1096920" cy="91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84360" y="1665360"/>
            <a:ext cx="788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这位朴实的老人，他不懂什么大道理，只知道植树造林是有益于后辈的事情，所以坚持了下来，几十年如一日，不辞辛苦，默默无闻，他克服了各种困难，将自己的一生奉献给植树造林的绿化事业，这不就是最美的一幅画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1189080" y="693720"/>
            <a:ext cx="1096920" cy="91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95280" y="16128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人，一双手，一把锹，种植了多少棵的参天大树，这奇迹，这力量，这动力，源于老人那颗可无私奉献的心。他在清苦的大山里，与树为伴，和树为友，默默的享受树对他的报答。他用一生的精力，一生的艰辛，一生的信念，创造了大山的美好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满山遍野的绿树。他，让森林在现，让沃土重生，让梦想发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6"/>
          <p:cNvSpPr/>
          <p:nvPr/>
        </p:nvSpPr>
        <p:spPr>
          <a:xfrm>
            <a:off x="2771640" y="2421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95280" y="1628640"/>
            <a:ext cx="846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他朴实得像一块石头。一个人，一把锹，一段艰难的种树历程。他用双手，用毅力，用一个人的力量，把大山装扮得如此美丽。他，从来都是默默无闻，自己悄然走遍了大山的每一个角落。树的那边还是树，而路的那边却到处长满了绿茵茵的树。他把一生的时间都奉献给了大山。这位老人，是我们永远的榜样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189080" y="693720"/>
            <a:ext cx="1096920" cy="91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2411280" y="2276640"/>
            <a:ext cx="4084920" cy="188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黑体"/>
              </a:rPr>
              <a:t>再见！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2" name="文本框 1"/>
          <p:cNvSpPr/>
          <p:nvPr/>
        </p:nvSpPr>
        <p:spPr>
          <a:xfrm>
            <a:off x="1274760" y="495144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577B-29EA-48B5-90D8-4F2FF9CC53E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907920"/>
            <a:ext cx="53276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有关无私奉献的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11280" y="1844640"/>
            <a:ext cx="84247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春蚕到死丝方尽，蜡炬成灰泪始干。——李商隐《无题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桃李不言，下自成蹊。——《史记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李烈将军列传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随风潜入夜，润物细无声。——杜甫《春夜喜雨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落红不是无情物，化作春泥更护花。——龚自珍《己亥杂诗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横眉冷对千夫指，俯首甘为孺子牛。——鲁迅《自嘲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鞠躬尽瘁，死而后已——诸葛亮《后出师表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907920"/>
            <a:ext cx="5184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有关无私奉献的名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55640" y="1773360"/>
            <a:ext cx="7920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壮心欲填海，苦胆为忧天。——文天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夜把花悄悄地开放了，却让白日去领受谢词。——泰戈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是炎黄子孙，理所当然地要把学到的知识全部奉献给我亲爱的祖国。——李四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的生命是有限的，可是，为人民服务是无限的，我要把有限的生命，投入到无限的为人民服务中去。——雷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684360" y="1916280"/>
            <a:ext cx="799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学会本课生字。生词，理解“闲适、猎奇、流溢、兴趣盎然、莫名其妙”等词语；有感情的朗读课文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反复品读中，结合老人外貌、语言、动作描写，体会老人身上的可贵品质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感受老人那种只愿付出，不求回报的美好情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755640" y="105264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彩云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>
            <a:off x="3635280" y="1773360"/>
            <a:ext cx="324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黑体"/>
              </a:rPr>
              <a:t>一个人和一幅画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635280" y="3070080"/>
            <a:ext cx="44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看到这个题目，说说你想知道些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创设情境"/>
          <p:cNvPicPr/>
          <p:nvPr/>
        </p:nvPicPr>
        <p:blipFill>
          <a:blip r:embed="rId3"/>
          <a:stretch/>
        </p:blipFill>
        <p:spPr>
          <a:xfrm>
            <a:off x="971640" y="981000"/>
            <a:ext cx="2146320" cy="588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小女孩"/>
          <p:cNvPicPr/>
          <p:nvPr/>
        </p:nvPicPr>
        <p:blipFill>
          <a:blip r:embed="rId4"/>
          <a:stretch/>
        </p:blipFill>
        <p:spPr>
          <a:xfrm>
            <a:off x="755640" y="2852640"/>
            <a:ext cx="1965240" cy="3279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1189080" y="693720"/>
            <a:ext cx="1096920" cy="91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203640" y="884160"/>
            <a:ext cx="4525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 者 我 知  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826920" y="1701720"/>
            <a:ext cx="7704360" cy="11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丁肃清，中国作家协会会员，教授。河北邢台人。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98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开始发表作品。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0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加入中国作家协会。主要创作小说、散文。著有长篇小说《城市封面》《困惑地带》，小小说集《楼上楼》，散文集《芭蕉雨》《誓不成佛》等八部，散文《誓不成佛》获第二届老舍散文奖，作品散见于《人民文学》《小说界》《飞天》等国内多家文学期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114560" y="1989000"/>
            <a:ext cx="81356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粗犷  闲适  端详   猎奇  景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挽留  山坳  流溢   涂鸦   蝎子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难熬  衔接  哎呀   笑呵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郁郁葱葱     漫无边际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兴趣盎然    莫名其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读一读"/>
          <p:cNvPicPr/>
          <p:nvPr/>
        </p:nvPicPr>
        <p:blipFill>
          <a:blip r:embed="rId1"/>
          <a:stretch/>
        </p:blipFill>
        <p:spPr>
          <a:xfrm>
            <a:off x="971640" y="260280"/>
            <a:ext cx="1224000" cy="1457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203640" y="1773360"/>
            <a:ext cx="525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（   ）的人和一幅（   ）的画 ，并说说你是从文中那些语句看出来的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细读感悟"/>
          <p:cNvPicPr/>
          <p:nvPr/>
        </p:nvPicPr>
        <p:blipFill>
          <a:blip r:embed="rId1"/>
          <a:stretch/>
        </p:blipFill>
        <p:spPr>
          <a:xfrm>
            <a:off x="1044720" y="981000"/>
            <a:ext cx="2087280" cy="55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小女孩"/>
          <p:cNvPicPr/>
          <p:nvPr/>
        </p:nvPicPr>
        <p:blipFill>
          <a:blip r:embed="rId2"/>
          <a:stretch/>
        </p:blipFill>
        <p:spPr>
          <a:xfrm>
            <a:off x="1044720" y="2565360"/>
            <a:ext cx="1965240" cy="3279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116000" y="1773360"/>
            <a:ext cx="756144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老人的外貌和手的细致描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老人的动作描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老人的语言描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老人的那幅画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华文楷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细读感悟"/>
          <p:cNvPicPr/>
          <p:nvPr/>
        </p:nvPicPr>
        <p:blipFill>
          <a:blip r:embed="rId1"/>
          <a:stretch/>
        </p:blipFill>
        <p:spPr>
          <a:xfrm>
            <a:off x="1116000" y="981000"/>
            <a:ext cx="2087640" cy="558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03:26:1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19:03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