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6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C818-695D-4288-BC46-58E62FE4B9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151D-9381-46FC-904E-83F26BD2FA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DD1-6CAA-4F20-B52E-C19B725D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589-E05A-490B-B368-6CD840BA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0DF-430B-4646-8416-849D44BF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FC1-FBD3-4F79-80F6-EE8E7EF6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4F0-C881-4BB9-AF14-6D991AE6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3CC-B885-4AD1-AE01-1EB8CD09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789-BDE4-40C3-8B26-7DE43451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627-564B-492B-9F5A-145E7E86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58E-8E82-4411-A72C-34AB796A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483-24BC-4A06-ADDE-34287EDC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42B-7229-4F49-96F0-D3C5EAC7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380-0E83-47FF-B26C-58DBCD1F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BF14-2885-40F6-8B8F-7CBA0F0E5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&#26032;&#24314;&#25991;&#20214;&#22841;/&#28436;&#31034;&#25991;&#31295;7.ppt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903240" y="990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湘教版一年级语文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2398680" y="2286000"/>
            <a:ext cx="4419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眼睛</a:t>
            </a:r>
            <a:endParaRPr b="1" lang="en-US" sz="66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31680" y="54039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1"/>
          <p:cNvPicPr/>
          <p:nvPr/>
        </p:nvPicPr>
        <p:blipFill>
          <a:blip r:embed="rId1"/>
          <a:stretch/>
        </p:blipFill>
        <p:spPr>
          <a:xfrm>
            <a:off x="0" y="445788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4419720"/>
            <a:ext cx="2514600" cy="2438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2286000" y="1371600"/>
            <a:ext cx="5410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细黑"/>
              </a:rPr>
              <a:t>我牵着盲人过马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细黑"/>
              </a:rPr>
              <a:t>我就是盲人的眼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4"/>
          <a:stretch/>
        </p:blipFill>
        <p:spPr>
          <a:xfrm>
            <a:off x="3429000" y="4435560"/>
            <a:ext cx="29718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7"/>
          <p:cNvSpPr txBox="1"/>
          <p:nvPr/>
        </p:nvSpPr>
        <p:spPr>
          <a:xfrm>
            <a:off x="1143000" y="12193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会说</a:t>
            </a:r>
            <a:r>
              <a:rPr b="0" lang="en-US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:</a:t>
            </a:r>
            <a:endParaRPr b="0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3048120" y="2362320"/>
            <a:ext cx="56768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......</a:t>
            </a:r>
            <a:r>
              <a:rPr b="0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是</a:t>
            </a:r>
            <a:r>
              <a:rPr b="0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......</a:t>
            </a:r>
            <a:r>
              <a:rPr b="0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的眼睛</a:t>
            </a:r>
            <a:endParaRPr b="0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819520" y="3276720"/>
            <a:ext cx="63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窗户是楼房的眼睛，蝌蚪是池塘的眼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花朵是树林的眼睛，萤火虫是星空的眼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3924360" y="692280"/>
            <a:ext cx="1162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眼睛</a:t>
            </a:r>
            <a:endParaRPr b="1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666880" y="1905120"/>
            <a:ext cx="56167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爸爸的眼睛是严厉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比火山爆发还要厉害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妈妈的眼睛是温柔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比天空白云还要柔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  <a:ea typeface="隶书"/>
              </a:rPr>
              <a:t>娃娃的眼睛是明亮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  <a:ea typeface="隶书"/>
              </a:rPr>
              <a:t>比龙海水晶还要明亮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CA8A-85B2-4ECD-90DC-9328B519F7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发呆"/>
          <p:cNvPicPr/>
          <p:nvPr/>
        </p:nvPicPr>
        <p:blipFill>
          <a:blip r:embed="rId1"/>
          <a:stretch/>
        </p:blipFill>
        <p:spPr>
          <a:xfrm>
            <a:off x="6654960" y="3886200"/>
            <a:ext cx="107928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981080" y="2332080"/>
            <a:ext cx="54864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美丽的夜空挂满了亮晶晶的小星星，知道吗</a:t>
            </a:r>
            <a:r>
              <a:rPr b="0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这些小星星还会眨眼睛呢</a:t>
            </a:r>
            <a:r>
              <a:rPr b="0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!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不过，它只对聪明的孩子眨眼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发呆"/>
          <p:cNvPicPr/>
          <p:nvPr/>
        </p:nvPicPr>
        <p:blipFill>
          <a:blip r:embed="rId2"/>
          <a:stretch/>
        </p:blipFill>
        <p:spPr>
          <a:xfrm>
            <a:off x="6477120" y="45720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发呆"/>
          <p:cNvPicPr/>
          <p:nvPr/>
        </p:nvPicPr>
        <p:blipFill>
          <a:blip r:embed="rId3"/>
          <a:stretch/>
        </p:blipFill>
        <p:spPr>
          <a:xfrm>
            <a:off x="2514600" y="380880"/>
            <a:ext cx="14605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发呆"/>
          <p:cNvPicPr/>
          <p:nvPr/>
        </p:nvPicPr>
        <p:blipFill>
          <a:blip r:embed="rId4"/>
          <a:stretch/>
        </p:blipFill>
        <p:spPr>
          <a:xfrm>
            <a:off x="2997360" y="4572000"/>
            <a:ext cx="107928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发呆"/>
          <p:cNvPicPr/>
          <p:nvPr/>
        </p:nvPicPr>
        <p:blipFill>
          <a:blip r:embed="rId5"/>
          <a:stretch/>
        </p:blipFill>
        <p:spPr>
          <a:xfrm>
            <a:off x="482760" y="2743200"/>
            <a:ext cx="107928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发呆"/>
          <p:cNvPicPr/>
          <p:nvPr/>
        </p:nvPicPr>
        <p:blipFill>
          <a:blip r:embed="rId6"/>
          <a:stretch/>
        </p:blipFill>
        <p:spPr>
          <a:xfrm>
            <a:off x="4838760" y="46483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发呆"/>
          <p:cNvPicPr/>
          <p:nvPr/>
        </p:nvPicPr>
        <p:blipFill>
          <a:blip r:embed="rId7"/>
          <a:stretch/>
        </p:blipFill>
        <p:spPr>
          <a:xfrm>
            <a:off x="7162920" y="2590920"/>
            <a:ext cx="1333440" cy="16002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"/>
          <p:cNvSpPr/>
          <p:nvPr/>
        </p:nvSpPr>
        <p:spPr>
          <a:xfrm>
            <a:off x="1389240" y="5037120"/>
            <a:ext cx="63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74"/>
          <p:cNvPicPr/>
          <p:nvPr/>
        </p:nvPicPr>
        <p:blipFill>
          <a:blip r:embed="rId1"/>
          <a:stretch/>
        </p:blipFill>
        <p:spPr>
          <a:xfrm>
            <a:off x="179280" y="438120"/>
            <a:ext cx="8785440" cy="6114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143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240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1055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934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666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是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1240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1055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夜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9343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台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1295280" y="2209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sh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2004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2578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kō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0102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dē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18"/>
          <p:cNvPicPr/>
          <p:nvPr/>
        </p:nvPicPr>
        <p:blipFill>
          <a:blip r:embed="rId2"/>
          <a:stretch/>
        </p:blipFill>
        <p:spPr>
          <a:xfrm>
            <a:off x="1066680" y="990720"/>
            <a:ext cx="1009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074"/>
          <p:cNvPicPr/>
          <p:nvPr/>
        </p:nvPicPr>
        <p:blipFill>
          <a:blip r:embed="rId1"/>
          <a:stretch/>
        </p:blipFill>
        <p:spPr>
          <a:xfrm>
            <a:off x="179280" y="438120"/>
            <a:ext cx="8785440" cy="6114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143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1240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1055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934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过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1240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眼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1055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眼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9343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珠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1295280" y="220968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gu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2004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ǎ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2578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j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70102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9" descr="18"/>
          <p:cNvPicPr/>
          <p:nvPr/>
        </p:nvPicPr>
        <p:blipFill>
          <a:blip r:embed="rId2"/>
          <a:stretch/>
        </p:blipFill>
        <p:spPr>
          <a:xfrm>
            <a:off x="1066680" y="990720"/>
            <a:ext cx="1009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74"/>
          <p:cNvPicPr/>
          <p:nvPr/>
        </p:nvPicPr>
        <p:blipFill>
          <a:blip r:embed="rId1"/>
          <a:stretch/>
        </p:blipFill>
        <p:spPr>
          <a:xfrm>
            <a:off x="179280" y="438120"/>
            <a:ext cx="8785440" cy="61149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143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1240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1055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934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0666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牵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1240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看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1055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盲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9343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公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295280" y="2209680"/>
            <a:ext cx="12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i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004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k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52578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m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0102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l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9" descr="18"/>
          <p:cNvPicPr/>
          <p:nvPr/>
        </p:nvPicPr>
        <p:blipFill>
          <a:blip r:embed="rId2"/>
          <a:stretch/>
        </p:blipFill>
        <p:spPr>
          <a:xfrm>
            <a:off x="1066680" y="990720"/>
            <a:ext cx="1009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1523880" y="16765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眼　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419720" y="1752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露　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572000" y="4648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牵　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 flipV="1" rot="10800000">
            <a:off x="1447560" y="3199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天　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600200" y="4648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盲　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572000" y="32004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灯　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295280" y="1066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Yǎn  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495680" y="1066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l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ù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415880" y="259092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iān    k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4576680" y="259092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d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ē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ng    t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1372320" y="411480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áng   r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4627440" y="403848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qiān    zh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3"/>
          <p:cNvSpPr/>
          <p:nvPr/>
        </p:nvSpPr>
        <p:spPr>
          <a:xfrm>
            <a:off x="2133720" y="1752480"/>
            <a:ext cx="57909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露珠是小草的眼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星星是天空的眼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湖泊是大地的眼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灯塔是航船的眼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294920" y="152388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草、天空、大地、航船都有自己的眼睛，我们小朋友也有一双亮晶晶的眼睛，每天，眼睛都在告诉我们世界的美丽。春天，我们会看到。冬天，我们会看到。这世界多美呀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假如我们没有了这眼睛会怎样呢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朋友，闭上眼睛体会一下，这时你的心情怎样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1828800" y="228600"/>
            <a:ext cx="167652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放飞思绪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676520" y="380880"/>
            <a:ext cx="5867280" cy="15242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老爷爷就是一位盲人，他什么也看不见，多么不幸呀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朋友，怎么帮他呢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42670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7:42:37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1:05:13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