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9042-34C4-488B-A3FA-C7CFEEA8AD5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4274-43FF-4E4B-A201-2023EE889A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F2A-305D-4483-9F75-CAD9091F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8BD-B9FD-4E92-9468-EC93AAE0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BA4-911F-4A4D-915C-975E2CDE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32A-45EA-483F-A730-202EAC52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AFAB-4798-43D3-8F83-062272E1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D17B-FB21-46C6-A15E-483129A4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810-BE7A-4574-9FF1-688D8A27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8439-E5D7-46A7-BC23-549A9DD8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CAFE-738E-4C72-A5E7-6C0654AA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AF2-86FC-4067-AC1A-8E81496D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967-F50E-4D46-A443-2AF9390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960-2B4B-4707-BFAA-3B4D9EE3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80E0-961C-4D6D-8A64-557A567FA1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85800" y="1447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</a:rPr>
              <a:t>有趣的班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3308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52280" y="1522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要发明一种不怕摔的眼镜。这样的眼镜摔到地上，它会自动弹到我的手里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马路修好没几天，又挖开埋管道，挖了埋，埋了挖，没完没了。我想，干脆给马路安个拉链算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最后，班主任老师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同学们喜欢海阔天空想问题，脑子里常常冒出一些稀奇古怪、大胆美妙的想法，真是太好了！发明，从来不拒绝那些奇妙的设想。只要敢于去想，即使实现不了也没什么要紧，重要的是锻炼我们突破条条框框的思维能力。我相信，未来的发明家、科学家就在你们中间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809880" y="685800"/>
            <a:ext cx="19814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371600" y="167652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 flipV="1">
            <a:off x="228600" y="2666880"/>
            <a:ext cx="838080" cy="7632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7848720" y="228600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541760" y="10666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能打能小的书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465800" y="19051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会说话的钥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618080" y="281952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悬在空中的旅行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65800" y="36576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怕摔的眼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465800" y="44197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带拉链的马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087800" y="5257800"/>
            <a:ext cx="784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625920" y="1158840"/>
            <a:ext cx="228600" cy="449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76320" y="29908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奇思妙想出发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115920" y="5807160"/>
            <a:ext cx="8256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58800" y="762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读一读，体会加下划线词的用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28600" y="1828800"/>
            <a:ext cx="885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别看陈思今年才十二岁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学校里有名的小发明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" y="4114800"/>
            <a:ext cx="885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陈思没有介绍自己搞小发明的经过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却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讲了一个有趣的故事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5486400" y="2362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7391520" y="4648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6320" y="-225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FF1E-AFDD-49E5-9CF7-2A4646A5FE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320" y="-225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0192478_038037"/>
          <p:cNvPicPr/>
          <p:nvPr/>
        </p:nvPicPr>
        <p:blipFill>
          <a:blip r:embed="rId1"/>
          <a:stretch/>
        </p:blipFill>
        <p:spPr>
          <a:xfrm>
            <a:off x="4114800" y="460440"/>
            <a:ext cx="4876920" cy="540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F4ED9A6CBC914EFAA7A2622D1F135F63"/>
          <p:cNvPicPr/>
          <p:nvPr/>
        </p:nvPicPr>
        <p:blipFill>
          <a:blip r:embed="rId2"/>
          <a:stretch/>
        </p:blipFill>
        <p:spPr>
          <a:xfrm>
            <a:off x="76320" y="1143000"/>
            <a:ext cx="3949560" cy="4800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267440" y="5964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同学们的小发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6091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特邀嘉宾       小制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搞小发明       地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jià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奇思妙想       年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金箍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ɡ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棒      钱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钥匙    大汗淋漓     旅行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悬在    海阔天空    稀奇古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拒绝    设想           思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32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mán yuàn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埋   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mái fú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埋  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zǐ dàn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子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án dào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弹到 弹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1219320" y="58672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1"/>
          <p:cNvPicPr/>
          <p:nvPr/>
        </p:nvPicPr>
        <p:blipFill>
          <a:blip r:embed="rId1"/>
          <a:stretch/>
        </p:blipFill>
        <p:spPr>
          <a:xfrm>
            <a:off x="152280" y="762120"/>
            <a:ext cx="3260880" cy="6019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505320" y="7621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迪生   伟大的电学家、发明家。他从小热爱科学，自己刻苦钻研，醉心于发明，正式登记的发明达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3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，被称为世界发明大王。他的发明创造不仅靠聪明才智，而且靠艰辛的科学实践。正如他自己所说：“天才是百分之一的灵感加上百分之九十九的血汗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76320" y="-225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808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　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四年级二班教室里，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奇思妙想出发明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的主题班会正在热烈地进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　　班会上有一位特邀嘉宾，他就是六年级的陈思同学。别看陈思今年才十二岁，却是学校里有名的小发明家。他的小发明、小制作，有三项获得了国家专利呢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137840" y="6699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有趣的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"/>
          <p:cNvSpPr/>
          <p:nvPr/>
        </p:nvSpPr>
        <p:spPr>
          <a:xfrm>
            <a:off x="1752480" y="4267080"/>
            <a:ext cx="7010640" cy="1752840"/>
          </a:xfrm>
          <a:prstGeom prst="cloudCallout">
            <a:avLst>
              <a:gd name="adj1" fmla="val -56587"/>
              <a:gd name="adj2" fmla="val 64041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班会的“趣”体现在哪些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76320" y="-225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4572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今天，陈思没有介绍自己搞小发明的经过，却讲了一个有趣的故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大发明家爱迪生年幼的时候，与一个小伙伴做过一次让人充气升天的实验。他让这个小伙伴服下一种能产生大量气体的药，叫他坐在地窖里，等着他像气球一样从地窖升上来。过了一会儿，那个小伙伴肚子疼得直哭。这个实验失败了，小爱迪生得到的是父亲的拳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80880" y="3049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虽然那个小孩没能够充气升天，但后来人们却发明了能把人送上天的气球。可见，奇思妙想是有功劳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听了陈思讲的故事，教室里更活跃了。同学们争先恐后地谈起了自己的奇思妙想，一个比一个新鲜有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想让书包像金箍棒似的能大能小。大书包变得像小钱包那样，放进口袋里很方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我想让钥匙会说话。找钥匙时，它会在角落里答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喂，我在这儿呢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外出旅行，旅客手提沉重的旅行袋，过天桥，下地道，大汗淋漓。要是旅行袋像气球一样，能悬在空中就好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2590920" y="3733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6019920" y="3733920"/>
            <a:ext cx="15238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2666880" y="4724280"/>
            <a:ext cx="2057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6553080" y="57150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7"/>
          <p:cNvSpPr/>
          <p:nvPr/>
        </p:nvSpPr>
        <p:spPr>
          <a:xfrm>
            <a:off x="1523880" y="6705720"/>
            <a:ext cx="1676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4541760" y="10666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能大能小的书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465800" y="190512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会说话的钥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618080" y="2819520"/>
            <a:ext cx="200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悬在空中的旅行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625920" y="1158840"/>
            <a:ext cx="228600" cy="449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76320" y="299088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奇思妙想出发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0:17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34Z</dcterms:modified>
  <cp:revision>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