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0221-13DC-45D7-A3A0-25A28E4FE4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0DC-74B9-4479-ADE8-689922C2B2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840-1365-4C66-A9F0-CE19699D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185-C1B9-429C-B497-6816561A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510-4B34-4A6A-9C83-BFD79446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A7C-55C8-466D-A1A9-978235A5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34DD-2B25-4B89-9BE0-E8D35394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6F3D-524A-447B-BCCD-8B289659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B6B4-706C-4F68-A9FB-DD83929F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7063-FD0C-45AB-95F3-FBE20AA0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948D-01F3-4891-A8E7-76D3FE21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C8CA-5CBB-4EFE-B242-24FA43B4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2AB0-98C5-47FD-9274-71F9551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C99-AA14-4B9B-BC2F-BDD5F634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A856-2491-4EF8-9E5C-863CE51A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7C09-6083-472A-BCD8-99F946E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2CAA-AABE-4F46-A467-E803B396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F717-0E05-4EBA-89F7-C613FFE3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DDE7-0990-4C99-B0D6-369909D8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EA4-AAB5-4859-BB2B-7A8E671A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C26-0441-4A4D-9C2C-217EA1CF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CD9-B8ED-4C70-A841-E6997570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284-1D1C-4824-BD02-6009244D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52E-41F1-4FD2-812A-FE53A08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A50-E2FD-4B91-B5F8-88C43522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286-5347-437B-9426-35B2E930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75A5-1B45-4304-ADEB-7D1D76AAC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B922-9739-4516-A3CF-58FA42FAF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70000" y="404280"/>
            <a:ext cx="8604000" cy="23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e40000"/>
                </a:solidFill>
                <a:latin typeface="微软雅黑"/>
                <a:ea typeface="微软雅黑"/>
              </a:rPr>
              <a:t>纸船</a:t>
            </a:r>
            <a:r>
              <a:rPr b="1" lang="en-US" sz="8800" spc="-1" strike="noStrike">
                <a:solidFill>
                  <a:srgbClr val="e40000"/>
                </a:solidFill>
                <a:latin typeface="微软雅黑"/>
                <a:ea typeface="微软雅黑"/>
              </a:rPr>
              <a:t>—</a:t>
            </a:r>
            <a:r>
              <a:rPr b="1" lang="zh-CN" sz="8800" spc="-1" strike="noStrike">
                <a:solidFill>
                  <a:srgbClr val="e40000"/>
                </a:solidFill>
                <a:latin typeface="微软雅黑"/>
                <a:ea typeface="微软雅黑"/>
              </a:rPr>
              <a:t>寄母亲</a:t>
            </a:r>
            <a:endParaRPr b="0" lang="en-US" sz="8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矩形 6"/>
          <p:cNvSpPr/>
          <p:nvPr/>
        </p:nvSpPr>
        <p:spPr>
          <a:xfrm>
            <a:off x="1447920" y="56419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x"/>
          <p:cNvPicPr/>
          <p:nvPr/>
        </p:nvPicPr>
        <p:blipFill>
          <a:blip r:embed="rId1"/>
          <a:stretch/>
        </p:blipFill>
        <p:spPr>
          <a:xfrm>
            <a:off x="5940360" y="3141720"/>
            <a:ext cx="3203640" cy="208764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7"/>
          <p:cNvSpPr/>
          <p:nvPr/>
        </p:nvSpPr>
        <p:spPr>
          <a:xfrm>
            <a:off x="250920" y="549360"/>
            <a:ext cx="842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老师：我从不肯妄弃了一张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总是留着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留着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：叠成一只一只很小的船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舟上抛下在海里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老师：有的被天风吹卷到舟中的窗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男生：有的被海浪打湿，沾在船头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老师：我仍是不灰心地每天地叠着，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女生：总希望有一只能流到我要它到的地方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老师：母亲，倘若你梦中看见一只很小的白船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男生：不要惊讶它无端入梦。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女生： 这是你至爱的女儿含着泪叠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全班：万水千山，求它载着她的爱和悲哀归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6685560" y="260280"/>
            <a:ext cx="2009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纸船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寄母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453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纸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寄母亲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50560" y="549360"/>
            <a:ext cx="889308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从不肯妄弃了一张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是留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叠成一只一只很小的船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舟上抛下在海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被天风吹卷到舟中的窗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被海浪打湿，沾在船头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仍是不灰心地每天地叠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希望有一只能流到我要它到的地方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，倘若你梦中看见一只很小的白船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惊讶它无端入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你至爱的女儿含着泪叠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水千山，求它载着她的爱和悲哀归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班得瑞 《初雪》.mp3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453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纸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寄母亲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560" y="549360"/>
            <a:ext cx="889308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从不肯妄弃了一张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是留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叠成一只一只很小的船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舟上抛下在海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的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的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仍是不灰心地每天地叠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希望有一只能流到我要它到的地方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，倘若你梦中看见一只很小的白船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惊讶它无端入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你至爱的女儿含着泪叠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水千山，求它载着她的爱和悲哀归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453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纸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寄母亲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50560" y="549360"/>
            <a:ext cx="889308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从不肯妄弃了一张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是留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叠成一只一只很小的船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舟上抛下在海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的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的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仍是不灰心地每天地叠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希望有一只能流到我要它到的地方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倘若你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惊讶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_______________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你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水千山，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____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纸船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468360" y="14130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8000" spc="-1" strike="noStrike">
                <a:solidFill>
                  <a:srgbClr val="ff00ff"/>
                </a:solidFill>
                <a:latin typeface="Arial"/>
              </a:rPr>
              <a:t>怀着感恩之心，走进新的一天！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92CB-96DD-42C1-88F8-29EC2CC056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1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5"/>
          <p:cNvSpPr/>
          <p:nvPr/>
        </p:nvSpPr>
        <p:spPr>
          <a:xfrm>
            <a:off x="395280" y="227664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伴随着清晨的第一缕阳光，让我们用最美妙的语言、最动听的声音开启美好的一天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2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611280" y="981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师：早安，孩子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：早安，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师：整个清晨，我一直看着你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：整个清晨，我们一直看着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师：怎样把每一寸晨光，化作书本的跳跃变幻成美丽的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：怎样把每一寸晨光，变成知识的乐曲给我们信心和力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清晨（伴）.mp3" descr=""/>
          <p:cNvPicPr/>
          <p:nvPr/>
        </p:nvPicPr>
        <p:blipFill>
          <a:blip r:embed="rId2"/>
          <a:stretch/>
        </p:blipFill>
        <p:spPr>
          <a:xfrm>
            <a:off x="7956720" y="6237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7"/>
          <p:cNvSpPr/>
          <p:nvPr/>
        </p:nvSpPr>
        <p:spPr>
          <a:xfrm>
            <a:off x="5651640" y="189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开启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5" descr="游子吟1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0" y="0"/>
            <a:ext cx="7201080" cy="66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游子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唐）孟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慈母手中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游子身上衣。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临行密密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意恐迟迟归。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谁言寸草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报得三春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矩形 7"/>
          <p:cNvSpPr/>
          <p:nvPr/>
        </p:nvSpPr>
        <p:spPr>
          <a:xfrm>
            <a:off x="197964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x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208764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5"/>
          <p:cNvSpPr/>
          <p:nvPr/>
        </p:nvSpPr>
        <p:spPr>
          <a:xfrm>
            <a:off x="250920" y="604800"/>
            <a:ext cx="88930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不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妄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à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弃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张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留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留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叠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只一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船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舟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抛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海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天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吹卷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舟中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窗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海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湿，沾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ā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船头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仍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灰心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天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叠着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希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流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要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的地方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母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倘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ǎ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若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梦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只很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船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惊讶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端入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至爱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女儿含着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叠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山，求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zǎi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的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悲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684360" y="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纸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寄母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冰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纸船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—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寄母亲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冰心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从不肯妄弃了一张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是留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叠成一只一只很小的船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舟上抛下在海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被天风吹卷到舟中的窗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被海浪打湿，沾在船头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仍是不灰心地每天地叠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希望有一只能流到我要它到的地方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，倘若你梦中看见一只很小的白船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惊讶它无端入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你至爱的女儿含着泪叠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水千山，求它载着她的爱和悲哀归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纸船5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5"/>
          <p:cNvSpPr/>
          <p:nvPr/>
        </p:nvSpPr>
        <p:spPr>
          <a:xfrm>
            <a:off x="468360" y="333360"/>
            <a:ext cx="7993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从不肯妄弃了一张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总是留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留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叠成一只一只很小的船儿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从舟上抛下在海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纸船5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"/>
          <p:cNvSpPr/>
          <p:nvPr/>
        </p:nvSpPr>
        <p:spPr>
          <a:xfrm>
            <a:off x="250920" y="260280"/>
            <a:ext cx="867564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的被天风吹卷到舟中的窗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的被海浪打湿，沾在船头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仍是不灰心地每天地叠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总希望有一只能流到我要它到的地方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纸船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468360" y="333360"/>
            <a:ext cx="8496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母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倘若你梦中看见一只很小的白船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不要惊讶它无端入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是你至爱的女儿含着泪叠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万水千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求它载着她的爱和悲哀归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"/>
          <p:cNvSpPr/>
          <p:nvPr/>
        </p:nvSpPr>
        <p:spPr>
          <a:xfrm>
            <a:off x="1049400" y="5905440"/>
            <a:ext cx="56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1:42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0:27Z</dcterms:modified>
  <cp:revision>1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