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7F46-170C-420F-8444-D8B6423365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8FC2-7DC9-4595-BA3E-E54B348073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677-EF38-475D-AEC7-5D9DEEDE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0DA2-9D74-4D88-9B7A-6F094D28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108-C470-4786-903A-4AEE0F69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80C-A941-43D3-B260-CF9B7544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C1B-99E1-4862-9FE6-8C843ECF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89A-EFC5-4604-BB77-CE07AC3A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CE0-AAA3-4B37-88E8-AE3B641A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608-A8BE-48D0-9349-1259F3AB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E69-DF4B-444B-AAB8-E850FC02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3B8-8483-4157-8205-00D384A8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E2F-350F-48B3-A9C7-BE0B9016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586-3DCD-4102-81B7-2D25B9DB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1CD5-BF1B-42E5-9199-2736A3E5B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4字的敬畏 尾花"/>
          <p:cNvPicPr/>
          <p:nvPr/>
        </p:nvPicPr>
        <p:blipFill>
          <a:blip r:embed="rId1"/>
          <a:stretch/>
        </p:blipFill>
        <p:spPr>
          <a:xfrm>
            <a:off x="23760" y="2235240"/>
            <a:ext cx="9120240" cy="3971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441440" y="119700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cc99"/>
                </a:solidFill>
                <a:latin typeface="微软雅黑"/>
                <a:ea typeface="微软雅黑"/>
              </a:rPr>
              <a:t>字的敬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73808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0边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1258920" y="836640"/>
            <a:ext cx="669780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会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敬畏       神圣        积淀        肥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萌生        探寻        空寂       营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震慑        凄婉        苍凉       含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朦胧        渲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杳无人影              不绝如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言简意赅              气象万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对话男"/>
          <p:cNvPicPr/>
          <p:nvPr/>
        </p:nvPicPr>
        <p:blipFill>
          <a:blip r:embed="rId1"/>
          <a:stretch/>
        </p:blipFill>
        <p:spPr>
          <a:xfrm>
            <a:off x="7020000" y="4797360"/>
            <a:ext cx="1307880" cy="18162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0" y="189000"/>
            <a:ext cx="9144000" cy="3960720"/>
          </a:xfrm>
          <a:prstGeom prst="cloudCallout">
            <a:avLst>
              <a:gd name="adj1" fmla="val 45513"/>
              <a:gd name="adj2" fmla="val 6869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者是从哪几个方面写出自己对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字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敬畏之情的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0边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460880" y="765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我的小标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763640" y="155736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部分：产生疑问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763640" y="2421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部分：敬惜字纸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763640" y="407664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部分：感受文字生命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826920" y="328464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感受神奇、创造奇迹、悟出道理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763640" y="4941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部分：总结全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0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2771640" y="836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什么叫“敬惜字纸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84360" y="1268280"/>
            <a:ext cx="77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民间一直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敬惜字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传统。过去在私塾的房前有一个砖砌的池子，里面竖着一块木牌，上面写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敬惜字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个字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是有字的纸，不管是手写的，还是印刷的，都不能随手乱扔。因为纸上有了字，就具有了神秘的力量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凡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须尊敬这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力量。这种态度现在看来当然是不完全可取的，但它也反映了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人对文字的一种敬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汉字是文化的载体，对汉字的敬重也是对文化的一种敬重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仓颉造字，惊天地泣鬼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字看来皆是血，十年辛苦不寻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诗句也反映出古人对于汉字的敬畏。</a:t>
            </a:r>
            <a:r>
              <a:rPr b="1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1476360" y="620640"/>
            <a:ext cx="6840720" cy="44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听张立本女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危冠广袖楚宫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独步闲庭逐夜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自把玉钗敲砌竹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清歌一由月如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"/>
          <p:cNvSpPr/>
          <p:nvPr/>
        </p:nvSpPr>
        <p:spPr>
          <a:xfrm>
            <a:off x="950760" y="559908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1332000" y="116208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0对话1"/>
          <p:cNvPicPr/>
          <p:nvPr/>
        </p:nvPicPr>
        <p:blipFill>
          <a:blip r:embed="rId1"/>
          <a:stretch/>
        </p:blipFill>
        <p:spPr>
          <a:xfrm>
            <a:off x="250920" y="4724280"/>
            <a:ext cx="1515960" cy="180504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7"/>
          <p:cNvSpPr/>
          <p:nvPr/>
        </p:nvSpPr>
        <p:spPr>
          <a:xfrm>
            <a:off x="1763640" y="476280"/>
            <a:ext cx="7056360" cy="5257800"/>
          </a:xfrm>
          <a:prstGeom prst="cloudCallout">
            <a:avLst>
              <a:gd name="adj1" fmla="val -41337"/>
              <a:gd name="adj2" fmla="val 6062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联系全篇内容和自己的学习实际，想一想，为什么作者说：“汉字，在我的眼里是有生命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50920" y="3333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课后思考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13 我有一个小小的书柜 1  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042920" y="1413000"/>
            <a:ext cx="727416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课后推荐阅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乔传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挑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童年纪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蒲松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聊斋志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2484360" y="4724280"/>
            <a:ext cx="51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谢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61DD-6578-43C6-89AD-A0D2973182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5T13:01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3:43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