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107E-C313-4FAF-9A6A-0073E77B86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FD30-A422-4C63-8C10-9751A99DDB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FB4-D84C-44F0-9158-ECBFE964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ADC-9F4B-496F-975A-FEBDD779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43D-172F-4213-B9AE-84E11E55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A17-B8EF-4BB0-AE2C-53D965D8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BDB-682E-4436-AF23-F60BC825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7DE-9BEC-4132-9657-EEC6C26B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E40-085C-48CA-B2A4-720EF47E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1FF-40C8-42A5-8B48-E0C03515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820-15F8-45AA-9E66-F096C1CF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891-1223-4725-90E5-9C3983D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5FC-207D-4F28-A49C-E962BE4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1D4-9F65-49F3-BA08-5204FA5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AFE1-7820-42CA-B6B1-D84C068E7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154391-12050F9405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511280" y="1700280"/>
            <a:ext cx="612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854360" y="2908440"/>
            <a:ext cx="55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华文中宋"/>
                <a:ea typeface="华文中宋"/>
              </a:rPr>
              <a:t>祖国多么广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1750680" y="51577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468360" y="1125360"/>
            <a:ext cx="30304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1280" y="8161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第二课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一、激趣树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79640" y="2852640"/>
            <a:ext cx="51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124000" y="2852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班交流通过品词析句，理解祖国地域辽阔广大，推动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755640" y="1125360"/>
            <a:ext cx="30304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26920" y="1332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二、小组合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47640" y="270828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请同学们针对“前置性小研究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2”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再做简单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看地图找出课文中提到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20081914106962_2"/>
          <p:cNvPicPr/>
          <p:nvPr/>
        </p:nvPicPr>
        <p:blipFill>
          <a:blip r:embed="rId1"/>
          <a:stretch/>
        </p:blipFill>
        <p:spPr>
          <a:xfrm>
            <a:off x="0" y="-1467000"/>
            <a:ext cx="9144000" cy="9753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250920" y="549360"/>
            <a:ext cx="504180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68360" y="76500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三、小组展示、教师点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梳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050920" y="328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梳理课文、字、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20081914106962_2"/>
          <p:cNvPicPr/>
          <p:nvPr/>
        </p:nvPicPr>
        <p:blipFill>
          <a:blip r:embed="rId1"/>
          <a:stretch/>
        </p:blipFill>
        <p:spPr>
          <a:xfrm>
            <a:off x="0" y="-1467000"/>
            <a:ext cx="9144000" cy="97538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0" y="260280"/>
            <a:ext cx="303048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302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迁移运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476360" y="220500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多么”造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185760" y="5753160"/>
            <a:ext cx="9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235107-12100923104711"/>
          <p:cNvPicPr/>
          <p:nvPr/>
        </p:nvPicPr>
        <p:blipFill>
          <a:blip r:embed="rId1"/>
          <a:stretch/>
        </p:blipFill>
        <p:spPr>
          <a:xfrm>
            <a:off x="-17460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826920" y="849240"/>
            <a:ext cx="324036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560" y="1112760"/>
            <a:ext cx="91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四、大阅读展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258920" y="2852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谈一谈对祖国还有哪些了解，请和大家分享一下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236-3A1A-4AB2-BA61-685883EA03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-182520"/>
            <a:ext cx="9540720" cy="7040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2"/>
          <p:cNvGrpSpPr/>
          <p:nvPr/>
        </p:nvGrpSpPr>
        <p:grpSpPr>
          <a:xfrm>
            <a:off x="1116000" y="620640"/>
            <a:ext cx="7561440" cy="5466960"/>
            <a:chOff x="1116000" y="620640"/>
            <a:chExt cx="7561440" cy="5466960"/>
          </a:xfrm>
        </p:grpSpPr>
        <p:sp>
          <p:nvSpPr>
            <p:cNvPr id="57" name="Text Box 4"/>
            <p:cNvSpPr/>
            <p:nvPr/>
          </p:nvSpPr>
          <p:spPr>
            <a:xfrm>
              <a:off x="1116000" y="1484280"/>
              <a:ext cx="756144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学习目标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自读课文，做到正确、流利、有感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合作学习，解决生字，理解词语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全班交流“每课一问”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小组讨论“前置性小研究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做展前准备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3059280" y="620640"/>
              <a:ext cx="46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第一课时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0000" y="1341360"/>
            <a:ext cx="3600360" cy="992160"/>
            <a:chOff x="900000" y="1341360"/>
            <a:chExt cx="3600360" cy="992160"/>
          </a:xfrm>
        </p:grpSpPr>
        <p:sp>
          <p:nvSpPr>
            <p:cNvPr id="60" name="AutoShape 8"/>
            <p:cNvSpPr/>
            <p:nvPr/>
          </p:nvSpPr>
          <p:spPr>
            <a:xfrm>
              <a:off x="900000" y="1341360"/>
              <a:ext cx="3093840" cy="992160"/>
            </a:xfrm>
            <a:prstGeom prst="roundRect">
              <a:avLst>
                <a:gd name="adj" fmla="val 50000"/>
              </a:avLst>
            </a:prstGeom>
            <a:solidFill>
              <a:srgbClr val="ff66ff"/>
            </a:solidFill>
            <a:ln w="3816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1115640" y="155736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Arial"/>
                </a:rPr>
                <a:t>一、激趣树标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524880" cy="67341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/>
          <p:cNvSpPr/>
          <p:nvPr/>
        </p:nvSpPr>
        <p:spPr>
          <a:xfrm>
            <a:off x="1042920" y="1125360"/>
            <a:ext cx="30304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220760" y="13190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二、自主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692360" y="256536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自读课文，不会读的字词和读不通的句子多读几遍，做到正确、流利、有感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235107-12100923104711"/>
          <p:cNvPicPr/>
          <p:nvPr/>
        </p:nvPicPr>
        <p:blipFill>
          <a:blip r:embed="rId1"/>
          <a:stretch/>
        </p:blipFill>
        <p:spPr>
          <a:xfrm>
            <a:off x="-181080" y="114480"/>
            <a:ext cx="9525240" cy="6734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959120" y="1058760"/>
            <a:ext cx="25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971640" y="1052640"/>
            <a:ext cx="303048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098720" y="1268280"/>
            <a:ext cx="72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三、合作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187280" y="2349360"/>
            <a:ext cx="7561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子间合作解决生字词：互相听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相订正，自主识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做习题，对子互判、订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组长检查、记分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7"/>
          <p:cNvSpPr/>
          <p:nvPr/>
        </p:nvSpPr>
        <p:spPr>
          <a:xfrm>
            <a:off x="6012000" y="24922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0081914106962_2"/>
          <p:cNvPicPr/>
          <p:nvPr/>
        </p:nvPicPr>
        <p:blipFill>
          <a:blip r:embed="rId1"/>
          <a:stretch/>
        </p:blipFill>
        <p:spPr>
          <a:xfrm>
            <a:off x="0" y="-1467000"/>
            <a:ext cx="9144000" cy="97538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83628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广（      ）厂（    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（      ）木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已（      ）己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斗（    ）头（    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 造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祖国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4" descr="20081914106962_2"/>
          <p:cNvPicPr/>
          <p:nvPr/>
        </p:nvPicPr>
        <p:blipFill>
          <a:blip r:embed="rId1"/>
          <a:stretch/>
        </p:blipFill>
        <p:spPr>
          <a:xfrm>
            <a:off x="0" y="-1467000"/>
            <a:ext cx="9144000" cy="97538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5"/>
          <p:cNvSpPr/>
          <p:nvPr/>
        </p:nvSpPr>
        <p:spPr>
          <a:xfrm>
            <a:off x="250920" y="0"/>
            <a:ext cx="352908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95280" y="260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重点字词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901800" y="2637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0" y="1484280"/>
            <a:ext cx="95407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兴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īng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奋   高兴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ìng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朝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zhāo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阳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朝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áo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当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āng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时  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当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àng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星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ǒu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     战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òu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235107-12100923104711"/>
          <p:cNvPicPr/>
          <p:nvPr/>
        </p:nvPicPr>
        <p:blipFill>
          <a:blip r:embed="rId1"/>
          <a:stretch/>
        </p:blipFill>
        <p:spPr>
          <a:xfrm>
            <a:off x="-181080" y="0"/>
            <a:ext cx="9525240" cy="67341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9"/>
          <p:cNvSpPr/>
          <p:nvPr/>
        </p:nvSpPr>
        <p:spPr>
          <a:xfrm>
            <a:off x="684360" y="803160"/>
            <a:ext cx="303048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0018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四、每课一问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4560" y="31179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826920" y="2276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从哪些地方看出祖国广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235107-12100923104711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611280" y="765000"/>
            <a:ext cx="30304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55640" y="981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五、小组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476360" y="227664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请同学们针对“前置性小研究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2”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进行讨论，做展前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看地图找出课文中提到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03640" y="621648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祖国多么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20081028111032243_2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95" name="Oval 4"/>
          <p:cNvSpPr/>
          <p:nvPr/>
        </p:nvSpPr>
        <p:spPr>
          <a:xfrm>
            <a:off x="6372360" y="115920"/>
            <a:ext cx="431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24000" y="1628640"/>
            <a:ext cx="431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7812000" y="692280"/>
            <a:ext cx="432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003640" y="5877000"/>
            <a:ext cx="432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219640" y="26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兴安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508720" y="558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海南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0" y="98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帕米尔高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093080" y="1052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乌苏里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1:51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6:24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