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2B5-DE81-4FCD-BF05-2209A6EF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2098-ED98-44FB-ACA7-E113A6B6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835-35E6-40B7-9384-4EA60539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E4A-5EA9-4F1B-B3C5-59CAFB6C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E65-B67C-4C77-AD1A-531AE8F6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FD518-7B85-48B1-A8F0-37B4E045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21D84-8610-44D0-852D-5F6978D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D0C39-7363-4001-B8DC-2154CE00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EAFA8-8675-434F-AF14-C3609CF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5D79-F8DA-4F98-8007-2869EB6F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B71DD-80D6-4670-AD6D-C380C2C8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D7F99-3173-4A40-A897-33E03D0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D2133-5DDA-456D-8617-3394FACD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7DDFA-2B6D-4BC4-A24A-D5DB4C91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B8BB-F792-4035-8992-3C688DDD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BA8-597D-4255-9E10-0C4D54DA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26CF7-BD1E-46FF-9685-A6FE1E1A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5F009-FBC3-4024-B72E-58025F6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EAD03-6E9C-4078-BB65-C181F248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FD70F-076D-4F42-8A28-A8668751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1B800-DCD0-4382-B32E-F25FCEA3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86F0C-6C65-437B-939B-0752A99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5E290-5498-499E-8FA8-47FE88E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77A42-147F-410A-A598-3D83430C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D6BEC-C99A-4B11-9D99-7F72C77F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98752-D2C9-4731-96E6-93C0C283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261-9961-46CB-9463-1A090A82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476E6-E897-4A67-80D7-71BDFEFF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DDD0-A462-41E2-9650-4E2FC15A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C6698-E8A4-4543-BE7A-B235FAE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AF10-4D35-4F6C-98C1-4DB58D3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EB20C-65E0-4196-878B-E67E446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07C0-F1C4-4920-A283-B5CF95FF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C1939-929A-4333-AF10-E4E4F8DA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AFF5-3825-4ED6-880D-5B6449D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4ACD3-C900-4DB0-AA70-53866570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B3702-3B23-46CA-A5A1-2CF5CB17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5C7D-B668-46DB-9693-F641B85B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33F7-BAB9-4E01-BC2F-893BD990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B0879-6782-4CC9-9D05-4125AA89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5B1A9-425D-40FD-8DD2-3938264E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D7258-3EC1-4298-BCEA-2CAFB13A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4317A-308E-4974-B67C-FAA8918C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264FC-9BC9-4A0A-9CD4-BB664E6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ECCDA-B018-4362-AA88-D56094D2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D8647-04D2-4190-AAA1-1637B65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05D00-EC0F-48BB-9E7A-5481ED8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F684E-593A-4CA0-8BB3-286B3FE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68A-C2A8-443D-A164-BE2FC24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E7B41-7D87-4623-84C5-E02147D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A2F22-5861-4079-8741-B465F4BF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AFBD4-C9EA-48A1-B732-0D86A3C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B9641-8AD5-4099-8956-5694C7F6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873B8-539B-4D33-9716-10619A2E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4DE-DD08-4B97-B9B5-2BA2997A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579B-9239-45F2-BAE8-5D5EE03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E3E7-6241-43CE-8601-85CCCCA8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F78D-9A7F-4BD7-B28F-966B94E8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100D-E4AF-40AE-BD6C-9E3EC1AF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648-D60A-4943-BC83-36ABEA3A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67F-1335-498E-9C0B-30169D7B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0397-F24F-40E1-AD33-03FA7F6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7E82-F504-4F49-9D2B-64878329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1FA8-F1B2-4E51-8D74-53F9B51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CA4-0EB9-4EE8-99CE-682CC12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138F-39A9-479C-BCCC-711DE890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F2318-32E8-4892-83F3-F8C2A80B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3F42-1A8B-492E-8557-6010223E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B8CC-A06A-4B2A-9339-3BAC7B6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6C69-D0DE-4231-9F45-0336771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3D0-7766-483E-9857-20CAF43D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50A2-3231-4B5A-B532-C6F51E46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E96A-1259-4079-98EB-26063EAC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5C7F-9D16-4D6A-9AA1-A44686B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EB59-F822-4D69-B374-9AEC2CD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3DD9-F31F-4924-A056-778CC27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C8E30-17C7-49D4-BBD7-511F87B0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C3DA-7D30-4BFE-9346-C3B71A29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E47F-4D7F-4AFC-BDDC-C76227E3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7850E-58A2-496F-A744-46DF8181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F497-1CD1-40BB-9F6D-AE387E05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F87-F210-423E-A4A3-C74C1881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03D4-D517-408D-8E3E-47CA7614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EF20-BED2-4AA3-A36F-4BC2625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21F2-2E56-492A-8DED-14DE47AE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40D8-56B6-41A9-BDF0-B9EF707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96049-6C06-4964-BF0B-C23197F2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C3B5-5338-4956-B405-8A4501C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CEB41-2106-45E9-9483-F3D7562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3302-430C-439B-BF61-9F92FB10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4727-09B0-498D-8C93-EE5E8C2C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5B765-1424-4CEE-8031-3D4A183E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A70-294D-40EB-82AF-864BA1F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B48C-B8BD-4772-80FE-D9B2EF7E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6519-245C-4E73-ABF8-F528D6D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509A-EAB7-46EF-B678-C4EF7581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CB8B5-111C-4D0B-8E54-E83EC785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4495-4AF8-4952-AC2C-DD15423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3AB8-D41E-4B44-8C34-E29D141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0270-3E61-4F35-9246-AE3F084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89A5F-73C4-40BC-834A-CF767074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72A43-DF94-452C-98D5-13795907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5EBF-BC85-4D0A-9F56-A0F621DA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A96-C646-4FD4-98CB-E61BD16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F8180-57C6-4D6E-AB6B-4036D458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FA89B-398C-445E-8BB7-7F6738C7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0BE8-0BFE-418C-9D1F-F2DB1352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F459-F1FB-4E56-BCED-C4CC349F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9B40-1DC6-4D70-9151-065614CF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36265-F357-4871-9429-BDD9016C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BC17-E699-42C8-B9C6-96885442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FF2AB-2E4E-4460-9409-3E5CF38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4EF61-D2A4-40C7-A40E-5F3AF6F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9B8B-FD34-4B0B-9A07-9283956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497-01EB-46A0-A2F0-14427A7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DF83-CBA1-4236-81B3-41ECFA65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E8BD7-0082-4FC7-9B51-DF025D30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D8797-CECB-47D6-B929-3DCBC713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C8C9-F532-4410-A256-9DB8D834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11D4-0531-4844-862E-6FEC30B9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F8F4-CD2D-4102-AB4B-50CD54E3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F348-12B7-45CF-8934-6AD84C85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3791-0650-4574-A277-0EDD4EA0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FAAAB-71A3-412F-B9A5-B748846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A7E3-3DB0-4362-AA87-E4D2040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FE7-031B-492E-A94B-2904153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2FCA-63E4-4EAB-BF6F-6E666EA1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E3E4-21FD-4D3F-83CB-520E782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7DA3-BC1A-4C4B-943F-6855764F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B2E2-4BCF-4660-9818-1A70C7E6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13B6-5393-4CB1-BA47-BD47258F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D79EA-6B6F-42F9-A94A-D68C1D4E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97D10-9BC7-4F12-A6B8-FF3A1218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1FD1-B505-436F-A339-1E283CFE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F448D-1291-42DE-961E-CD06E56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9DF6B-52AB-4745-8BDC-05115DBE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2193-6E3B-4F31-B540-2B4F4FB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5409-6EAD-4FC3-941B-6ECCD1C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8CB64-56ED-4647-AA4D-A254434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E6552-FD01-449B-A5BF-62694B43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4DC4F-7CBF-48D1-8CFB-7E2E9F1E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6EFF-CF45-4009-852A-CB515ECD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BD822-2DA2-45C6-97EB-C637CE9C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FAF87-7A4D-4941-850E-D8C2CFFE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5195-5021-4811-ACDA-392D38EA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DB62-68C3-48E3-B470-ADB312AB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F7E5-4D05-42E7-A8C8-F186DBBA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1CB-A663-4307-917A-2B1CF1CE0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4EAE-23A6-4A3D-8E6D-6ED89468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9522-9289-4437-A7AA-23AF95045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9C8C-6502-45DB-96A3-94273457D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381A-E533-45D1-8C58-89DA3B42A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09A5-C1D8-47FA-8F60-3C000666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5B04-360C-4965-812E-DC872FF15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4EF-0C4A-4B39-96D6-10D98BFBB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B79-4FA4-4850-A42E-E91B7A1D7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482C-A2CB-4D50-8D9C-61F786C9E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A08-9D9C-41E2-9CB6-9145922AA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B32-E0E6-4B84-85CC-18761289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1"/>
          <p:cNvSpPr/>
          <p:nvPr/>
        </p:nvSpPr>
        <p:spPr>
          <a:xfrm>
            <a:off x="2581200" y="15238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华文隶书"/>
                <a:ea typeface="华文隶书"/>
              </a:rPr>
              <a:t>只拣儿童多处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1"/>
          <p:cNvSpPr/>
          <p:nvPr/>
        </p:nvSpPr>
        <p:spPr>
          <a:xfrm>
            <a:off x="4020120" y="31240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3"/>
          <p:cNvSpPr/>
          <p:nvPr/>
        </p:nvSpPr>
        <p:spPr>
          <a:xfrm>
            <a:off x="1775880" y="5257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6"/>
          <p:cNvSpPr/>
          <p:nvPr/>
        </p:nvSpPr>
        <p:spPr>
          <a:xfrm>
            <a:off x="620640" y="4572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读一、二自然段，划出表现儿童多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读读你画出的句子，句中的哪些词语写出了游玩的孩子多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还联想到哪些描写人多的成语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528480" y="2514600"/>
            <a:ext cx="7975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香山归来，路过颐和园，看见成千盈百的孩子，闹嚷嚷地从颐和园门内挤了出来，就像从一只大魔术匣子里，飞涌出一群接着一群的小天使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838080" y="4724280"/>
            <a:ext cx="76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　　假如你是其中的一员，你一边跑，一边会喊些什么？带着这样愉快的心情来读读这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0"/>
          <p:cNvSpPr/>
          <p:nvPr/>
        </p:nvSpPr>
        <p:spPr>
          <a:xfrm>
            <a:off x="7300800" y="3033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1"/>
          <p:cNvSpPr/>
          <p:nvPr/>
        </p:nvSpPr>
        <p:spPr>
          <a:xfrm>
            <a:off x="7682040" y="3033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3"/>
          <p:cNvSpPr/>
          <p:nvPr/>
        </p:nvSpPr>
        <p:spPr>
          <a:xfrm>
            <a:off x="762120" y="35053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4"/>
          <p:cNvSpPr/>
          <p:nvPr/>
        </p:nvSpPr>
        <p:spPr>
          <a:xfrm>
            <a:off x="2743200" y="35053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3124080" y="35053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3505320" y="35053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7183440" y="35053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5562720" y="4038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5943600" y="4038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6705720" y="4038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31"/>
          <p:cNvSpPr/>
          <p:nvPr/>
        </p:nvSpPr>
        <p:spPr>
          <a:xfrm>
            <a:off x="7148520" y="4038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32"/>
          <p:cNvSpPr/>
          <p:nvPr/>
        </p:nvSpPr>
        <p:spPr>
          <a:xfrm>
            <a:off x="1128600" y="44956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33"/>
          <p:cNvSpPr/>
          <p:nvPr/>
        </p:nvSpPr>
        <p:spPr>
          <a:xfrm>
            <a:off x="7529400" y="4038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34"/>
          <p:cNvSpPr/>
          <p:nvPr/>
        </p:nvSpPr>
        <p:spPr>
          <a:xfrm>
            <a:off x="7910640" y="4038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5"/>
          <p:cNvSpPr/>
          <p:nvPr/>
        </p:nvSpPr>
        <p:spPr>
          <a:xfrm>
            <a:off x="747720" y="44956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6"/>
          <p:cNvSpPr/>
          <p:nvPr/>
        </p:nvSpPr>
        <p:spPr>
          <a:xfrm>
            <a:off x="1728720" y="402912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1676520" y="45277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8">
            <a:hlinkClick r:id="rId2" action="ppaction://hlinksldjump"/>
          </p:cNvPr>
          <p:cNvSpPr/>
          <p:nvPr/>
        </p:nvSpPr>
        <p:spPr>
          <a:xfrm>
            <a:off x="76201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33"/>
                </a:solidFill>
                <a:latin typeface="Times New Roman"/>
                <a:ea typeface="楷体_GB2312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9">
            <a:hlinkClick r:id="" action="ppaction://hlinkshowjump?jump=nextslide"/>
          </p:cNvPr>
          <p:cNvSpPr/>
          <p:nvPr/>
        </p:nvSpPr>
        <p:spPr>
          <a:xfrm>
            <a:off x="5410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40">
            <a:hlinkClick r:id="rId3" action="ppaction://hlinksldjump"/>
          </p:cNvPr>
          <p:cNvSpPr/>
          <p:nvPr/>
        </p:nvSpPr>
        <p:spPr>
          <a:xfrm>
            <a:off x="617220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1">
            <a:hlinkClick r:id="rId4" action="ppaction://hlinksldjump"/>
          </p:cNvPr>
          <p:cNvSpPr/>
          <p:nvPr/>
        </p:nvSpPr>
        <p:spPr>
          <a:xfrm>
            <a:off x="6934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３</a:t>
            </a:r>
            <a:r>
              <a:rPr b="1" lang="en-US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.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2"/>
          <p:cNvSpPr/>
          <p:nvPr/>
        </p:nvSpPr>
        <p:spPr>
          <a:xfrm>
            <a:off x="1461600" y="228600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人山人海  接踵摩肩  熙熙攘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22"/>
          <p:cNvSpPr/>
          <p:nvPr/>
        </p:nvSpPr>
        <p:spPr>
          <a:xfrm>
            <a:off x="8139240" y="30481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838080" y="1117440"/>
            <a:ext cx="7391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速阅读全文，找出描写春天景色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找到的句子再绘声绘色地读一读，你觉得春天的景色怎么样？你想到用哪个成语来形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3" descr="图片1"/>
          <p:cNvPicPr/>
          <p:nvPr/>
        </p:nvPicPr>
        <p:blipFill>
          <a:blip r:embed="rId2"/>
          <a:stretch/>
        </p:blipFill>
        <p:spPr>
          <a:xfrm>
            <a:off x="685800" y="609480"/>
            <a:ext cx="4830840" cy="54104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5"/>
          <p:cNvSpPr/>
          <p:nvPr/>
        </p:nvSpPr>
        <p:spPr>
          <a:xfrm>
            <a:off x="5516640" y="78408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进玉澜堂的院落里，眼睛一亮，那几棵大海棠树，开满了密密层层的淡红的花，这繁花从树枝开到树梢，不留一点空隙，阳光下就像几座喷花的飞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6"/>
          <p:cNvSpPr/>
          <p:nvPr/>
        </p:nvSpPr>
        <p:spPr>
          <a:xfrm>
            <a:off x="685800" y="6858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　　看到这样的春景，看到这样的春光，你想用怎样的语言来赞美？冰心奶奶又是怎样赞美的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666720" y="2514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春光竟会这样的饱满，这样的灿烂！它把一个冬天蕴藏的精神、力量，都尽情地释放出来了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1409760" y="48769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请同学们有感情地齐读这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4"/>
          <p:cNvSpPr/>
          <p:nvPr/>
        </p:nvSpPr>
        <p:spPr>
          <a:xfrm>
            <a:off x="635040" y="762120"/>
            <a:ext cx="78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真多，老师不由想起了杜甫的一首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畔独步寻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黄四娘家花满蹊，千朵万朵压枝低，留连戏蝶时时舞，自在娇莺恰恰啼。同样也是寻找春天，杜甫是只拣花儿多处行。而冰心奶奶却只拣儿童多处行。学到这儿你有什么疑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839240" y="27003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冰心奶奶找春天为什么“只拣儿童多处行”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3680280" y="3398760"/>
            <a:ext cx="153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让我们一起跟着冰心奶奶到“儿童多处”走一走，看一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635040" y="4038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读课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，圈画出表现“儿童充满生机、充满快乐”的词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一个词或一句话写写自己的感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0"/>
          <p:cNvSpPr/>
          <p:nvPr/>
        </p:nvSpPr>
        <p:spPr>
          <a:xfrm>
            <a:off x="457200" y="609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2"/>
          <p:cNvSpPr/>
          <p:nvPr/>
        </p:nvSpPr>
        <p:spPr>
          <a:xfrm>
            <a:off x="549360" y="80496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２）我们本想在知春亭畔喝茶，哪知道知春亭畔已是坐无隙地！女孩子、男孩子，戴红领巾的、把外衣脱下搭在肩上拿在手里的，东一堆，西一堆，叽叽呱呱地，也不知说些什么，笑些什么，个个鼻尖上，闪着汗珠，小小的身躯上喷发着太阳的香气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13"/>
          <p:cNvSpPr/>
          <p:nvPr/>
        </p:nvSpPr>
        <p:spPr>
          <a:xfrm>
            <a:off x="4054320" y="19479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14"/>
          <p:cNvSpPr/>
          <p:nvPr/>
        </p:nvSpPr>
        <p:spPr>
          <a:xfrm>
            <a:off x="4511520" y="19479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15"/>
          <p:cNvSpPr/>
          <p:nvPr/>
        </p:nvSpPr>
        <p:spPr>
          <a:xfrm>
            <a:off x="4968720" y="19479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16"/>
          <p:cNvSpPr/>
          <p:nvPr/>
        </p:nvSpPr>
        <p:spPr>
          <a:xfrm>
            <a:off x="5502240" y="19479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7"/>
          <p:cNvSpPr/>
          <p:nvPr/>
        </p:nvSpPr>
        <p:spPr>
          <a:xfrm>
            <a:off x="4054320" y="30290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8"/>
          <p:cNvSpPr/>
          <p:nvPr/>
        </p:nvSpPr>
        <p:spPr>
          <a:xfrm>
            <a:off x="4511520" y="3014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9"/>
          <p:cNvSpPr/>
          <p:nvPr/>
        </p:nvSpPr>
        <p:spPr>
          <a:xfrm>
            <a:off x="4968720" y="30290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0"/>
          <p:cNvSpPr/>
          <p:nvPr/>
        </p:nvSpPr>
        <p:spPr>
          <a:xfrm>
            <a:off x="5883120" y="30290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21"/>
          <p:cNvSpPr/>
          <p:nvPr/>
        </p:nvSpPr>
        <p:spPr>
          <a:xfrm>
            <a:off x="6264360" y="30290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2"/>
          <p:cNvSpPr/>
          <p:nvPr/>
        </p:nvSpPr>
        <p:spPr>
          <a:xfrm>
            <a:off x="6797520" y="30290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23"/>
          <p:cNvSpPr/>
          <p:nvPr/>
        </p:nvSpPr>
        <p:spPr>
          <a:xfrm>
            <a:off x="7711920" y="3014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4"/>
          <p:cNvSpPr/>
          <p:nvPr/>
        </p:nvSpPr>
        <p:spPr>
          <a:xfrm>
            <a:off x="8169120" y="3014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5"/>
          <p:cNvSpPr/>
          <p:nvPr/>
        </p:nvSpPr>
        <p:spPr>
          <a:xfrm>
            <a:off x="777960" y="35481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6"/>
          <p:cNvSpPr/>
          <p:nvPr/>
        </p:nvSpPr>
        <p:spPr>
          <a:xfrm>
            <a:off x="1311120" y="35481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7"/>
          <p:cNvSpPr/>
          <p:nvPr/>
        </p:nvSpPr>
        <p:spPr>
          <a:xfrm>
            <a:off x="1768320" y="35481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8">
            <a:hlinkClick r:id="rId2" action="ppaction://hlinksldjump"/>
          </p:cNvPr>
          <p:cNvSpPr/>
          <p:nvPr/>
        </p:nvSpPr>
        <p:spPr>
          <a:xfrm>
            <a:off x="769932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9">
            <a:hlinkClick r:id="" action="ppaction://hlinkshowjump?jump=nextslide"/>
          </p:cNvPr>
          <p:cNvSpPr/>
          <p:nvPr/>
        </p:nvSpPr>
        <p:spPr>
          <a:xfrm>
            <a:off x="5489640" y="57913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0">
            <a:hlinkClick r:id="rId3" action="ppaction://hlinksldjump"/>
          </p:cNvPr>
          <p:cNvSpPr/>
          <p:nvPr/>
        </p:nvSpPr>
        <p:spPr>
          <a:xfrm>
            <a:off x="625140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1">
            <a:hlinkClick r:id="rId4" action="ppaction://hlinksldjump"/>
          </p:cNvPr>
          <p:cNvSpPr/>
          <p:nvPr/>
        </p:nvSpPr>
        <p:spPr>
          <a:xfrm>
            <a:off x="701352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３</a:t>
            </a:r>
            <a:r>
              <a:rPr b="1" lang="en-US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.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8"/>
          <p:cNvSpPr/>
          <p:nvPr/>
        </p:nvSpPr>
        <p:spPr>
          <a:xfrm>
            <a:off x="609480" y="892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３）湖面无数坐满儿童的小船，在波浪上荡漾，一面一面鲜红的队旗，在东风里哗哗地响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457200" y="609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633240" y="28195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４）转弯的地方，总和一群一群的孩子撞个满怀，他们匆匆地说了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不起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匆匆地往前跑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2">
            <a:hlinkClick r:id="rId2" action="ppaction://hlinksldjump"/>
          </p:cNvPr>
          <p:cNvSpPr/>
          <p:nvPr/>
        </p:nvSpPr>
        <p:spPr>
          <a:xfrm>
            <a:off x="76201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13">
            <a:hlinkClick r:id="" action="ppaction://hlinkshowjump?jump=nextslide"/>
          </p:cNvPr>
          <p:cNvSpPr/>
          <p:nvPr/>
        </p:nvSpPr>
        <p:spPr>
          <a:xfrm>
            <a:off x="541008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4">
            <a:hlinkClick r:id="rId3" action="ppaction://hlinksldjump"/>
          </p:cNvPr>
          <p:cNvSpPr/>
          <p:nvPr/>
        </p:nvSpPr>
        <p:spPr>
          <a:xfrm>
            <a:off x="6172200" y="59436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>
            <a:hlinkClick r:id="rId4" action="ppaction://hlinksldjump"/>
          </p:cNvPr>
          <p:cNvSpPr/>
          <p:nvPr/>
        </p:nvSpPr>
        <p:spPr>
          <a:xfrm>
            <a:off x="6934320" y="59436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３</a:t>
            </a:r>
            <a:r>
              <a:rPr b="1" lang="en-US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.</a:t>
            </a:r>
            <a:r>
              <a:rPr b="1" lang="zh-CN" sz="1600" spc="-1" strike="noStrike">
                <a:solidFill>
                  <a:srgbClr val="bbe0e3"/>
                </a:solidFill>
                <a:latin typeface="Times New Roman"/>
                <a:ea typeface="楷体_GB2312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7"/>
          <p:cNvSpPr/>
          <p:nvPr/>
        </p:nvSpPr>
        <p:spPr>
          <a:xfrm>
            <a:off x="609480" y="762120"/>
            <a:ext cx="83822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333399"/>
                </a:solidFill>
                <a:latin typeface="Arial"/>
                <a:ea typeface="黑体"/>
              </a:rPr>
              <a:t>读读这段话，想想作者想表达的意思是什么？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665280" y="4335480"/>
            <a:ext cx="78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在春天里，花儿和儿童一样，生机勃勃，充满着生命的活力。作者借赞美春天的花朵，来赞美生机勃勃的儿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588960" y="14860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只要管理得好，给它适时地浇水施肥，花儿和儿童一样，在春天的感召下，欢畅活泼的，以旺盛的生命力，舒展出新鲜美丽的四肢。这时候，自己感到快乐，别人看着也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6"/>
          <p:cNvSpPr/>
          <p:nvPr/>
        </p:nvSpPr>
        <p:spPr>
          <a:xfrm>
            <a:off x="685800" y="12193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春天的颐和园成了儿童的乐园，儿童的世界，儿童的海洋。他们尽情说笑，在阳光下东奔西跑，个个忙得鼻尖冒汗，却又那么欢畅活泼，不知疲倦。他们身上有着使不完的力气，充满勃勃的生机和活力。字里行间还能体会到冰心奶奶对儿童的喜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6"/>
          <p:cNvSpPr/>
          <p:nvPr/>
        </p:nvSpPr>
        <p:spPr>
          <a:xfrm>
            <a:off x="609480" y="2924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　　冰心奶奶为什么认为只拣儿童多处行，就一定能找到春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80496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楷体_GB2312"/>
              </a:rPr>
              <a:t>　　因为儿童像春天般生机勃勃，儿童到哪儿就会给哪儿带来生机和快乐，跟着他们的足迹就能找到春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8380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朋友，春天在哪里？当你春游的时候，记住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“只拣儿童多处行”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是永远不会找不到春天的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8"/>
          <p:cNvSpPr/>
          <p:nvPr/>
        </p:nvSpPr>
        <p:spPr>
          <a:xfrm>
            <a:off x="762120" y="126036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冰心，原名</a:t>
            </a:r>
            <a:r>
              <a:rPr b="1" lang="zh-CN" sz="2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谢婉莹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我国著名的儿童文学作家。她的作品，尤其是小诗，从她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的哲学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诛求生活的真和美，大多抒写童心的纯真和母爱的深挚。在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年的创作生涯中，冰心老人为我们留下了散文、诗歌、小说以及翻译作品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万字。她的作品内涵丰厚、讲究、精致，影响深广，有许多被译成日、英、德、法等国文字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向大家推荐：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往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橘灯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星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水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作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1132560" y="609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冰心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609480" y="5035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儿童是世界上最美的，除了宇宙之外，就是儿童。　　　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冰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6"/>
          <p:cNvSpPr/>
          <p:nvPr/>
        </p:nvSpPr>
        <p:spPr>
          <a:xfrm>
            <a:off x="685800" y="20113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背诵５－９的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609480" y="3154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２、仿照课文描写海棠花的写法，介绍一种你喜欢的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144440" y="838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油菜花美丽极了。这几天，油菜花开得正艳，远远望去，像在地上铺了金子一样，一大片一大片的。太阳出来了，照在金黄的油菜花上，显得更加耀眼。我仔细地看着油菜花，有的油菜花全开了，像一个个小明星似的在大大的舞台上唱歌、跳舞；有的半遮半掩，像一个个害羞的小姑娘，躲藏在绿叶间；有的还是花骨朵，像一个个小青桃，高高挂在树杆上向我招手，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，我和妈妈在公园看到了菊花，菊花可漂亮了！它的颜色可多了，有黄、白、紫、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样子就更别说了，千姿百态，各式各样：有的已经开了，像龙爪一样；有的刚打花骨朵儿，还带着浅浅的绿色，你一个个可爱的小灯笼；还有的开了一半，一些花瓣向下垂着，像一位害羞的小姑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近一闻，一股淡淡的清香顿时扑鼻而来，让人久久不能忘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走进公园，只见朵朵樱花挂满枝头，一枝上就有十几朵花球球，连枝儿都压弯了。远远望去，就像一大片五颜六色的地毯，美极了。近看花是五角星形的，花心是下面白上面黄，像一小棵豆芽，风一吹来，花儿就向路人点头。它的颜色非常多，有白色，有粉色和红色等，看这棵像是挂满“银子”的发财树，另一棵像是扑过粉的小姑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1403280" y="548784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3700-59C0-4A6F-9052-0993B33656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1557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拣   隙   漾    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292392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棠   额   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990720" y="6858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6"/>
          <p:cNvSpPr/>
          <p:nvPr/>
        </p:nvSpPr>
        <p:spPr>
          <a:xfrm>
            <a:off x="2286000" y="1920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09280" y="9907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ài       jù       cōng      shāo      s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概    聚     匆       稍      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          niǔ        wàng      z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额     纽        旺       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755640" y="404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0948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百盈千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座无隙地   聚精会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概   荡漾   匆匆    海棠   树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蕴藏   释放    赞叹   额前   纽扣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旺盛   感召    浑身解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6"/>
          <p:cNvSpPr/>
          <p:nvPr/>
        </p:nvSpPr>
        <p:spPr>
          <a:xfrm>
            <a:off x="228600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词语释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294920"/>
            <a:ext cx="81532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灿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颜色鲜明而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忸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形容不好意思或不大方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成千盈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盈，满。形容人很多。也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成千上百”。</a:t>
            </a:r>
            <a:br>
              <a:rPr sz="3600"/>
            </a:b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座无隙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隙地，空着的地方。没有一点儿空地可以坐下来。形容人很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浑身解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全身的本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6"/>
          <p:cNvSpPr/>
          <p:nvPr/>
        </p:nvSpPr>
        <p:spPr>
          <a:xfrm>
            <a:off x="533520" y="838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读课文，思考：作者的游览路线是怎样的？画出表述作者行踪的词语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276720" y="2743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颐和园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1219320" y="3809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春亭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3886200" y="47084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湖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54864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玉澜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4"/>
          <p:cNvSpPr/>
          <p:nvPr/>
        </p:nvSpPr>
        <p:spPr>
          <a:xfrm flipH="1">
            <a:off x="2590560" y="3276720"/>
            <a:ext cx="6094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5"/>
          <p:cNvSpPr/>
          <p:nvPr/>
        </p:nvSpPr>
        <p:spPr>
          <a:xfrm>
            <a:off x="2819520" y="4495680"/>
            <a:ext cx="5331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6"/>
          <p:cNvSpPr/>
          <p:nvPr/>
        </p:nvSpPr>
        <p:spPr>
          <a:xfrm flipV="1">
            <a:off x="5562720" y="46483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6"/>
          <p:cNvSpPr/>
          <p:nvPr/>
        </p:nvSpPr>
        <p:spPr>
          <a:xfrm>
            <a:off x="609480" y="6094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请按作者游览路线，给课文分段，概括段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642960" y="1763640"/>
            <a:ext cx="78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一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我们迎着儿童的涌流，挤进颐和园去赏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642960" y="2708280"/>
            <a:ext cx="78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二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我们在知春亭畔和湖边看到许多儿童在热热闹闹地赶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42960" y="3662280"/>
            <a:ext cx="78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三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我们在玉澜堂的院子里，与孩子们共赏开得正旺的海棠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457200" y="4724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四段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我的感想，告诉人们春游时，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拣儿童多处行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永远不会找不到春天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6"/>
          <p:cNvSpPr/>
          <p:nvPr/>
        </p:nvSpPr>
        <p:spPr>
          <a:xfrm>
            <a:off x="609480" y="2057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童不解春何处，只拣游人多处行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716040" y="949320"/>
            <a:ext cx="60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能说说下面这句诗的意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609480" y="299556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儿童不知道春天在哪里，只知道拣游人多的地方去找春天。他们以为人多的地方，一定是春光最美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24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7:16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