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8788-052B-4C2D-9004-C60C9CF618F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6603-9876-4320-8A13-4069BE7157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8DC-EB03-4AAB-9C23-479BB871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3F8-CB0D-4424-8110-C416F7B5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CF18-E441-4A70-9EE4-A709552A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8AF-5681-4150-8AB2-2ADC73D6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473A-0F6A-4343-8CBD-39152E45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E568-13A1-4297-820C-C15914CE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E916-CC3C-4546-8298-73CCBDF8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650D-F551-45B6-AE7C-E85F2D3E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B150-EEA4-4F8B-BA0E-B67B17E4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D04F-FA6C-4BFD-8E6A-018CE835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297E-68D2-4C2C-85C5-8FEE85BD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66D-66F3-42E5-9607-6CA6C7BD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45A8-0A6F-4A52-A8F2-89AC8E2B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3D33-2197-46F2-811A-9106AF34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5B96-3BED-40B7-AC8E-2798C67C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A40A-550F-4CFC-A0D4-252F8EE8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343F-1D3C-48CA-865D-4DF6E017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1E1-3AD8-4BD2-BA2E-AA9B79E3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406-BCBF-4F76-94F3-2717216B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1FE-8FF5-4246-9300-FA3CE8AC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7EC-0E3E-4EA3-9C55-77523A18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303-93E0-41FA-A61D-13BA4B66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0A13-4AAB-4880-A6EB-5481B163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FF8-6901-4F08-9BA0-23A73764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341A-7952-4F7D-A0C9-9CC7253E0C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E432-BF62-450D-B5F1-BA564D8D1A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162840"/>
          </a:xfrm>
          <a:prstGeom prst="rect">
            <a:avLst/>
          </a:prstGeom>
          <a:ln w="0">
            <a:noFill/>
          </a:ln>
        </p:spPr>
      </p:pic>
      <p:sp>
        <p:nvSpPr>
          <p:cNvPr id="157" name="WordArt 3"/>
          <p:cNvSpPr txBox="1"/>
          <p:nvPr/>
        </p:nvSpPr>
        <p:spPr>
          <a:xfrm>
            <a:off x="4343400" y="4668840"/>
            <a:ext cx="4419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最佳路径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8" name="矩形 4"/>
          <p:cNvSpPr/>
          <p:nvPr/>
        </p:nvSpPr>
        <p:spPr>
          <a:xfrm>
            <a:off x="1827000" y="6019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304920" y="266688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自由读，思考：你认为他是一个大师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8160" y="838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学习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-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自然段，初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大师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"/>
          <p:cNvSpPr/>
          <p:nvPr/>
        </p:nvSpPr>
        <p:spPr>
          <a:xfrm>
            <a:off x="2370240" y="5418000"/>
            <a:ext cx="50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533520" y="5335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格罗培斯是美国哈佛大学建筑学院的院长。他从事建筑研究四十多年，攻克过无数个建筑方面的难题，在世界各地留下七十多处精美的杰作。然而，建筑学中最微不足道的一点儿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路径设计却让他大伤脑筋。对迪斯尼乐园景点之间的道路方案，它已经修改了五十多次，没有一次是让他满意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 flipV="1">
            <a:off x="2971800" y="2514240"/>
            <a:ext cx="3200400" cy="1522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5334120" y="3276720"/>
            <a:ext cx="251460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 flipV="1">
            <a:off x="7010280" y="3886200"/>
            <a:ext cx="1905120" cy="763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 flipV="1">
            <a:off x="609480" y="5257800"/>
            <a:ext cx="1828800" cy="763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 flipV="1">
            <a:off x="6477120" y="5867280"/>
            <a:ext cx="1981080" cy="763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2514600" y="6553080"/>
            <a:ext cx="2133720" cy="7632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16"/>
          <p:cNvPicPr/>
          <p:nvPr/>
        </p:nvPicPr>
        <p:blipFill>
          <a:blip r:embed="rId1"/>
          <a:stretch/>
        </p:blipFill>
        <p:spPr>
          <a:xfrm>
            <a:off x="533520" y="838080"/>
            <a:ext cx="1358640" cy="10591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990720" y="2514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中宋"/>
              </a:rPr>
              <a:t>他力求完美，追求最佳，并为之付出了艰辛的劳动。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304920" y="15238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　　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正当认真、负责的格罗培斯感到困惑时，忽然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山穷水尽疑无路，柳暗花明又一村。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他从法国南部一个卖葡萄的老太太身上受到启发，想出了办法。他受到什么启发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395280" y="2060640"/>
          <a:ext cx="8497800" cy="2736720"/>
        </p:xfrm>
        <a:graphic>
          <a:graphicData uri="http://schemas.openxmlformats.org/drawingml/2006/table">
            <a:tbl>
              <a:tblPr/>
              <a:tblGrid>
                <a:gridCol w="3024360"/>
                <a:gridCol w="2952720"/>
                <a:gridCol w="2520720"/>
              </a:tblGrid>
              <a:tr h="93816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   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做   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结   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许多园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年迈的老太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Text Box 20"/>
          <p:cNvSpPr/>
          <p:nvPr/>
        </p:nvSpPr>
        <p:spPr>
          <a:xfrm>
            <a:off x="1191240" y="204840"/>
            <a:ext cx="621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默读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-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自然段，感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大师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成下面的表格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838080" y="487692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如果是你，你愿意买谁的葡萄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3708360" y="3141720"/>
            <a:ext cx="238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摘 提 吆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6588000" y="3141720"/>
            <a:ext cx="25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无人问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370836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3796560" y="39528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人看管 投 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7152480" y="3919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最先卖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761760" y="1447560"/>
            <a:ext cx="78483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这种给人自由，任其选择的做法使大师深受启发，他下车摘了一篮葡萄，就让司机调转车头，立即返回了巴黎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352680" y="230040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·  ·  ·  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7086600" y="29862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·  ·  ·  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4724280" y="290988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·  ·  ·  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304920" y="1676520"/>
            <a:ext cx="458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i="1" lang="zh-CN" sz="3600" spc="-1" strike="noStrike">
                <a:solidFill>
                  <a:srgbClr val="3366ff"/>
                </a:solidFill>
                <a:latin typeface="隶书"/>
                <a:ea typeface="隶书"/>
              </a:rPr>
              <a:t>请大家合理想象他们的动作、神态、语言，同桌进行对话，至少两次 ：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2895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司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：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格罗培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：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------------------------------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457200" y="8380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老太太卖葡萄的方法给了格罗培斯灵感。格罗培斯要求在乐园里撒下草种，提前开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09480" y="27432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在迪斯尼乐园提前开放的半年里，草地被踩出许多小道，这些踩出的小道有宽有窄，优雅自然。第二年，格罗培斯让人按这些踩出的痕迹铺设了人行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066680" y="48769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为什么会出现“有窄有宽”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b8nwi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228600" y="152280"/>
            <a:ext cx="8686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“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世上本没有路，走的人多了，也就成了路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------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鲁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114800" y="5257800"/>
            <a:ext cx="4724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适合的才是最好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915dsnqj"/>
          <p:cNvPicPr/>
          <p:nvPr/>
        </p:nvPicPr>
        <p:blipFill>
          <a:blip r:embed="rId1"/>
          <a:stretch/>
        </p:blipFill>
        <p:spPr>
          <a:xfrm>
            <a:off x="380880" y="47520"/>
            <a:ext cx="8763120" cy="620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5"/>
          <p:cNvSpPr/>
          <p:nvPr/>
        </p:nvSpPr>
        <p:spPr>
          <a:xfrm>
            <a:off x="1815120" y="89064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读了这个课题，同学们想弄明白哪些问题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272760" y="2514600"/>
            <a:ext cx="151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这最佳路径是谁设计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是如何设计出来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为什么是最佳的路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3"/>
          <p:cNvSpPr/>
          <p:nvPr/>
        </p:nvSpPr>
        <p:spPr>
          <a:xfrm>
            <a:off x="750960" y="461880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0066"/>
                </a:solidFill>
                <a:latin typeface="Arial"/>
                <a:ea typeface="楷体_GB2312"/>
              </a:rPr>
              <a:t>同学们，假如你是伦敦国际园林建筑艺术研讨会上的专家、评委，你能说说为什么把迪斯尼乐园的路径设计评为最佳路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838080" y="38088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学习第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自然段，评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大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248520" y="-360"/>
            <a:ext cx="1371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cccc00"/>
                </a:solidFill>
                <a:latin typeface="Arial"/>
              </a:rPr>
              <a:t>格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cccc00"/>
                </a:solidFill>
                <a:latin typeface="Arial"/>
              </a:rPr>
              <a:t>罗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cccc00"/>
                </a:solidFill>
                <a:latin typeface="Arial"/>
              </a:rPr>
              <a:t>培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cccc00"/>
                </a:solidFill>
                <a:latin typeface="Arial"/>
              </a:rPr>
              <a:t>斯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Walter-photo"/>
          <p:cNvPicPr/>
          <p:nvPr/>
        </p:nvPicPr>
        <p:blipFill>
          <a:blip r:embed="rId1"/>
          <a:stretch/>
        </p:blipFill>
        <p:spPr>
          <a:xfrm>
            <a:off x="0" y="0"/>
            <a:ext cx="5943600" cy="55627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669960" y="5737320"/>
            <a:ext cx="824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你想对格罗培斯说些什么？</a:t>
            </a:r>
            <a:br>
              <a:rPr sz="4800"/>
            </a:br>
            <a:br>
              <a:rPr sz="36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228240" y="2057040"/>
            <a:ext cx="83818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在这个世界上，不知道该怎么办的时候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选择顺其自然，也许是最佳选择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　　　　　　　　　　　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　　　　　　　　　　　　　　　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格罗培斯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914400" y="1142640"/>
            <a:ext cx="815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学了这篇课文，我们知道这最佳路径不光是指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迪斯尼乐园的路径设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被评为最佳，也指这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设计路径的方法是最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，更是指让同学们学习格罗培斯这种在生活中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留意观察，细心琢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方法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这样每个人能找到属于自己的通往成功的最佳路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330066"/>
                </a:solidFill>
                <a:latin typeface="Arial"/>
                <a:ea typeface="黑体"/>
              </a:rPr>
              <a:t>　　　　　　</a:t>
            </a:r>
            <a:r>
              <a:rPr b="0" lang="zh-CN" sz="3900" spc="-1" strike="noStrike">
                <a:solidFill>
                  <a:srgbClr val="ff0000"/>
                </a:solidFill>
                <a:latin typeface="Arial"/>
                <a:ea typeface="黑体"/>
              </a:rPr>
              <a:t>颁奖词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1430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世界建筑大师之所以伟大，不仅因为他有精湛的艺术，创新的思维，还因为他那种精益求精的精神，更表现在他尊重他人，为人着想的人本思想。  我们感谢格罗培斯，他送给了我们一个道理：</a:t>
            </a:r>
            <a:r>
              <a:rPr b="1" lang="zh-CN" sz="3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有的时候，不知怎么办时，给人自由，任其选择，也许就是最佳路径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课时作业：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371240"/>
            <a:ext cx="76197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一、根据课文第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自然段内容，完成句式训练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许多园主卖葡萄的方法是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，结果是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老太太卖葡萄的方法是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结果是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二、此时此刻，假如格罗培斯就在这里，你想对他说些什么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330066"/>
                </a:solidFill>
                <a:latin typeface="Arial"/>
              </a:rPr>
              <a:t>课外作业：</a:t>
            </a:r>
            <a:endParaRPr b="1" lang="en-US" sz="4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格罗培斯从老太太的做法中深受启发，获得成功。你们从格罗培斯身上得到了什么启发呢？联系自己的生活与学习写下自己的收获，寻找生活中的“最佳路径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课外阅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不要放过偶然的现象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106668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我们附近有一个林场，一条公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从林场穿过，过往的人比较喜欢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林场停车，购买摘放在路边的西瓜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他们都说这儿的西瓜最甜，最新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如果你是瓜地的主人，你还会如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再改进一下销售方法，让西瓜卖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更多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0" y="609120"/>
            <a:ext cx="81532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汽车在法国南部的乡间公路上奔驰。这儿是法国著名的葡萄产区，满山遍野都是当地农民的葡萄园。一路上，格罗培斯看到无数的葡萄园主，把摘下来的葡萄提到路边，向过往的车辆和行人吆喝，然而无人问津。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533520" y="2819520"/>
            <a:ext cx="7162560" cy="7596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457200" y="3429000"/>
            <a:ext cx="7162920" cy="7632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4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6"/>
          <p:cNvSpPr/>
          <p:nvPr/>
        </p:nvSpPr>
        <p:spPr>
          <a:xfrm>
            <a:off x="457200" y="3962520"/>
            <a:ext cx="7162920" cy="7596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7"/>
          <p:cNvSpPr/>
          <p:nvPr/>
        </p:nvSpPr>
        <p:spPr>
          <a:xfrm>
            <a:off x="533520" y="2819520"/>
            <a:ext cx="7162560" cy="7596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8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9"/>
          <p:cNvSpPr/>
          <p:nvPr/>
        </p:nvSpPr>
        <p:spPr>
          <a:xfrm>
            <a:off x="457200" y="3429000"/>
            <a:ext cx="7162920" cy="7632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0"/>
          <p:cNvSpPr/>
          <p:nvPr/>
        </p:nvSpPr>
        <p:spPr>
          <a:xfrm>
            <a:off x="533520" y="2819520"/>
            <a:ext cx="7162560" cy="7596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2"/>
          <p:cNvSpPr/>
          <p:nvPr/>
        </p:nvSpPr>
        <p:spPr>
          <a:xfrm>
            <a:off x="457200" y="3962520"/>
            <a:ext cx="7162920" cy="7596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3"/>
          <p:cNvSpPr/>
          <p:nvPr/>
        </p:nvSpPr>
        <p:spPr>
          <a:xfrm>
            <a:off x="457200" y="3429000"/>
            <a:ext cx="7162920" cy="7632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4"/>
          <p:cNvSpPr/>
          <p:nvPr/>
        </p:nvSpPr>
        <p:spPr>
          <a:xfrm>
            <a:off x="533520" y="2819520"/>
            <a:ext cx="7162560" cy="7596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5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6"/>
          <p:cNvGrpSpPr/>
          <p:nvPr/>
        </p:nvGrpSpPr>
        <p:grpSpPr>
          <a:xfrm>
            <a:off x="457200" y="2286000"/>
            <a:ext cx="7315200" cy="1752480"/>
            <a:chOff x="457200" y="2286000"/>
            <a:chExt cx="7315200" cy="1752480"/>
          </a:xfrm>
        </p:grpSpPr>
        <p:sp>
          <p:nvSpPr>
            <p:cNvPr id="267" name="Line 27"/>
            <p:cNvSpPr/>
            <p:nvPr/>
          </p:nvSpPr>
          <p:spPr>
            <a:xfrm>
              <a:off x="457200" y="3962520"/>
              <a:ext cx="7162920" cy="7596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8"/>
            <p:cNvSpPr/>
            <p:nvPr/>
          </p:nvSpPr>
          <p:spPr>
            <a:xfrm>
              <a:off x="457200" y="3429000"/>
              <a:ext cx="7162920" cy="7632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9"/>
            <p:cNvSpPr/>
            <p:nvPr/>
          </p:nvSpPr>
          <p:spPr>
            <a:xfrm>
              <a:off x="533520" y="2819520"/>
              <a:ext cx="7162560" cy="7596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0"/>
            <p:cNvSpPr/>
            <p:nvPr/>
          </p:nvSpPr>
          <p:spPr>
            <a:xfrm>
              <a:off x="6858000" y="2286000"/>
              <a:ext cx="91440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33"/>
          <p:cNvSpPr/>
          <p:nvPr/>
        </p:nvSpPr>
        <p:spPr>
          <a:xfrm>
            <a:off x="746280" y="4822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45720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许多葡萄园主卖葡萄的方法是</a:t>
            </a:r>
            <a:r>
              <a:rPr b="1" lang="zh-CN" sz="3900" spc="-1" strike="noStrike" u="sng">
                <a:solidFill>
                  <a:srgbClr val="330066"/>
                </a:solidFill>
                <a:uFillTx/>
                <a:latin typeface="Arial"/>
              </a:rPr>
              <a:t>       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，结果是</a:t>
            </a:r>
            <a:r>
              <a:rPr b="1" lang="zh-CN" sz="3900" spc="-1" strike="noStrike" u="sng">
                <a:solidFill>
                  <a:srgbClr val="330066"/>
                </a:solidFill>
                <a:uFillTx/>
                <a:latin typeface="Arial"/>
              </a:rPr>
              <a:t>                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0" y="609120"/>
            <a:ext cx="81532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汽车在法国南部的乡间公路上奔驰。这儿是法国著名的葡萄产区，满山遍野都是当地农民的葡萄园。一路上，格罗培斯看到无数的葡萄园主，把摘下来的葡萄提到路边，向过往的车辆和行人吆喝，然而无人问津。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11"/>
          <p:cNvSpPr txBox="1"/>
          <p:nvPr/>
        </p:nvSpPr>
        <p:spPr>
          <a:xfrm>
            <a:off x="609480" y="380880"/>
            <a:ext cx="4114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初读课文，理解大意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838080" y="22860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请同学们带着问题，自由朗读课文，要求读准字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-22896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他们的车子拐入一个小山谷时，发现那儿停着许多车子。原来这儿是一个无人葡萄园，你只要在路边的箱子里投入五法郎，就可以摘一篮葡萄上路。据说这是一位老太太的葡萄园，她因年迈无力料理而想出这个办法。起初她还担心这种办法是否能卖出葡萄，谁知在绵延数百里的葡萄产区，总是她的葡萄最先卖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"/>
          <p:cNvSpPr/>
          <p:nvPr/>
        </p:nvSpPr>
        <p:spPr>
          <a:xfrm>
            <a:off x="304920" y="312408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"/>
          <p:cNvSpPr/>
          <p:nvPr/>
        </p:nvSpPr>
        <p:spPr>
          <a:xfrm>
            <a:off x="1371600" y="4724280"/>
            <a:ext cx="6781680" cy="7632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04920" y="5334120"/>
            <a:ext cx="365760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105520" y="152388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7"/>
          <p:cNvSpPr/>
          <p:nvPr/>
        </p:nvSpPr>
        <p:spPr>
          <a:xfrm>
            <a:off x="304920" y="2057400"/>
            <a:ext cx="769608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>
            <a:off x="380880" y="2590920"/>
            <a:ext cx="769644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304920" y="57150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老太太卖葡萄的做法是 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结果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_______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</a:rPr>
              <a:t>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780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他们的车子拐入一个小山谷时，却发现那儿停着许多车子。原来这儿是一个无人葡萄园，你只要在路边的箱子里投入五法郎，就可以摘一篮葡萄上路。据说这是一位老太太的葡萄园，她因年迈无力料理而想出这个办法，起初她还担心这种办法是否能卖出葡萄，谁知在绵延数百里的葡萄产区，总是她的葡萄最先卖完。大师幡然醒悟，下车摘了一篮葡萄，就让司机调转车头，立即返回了巴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"/>
          <p:cNvSpPr/>
          <p:nvPr/>
        </p:nvSpPr>
        <p:spPr>
          <a:xfrm flipH="1">
            <a:off x="5333760" y="1905120"/>
            <a:ext cx="152280" cy="38088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4114440" y="3886200"/>
            <a:ext cx="152280" cy="38088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5"/>
          <p:cNvSpPr/>
          <p:nvPr/>
        </p:nvSpPr>
        <p:spPr>
          <a:xfrm flipH="1">
            <a:off x="2133360" y="4876920"/>
            <a:ext cx="152280" cy="38088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"/>
          <p:cNvSpPr/>
          <p:nvPr/>
        </p:nvSpPr>
        <p:spPr>
          <a:xfrm>
            <a:off x="1600200" y="5835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启示：给人自由，任其选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7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539280" y="1887120"/>
            <a:ext cx="8001000" cy="35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900" spc="-1" strike="noStrike">
                <a:solidFill>
                  <a:srgbClr val="000000"/>
                </a:solidFill>
                <a:latin typeface="Arial"/>
                <a:ea typeface="华文新魏"/>
              </a:rPr>
              <a:t>格罗培斯的迪尼斯乐园路径设计被评为世界最佳设计奖，它与法国南部农民卖葡萄有什么联系？ </a:t>
            </a:r>
            <a:r>
              <a:rPr b="0" lang="zh-CN" sz="4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使用规范说明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3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3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1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7e9ce8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EC31-F510-4451-974D-900D8D9197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"/>
          <p:cNvSpPr/>
          <p:nvPr/>
        </p:nvSpPr>
        <p:spPr>
          <a:xfrm>
            <a:off x="41911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4267080" y="44197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海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426708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b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>
            <a:off x="1143000" y="30481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>
            <a:off x="1143000" y="21337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>
            <a:off x="1066680" y="42670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认一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2" descr="笔１"/>
          <p:cNvPicPr/>
          <p:nvPr/>
        </p:nvPicPr>
        <p:blipFill>
          <a:blip r:embed="rId1"/>
          <a:stretch/>
        </p:blipFill>
        <p:spPr>
          <a:xfrm>
            <a:off x="990720" y="838080"/>
            <a:ext cx="12697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9"/>
          <p:cNvSpPr/>
          <p:nvPr/>
        </p:nvSpPr>
        <p:spPr>
          <a:xfrm>
            <a:off x="6400800" y="2438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1584360" y="329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0" y="16002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这最佳路径是谁设计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5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4419720" cy="64771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6"/>
          <p:cNvSpPr/>
          <p:nvPr/>
        </p:nvSpPr>
        <p:spPr>
          <a:xfrm>
            <a:off x="1896480" y="3276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格罗培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1198080" y="4267080"/>
            <a:ext cx="282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是如何设计出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为什么是最佳的路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18"/>
          <p:cNvSpPr txBox="1"/>
          <p:nvPr/>
        </p:nvSpPr>
        <p:spPr>
          <a:xfrm>
            <a:off x="762120" y="457200"/>
            <a:ext cx="3809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组合作讨论：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12"/>
          <p:cNvSpPr txBox="1"/>
          <p:nvPr/>
        </p:nvSpPr>
        <p:spPr>
          <a:xfrm>
            <a:off x="1143000" y="106668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说说课文主要讲了一件什么事？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1143000" y="19051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（世界建筑大师格罗培斯为迪斯尼乐园的路径设计大伤脑筋，后来从一位年老的葡萄园主卖葡萄的方法上受到启发，最终他设计的路径被评为世界最佳设计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5"/>
          <p:cNvSpPr txBox="1"/>
          <p:nvPr/>
        </p:nvSpPr>
        <p:spPr>
          <a:xfrm>
            <a:off x="762120" y="457200"/>
            <a:ext cx="3809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组合作讨论：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922040" y="160020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根据老师的提示给课文分段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35960" y="3346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遇到难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1714680" y="357516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2721960" y="3346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获得启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0"/>
          <p:cNvSpPr/>
          <p:nvPr/>
        </p:nvSpPr>
        <p:spPr>
          <a:xfrm>
            <a:off x="3924360" y="3575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5160600" y="3346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完成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2"/>
          <p:cNvSpPr/>
          <p:nvPr/>
        </p:nvSpPr>
        <p:spPr>
          <a:xfrm>
            <a:off x="6362640" y="35751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7563960" y="3340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获得最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457200" y="1676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华文中宋"/>
              </a:rPr>
              <a:t>格罗培斯的迪斯尼乐园路径设计被评为世界最佳设计，这是为什么？它与法国南部农民卖葡萄有什么联系？让我们走进这个故事来了解前因后果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533520" y="838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自由读课文第一自然段，想一想：故事的起因是什么？在文中画出相关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90720" y="28954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华文中宋"/>
              </a:rPr>
              <a:t>世界建筑大师格罗培斯设计的迪斯尼乐园，经过三年的精心施工，马上就要对外开放了。然而各景点之间的路径该怎么设计，还没有具体的方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4724280" y="5257800"/>
            <a:ext cx="3581640" cy="762120"/>
          </a:xfrm>
          <a:prstGeom prst="irregularSeal2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7T12:13:0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1:25Z</dcterms:modified>
  <cp:revision>6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